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8DF-6D07-4345-99D0-8AF8370F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BE9-0045-44EE-9A95-A3868D12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F0A-5A37-4BF0-B738-9E0D6F7F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7CD-117C-428A-B4BD-69ECF9E5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49B-BB78-44C7-932E-AA93ADF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0AC-3C02-4608-8C6E-91EFFE62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F92-CB21-4F8B-8A28-752B758B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010-4C5F-4153-A8F4-BC0D8E83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392-561B-4701-8749-6F89B695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041-9A59-42C6-8543-F808124B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395-780D-4CF9-8148-617ABDD4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11F-F5C5-4587-832D-CB04801D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3DA3-23D3-4E04-839B-A8E67CFDD8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FAC-5A64-4E6F-B6AE-0EDB4337DD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have to be home by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’clock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Keep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 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rules of saf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n you sw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A09-520B-4384-B387-823E21B1E6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&amp;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会记住你的忠告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6360" y="3352680"/>
            <a:ext cx="613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ll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r advic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D43-657D-46C1-9530-5053E2C2D1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赞扬、称赞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352680"/>
            <a:ext cx="7422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9CA-BD58-4443-86B9-56A9B3FF61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rai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poet has written many poe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is mother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BCF-BC0B-468A-A606-EB3BCBD3D1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Paragraph 6, Page 50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do what sb. tells you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遵循，依照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行事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0240" y="3200400"/>
            <a:ext cx="68983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ich the musicia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239-96D1-489D-8EFB-0E3ABA251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alway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y ow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inciple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只听她的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800" y="4648320"/>
            <a:ext cx="5755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only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3FF-1455-4BE1-A2D2-1E081AB40E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些村民仍然遵守他们祖先的习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 ___ ______ __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_ of their grandfath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4290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ill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3040" y="419112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ust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AD7-4601-40C1-A565-1A639A80CC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 …out of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制成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make bricks out of cla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6880" y="3429000"/>
            <a:ext cx="7099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st Indian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mus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strument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ut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arge oil c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5BC-F555-4DED-BAC0-BCD9D27B10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…into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制成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her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ambo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building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of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in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from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rape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903-BF9F-4CBD-9259-F18AB4F34F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0CA-5335-4E46-BEA8-B5E72B65A5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deal with some difficult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ong sente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g Fo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479-BE00-4949-BD8E-BEB6AC45A1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73A-8859-485C-851A-D4B7289943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6F7-EDEE-4F7F-A493-ADC4B9711B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E2E-7A4E-4C88-97B2-C8C9B9D96D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F4B-2306-4722-B0FF-13114C479C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65A-7A4D-419A-84BB-B972CEC35D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C43-DC32-4AB6-A9A6-62F28D0EFF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1E2-6B4A-4658-871B-1153356E2E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AAE-A751-4729-B63F-43ED5ED77B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9F0-DA45-4722-A9A8-FB8849610B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FC3-FCE3-4BB5-A946-516DCD99D6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   n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1, Page 50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e way that people get money for life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生计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3276720"/>
            <a:ext cx="63511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y people earn thei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y writing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7DE-CF6C-43FF-89B9-7B0927D654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8AF-ADD7-4672-BFBE-6BC225B2A0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3, Paragraph 1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y usually write ex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c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w the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to be play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通常还要为如何演奏这些音乐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出准确的说明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ED5-EBAB-4C3C-BC91-A956E367DE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always asks hersel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estio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at is to be done nex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have no idea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you w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er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6B5-C853-4E03-A661-5589DECAB7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ng in praise of heroe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ong ag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222-CE42-4B5D-BCB8-D18A6B0C46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6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7640" y="2666880"/>
            <a:ext cx="649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was at a tim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en th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s no radio, TV or cine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520" y="4648320"/>
            <a:ext cx="689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ich the musician follow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252-9E6B-4277-AACE-ADCF92D868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在加勒比海地区，从非洲运来的奴隶发展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自己的音乐。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7440" y="2666880"/>
            <a:ext cx="717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Caribbean the slave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o w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rought from Afric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evelop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ir own kind of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84F-DF31-43A5-AC79-6A83E32B03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1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some parts of the world nowadays, you often see music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erforming in the streets to passers-b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438-A304-4A12-B826-92B7B85432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ine 2, Paragraph 4, Page 5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put a cap on the groun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nt of them,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o tha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people wh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ke the music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rop coins in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76C-D51D-499D-B7E6-7084947E48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y father bought a bicycle so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u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et to school quick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studies hard so that 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cce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rested so that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i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857-1B0F-4B50-8136-B66D3093DE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 produces musicals too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ilms with music, and million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cords are sold every year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16A-B968-4F4F-A04D-296C7D1151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/ earn one’s liv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谋生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r. Smith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ed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arden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 teac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s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, a writer by wri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4AD-8877-41BB-ADB1-C25F56060C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00ff"/>
                </a:solidFill>
                <a:latin typeface="宋体"/>
              </a:rPr>
              <a:t>插入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即插入到句子中间，或是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在句字末尾，不充当句子成分的词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短语或句子。它主要起修饰或补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说明的作用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150-D3B3-4EBC-B82B-7887996CAA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插入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man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 thou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n lost the g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know the people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y s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re foo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 can take it home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f you li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2C2-31B9-4020-866A-2352D35A59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主语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游泳有利于健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条街上禁止停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8480" y="3200400"/>
            <a:ext cx="62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good for h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464832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rking on this stree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forbid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CAE-8734-4A53-8384-55E292CC56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宾语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别说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喜欢在山里宿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880" y="3276720"/>
            <a:ext cx="41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lease stop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lk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200" y="4648320"/>
            <a:ext cx="55026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enjoy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mp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untai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44C-6B14-4177-9007-88E2E249C0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My hobby i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irpla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CA2-843C-419E-9BE5-0B8B1346810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最喜欢的运动是游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的工作是照顾病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9760" y="335268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favorite sport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7960" y="4724280"/>
            <a:ext cx="58546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job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king care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tient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F94-51EC-4113-9DF3-E50FFCBF30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She opened the letter with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rembl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He told us a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uch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What are you planning to do in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m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acatio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76F-F35E-478D-9646-042AD11F14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gentlem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tanding ove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re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s our princip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Men _____________ do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now the pleasure of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f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住在城里的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962520"/>
            <a:ext cx="30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 in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D62-87BB-4DEE-9EA1-E950A57BFFC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found the bo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ying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gras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I watched hi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inti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u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D7F-6BA9-4B6E-8AD4-97144A0E89A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听到一只鸟在树林中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看见她在过马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760" y="3276720"/>
            <a:ext cx="73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heard a bird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inging in the wood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3960" y="4648320"/>
            <a:ext cx="71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saw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lking across the roa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499-3E23-438E-B02F-415976E341C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2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1800" y="3429000"/>
            <a:ext cx="75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lk music has bee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dow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9560" y="4724280"/>
            <a:ext cx="76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this way stories wer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E50-AF42-4809-8C1C-B76939D646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alking in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B6B-5578-42E1-A50C-18502F53804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alking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0E0-C389-4264-AC56-655BF96735F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Once your business becom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national, ____ constant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part of your life.       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ou fl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. your f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1BC-501E-44AA-A6AA-2604F9BD819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3F5-5143-40CD-9AB8-77313BF7CA1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C05-50C3-4F8D-BBD5-1F91B0F0BC7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905-9861-4984-9C05-D6B74A3DF5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264-08E7-4149-A2B3-390FE429D16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FB9-D0C6-4045-BA67-B818298D2D8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719-037D-4A98-A8F2-2609B02579E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BA8-1691-4B2E-ADA4-2340FA1EEE2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o give or leave to people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re younger or come l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传给、流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注意：三个词组都通常用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被动语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062-1881-4B4D-8240-92A125408E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ADC-A636-499F-8246-69184BF5FC8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5---Page 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actice 6---Page 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1---Page 1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2---Page 1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Unit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287-DE94-460A-BE60-D182D2C17F1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Writing---Page 5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2FA-6212-4E80-A20C-82A7FFCDFB4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ss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lett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nager as soon as I go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is custo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s been ha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ince the 18th centu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883-C903-4DDA-9211-B152DC47C7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on, 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好传统应该世代相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ood tradi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276720"/>
            <a:ext cx="114933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                     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h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e pa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from one generation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AB0-66E4-4293-8124-160903D5DA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… by hear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记住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  &amp;   bear in min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1440" y="3429000"/>
            <a:ext cx="66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used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ear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undred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ng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hear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648-5D99-4D67-BCBD-054A2FA4DD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8:25:24Z</dcterms:created>
  <dc:creator>BJ4HS</dc:creator>
  <dc:description/>
  <dc:language>en-US</dc:language>
  <cp:lastModifiedBy>Zhang Lingdi</cp:lastModifiedBy>
  <dcterms:modified xsi:type="dcterms:W3CDTF">2003-06-03T06:48:16Z</dcterms:modified>
  <cp:revision>105</cp:revision>
  <dc:subject/>
  <dc:title>Unit 21 Music （二）</dc:title>
</cp:coreProperties>
</file>