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2887-5626-466E-852B-462EE334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95F4-E413-4DCA-8638-3105D4F2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041A-FF39-4766-93EB-C65F2E01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12CC-3B0F-4453-BC5F-2D01E695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E1C-45E2-438B-B59A-C92FD8DB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8563-09A6-4B98-B7B0-5492CCB7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2E69-BB4F-474A-B13E-80FEBEC7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9660-CACE-4ADE-A8A7-D276F224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849-ABD4-49FD-9695-72436F98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37CA-0FB0-4453-B34E-574DA0D8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511-3A74-41E0-8120-8CE8DCA4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F00-43E3-4AE4-A8FB-28C73176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4094-E046-42BC-88C5-5A648ECB2E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xcherc.net/" TargetMode="External"/><Relationship Id="rId2" Type="http://schemas.openxmlformats.org/officeDocument/2006/relationships/hyperlink" Target="http://www.xcherc.net/" TargetMode="External"/><Relationship Id="rId3" Type="http://schemas.openxmlformats.org/officeDocument/2006/relationships/hyperlink" Target="http://www.xcherc.net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题目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B     Unit 21 Music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应播出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五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    俞平     北京四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441-CB21-4468-A18B-77CEC29D2E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You have to be home by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’clock.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Keep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at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n min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Bear in min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e rules of safe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en you swi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BBD-01CD-4B0E-A069-96D633BFFF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keep in mind &amp; bear in m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会记住你的忠告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6360" y="3352680"/>
            <a:ext cx="613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’ll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bea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your advic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n min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2321-35FA-47A2-9F5F-CD76708FBB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praise of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赞扬、称赞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3, Page 50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3352680"/>
            <a:ext cx="742284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n festivals they used to act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ing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in praise of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heroes who liv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ong a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C961-6FEF-462F-9954-BED9FB3303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praise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n festivals they used to act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ing to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prais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heroes who liv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ong a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poet has written many poem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in praise of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his mother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A1B6-36B7-4A84-B451-BB17AE958A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llow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v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Paragraph 6, Page 50)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do what sb. tells you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遵循，依照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行事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0240" y="3200400"/>
            <a:ext cx="689832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re is a basic pattern of no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ich the musician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follow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56C9-6D63-4391-8FA0-98303DED46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 always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follow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my ow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inciple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他只听她的命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50800" y="4648320"/>
            <a:ext cx="5755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only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follow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 her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ord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E133-9804-4D37-9443-82D46A5A8D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这些村民仍然遵守他们祖先的习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villagers  ___ ______ __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_ of their grandfath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34290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till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follow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3040" y="4191120"/>
            <a:ext cx="184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custo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B884-4DF1-4053-9ED0-E803BC8F1C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ke …out of…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把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制成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5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 make bricks out of cla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6880" y="3429000"/>
            <a:ext cx="70999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est Indian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mak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music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strument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out of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large oil ca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9100-561A-4050-80FA-254F4BCE90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ke…into…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把…制成…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villagers her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mak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bamboo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n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pap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s building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s made of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to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win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s made from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grapes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0143-9187-4D5B-8D8E-F7E441A129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t is reported that paper can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oth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be made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e made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be made i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5930-A343-436A-95AA-48D676324D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nit 21 Musi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eaching Ai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o learn some useful word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xpress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o deal with some difficult 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ong senten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To learn Grammar—ing For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ED3-71A2-4EC3-AE11-E94CCB25FF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t is reported that paper can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oth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be made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e made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be made i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6EE-7705-4B07-BC86-E4B89FFD83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____ by growing r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follo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makes his li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passes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E5DC-3449-4778-B160-ECA14723D2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____ by growing r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follo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makes his li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passes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117E-633D-463D-965C-DFC0AA677A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We should ____ our teachers’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dvice on stu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fo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ass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C42-591C-40A5-B1A9-1E311493C1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We should ____ our teachers’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dvice on stu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fo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ass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5DF8-E676-4C16-935C-56F8A6CA37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____ that tomorrow is a holi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ake ou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ear in m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Learn b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6834-7661-497B-B6CE-B067F9D15D0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____ that tomorrow is a holi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ake ou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Bear in m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Learn b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2E29-DDEE-4D38-81A2-D3235F6A41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s ring has ____ in my fam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r four generati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been follow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een passe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passe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C48-1CEC-4EAE-B197-EDB7A7B6966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s ring has ____ in my fam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r four generati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been follow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been passe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passe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5F6C-97C4-4B06-AA9F-75B05A8A72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he leader spoke __ the man wh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d given his life for the cau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loudl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in this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in praise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B8B7-9475-4A37-8EC0-186962030A4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ving   n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Paragraph 1, Page 50)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the way that people get money for life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生计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3276720"/>
            <a:ext cx="635112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ny people earn their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liv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y writing mus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615F-4B32-490F-B58C-D21D79011D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he leader spoke __ the man wh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d given his life for the cau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loudl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in this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in praise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C067-DCF7-4D55-80F4-70CEE4C3044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Line 3, Paragraph 1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y usually write ex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structions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how the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s to be play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他们通常还要为如何演奏这些音乐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出准确的说明。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F43C-7B27-4E93-BF7B-078840BFF77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he always asks hersel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question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what is to be done nex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 have no idea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at you w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her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B56F-1701-4F7D-B1E3-AA321EFDB42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Line 2, Paragraph 3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n festivals they used to act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ing in praise of heroes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who liv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long ago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284C-6A34-461B-BB83-73E1E3688BC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3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6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7640" y="2666880"/>
            <a:ext cx="649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is was at a time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hen the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as no radio, TV or cinem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2520" y="4648320"/>
            <a:ext cx="689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re is a basic pattern of no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hich the musician follow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38CF-8F31-46A9-9175-6B79E441891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51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在加勒比海地区，从非洲运来的奴隶发展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他们自己的音乐。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7440" y="2666880"/>
            <a:ext cx="7179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Caribbean the slave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ho we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rought from Africa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develop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ir own kind of mus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2AF8-3635-4A4B-83FF-DFEC39832C2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Line 1, Paragraph 4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some parts of the world nowadays, you often see music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erforming in the streets to passers-b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0D99-B8A8-45E5-A691-A998F2D7712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Line 2, Paragraph 4, Page 5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y put a cap on the ground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nt of them,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so tha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people wh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ke the music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ca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drop coins into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562-A93B-4E72-8324-B4DB82A380C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My father bought a bicycle so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coul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get to school quick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studies hard so that h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m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ucce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I rested so that I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migh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rd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189-EC79-4F52-9765-A52A6C0DE23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Line 2, Paragraph 4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t produces musicals too,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at i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ilms with music, and millions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cords are sold every year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5C1-5CE2-499C-9595-79C258E8968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ke/ earn one’s living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谋生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r. Smith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earned his liv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as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garden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A teacher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earns his liv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eaching, a writer by writ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72BF-8AE4-4540-9DE0-3EED4AB4D8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00ff"/>
                </a:solidFill>
                <a:latin typeface="宋体"/>
              </a:rPr>
              <a:t>插入语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即插入到句子中间，或是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在句字末尾，不充当句子成分的词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短语或句子。它主要起修饰或补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说明的作用。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0F1-ECDA-4B95-99AE-CCCDEB4518E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插入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he man who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 though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wou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n lost the ga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 know the people who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ey sa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re foo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You can take it home,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f you lik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3F2-ECC8-4D70-AE2F-909A36B4E0D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. 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作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主语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游泳有利于健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这条街上禁止停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8480" y="3200400"/>
            <a:ext cx="623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Swimm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is good for heal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4648320"/>
            <a:ext cx="718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Parking on this stree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is forbidd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B6CC-F4F6-4904-92F5-15E3375485F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作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宾语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1)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别说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他喜欢在山里宿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880" y="3276720"/>
            <a:ext cx="41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lease stop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talk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3200" y="4648320"/>
            <a:ext cx="55026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enjoy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camp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i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ountai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4BAE-86C7-4750-A9FE-94CF029CB6D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在句子中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表语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 My hobby is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mak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irpla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8124-62B2-4F3D-B447-30ACB2119EF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在句子中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表语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她最喜欢的运动是游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她的工作是照顾病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9760" y="3352680"/>
            <a:ext cx="66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r favorite sport i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swimm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7960" y="4724280"/>
            <a:ext cx="585468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r job i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taking care of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patient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D94-2C88-43A1-A939-AEF3AF6444D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4. 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在句子中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定语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 She opened the letter with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rembl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a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He told us a very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ouch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t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) What are you planning to do in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com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vacation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E9C1-2F99-4C86-8D6F-6597B18DB20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在句子中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定语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gentleman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standing over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ere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s our princip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Men _____________ do n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know the pleasure of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fe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住在城里的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71800" y="3962520"/>
            <a:ext cx="303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living in t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7BDA-9AE7-4CF3-B083-F6B4FF1B42F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5. 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宾语补足语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1)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 found the boy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lying o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gras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I watched him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ainting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hous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FFFF-1C4E-4EF7-9D70-990C34A7575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5. 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宾语补足语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听到一只鸟在树林中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看见她在过马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760" y="3276720"/>
            <a:ext cx="736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heard a bird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singing in the wood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3960" y="4648320"/>
            <a:ext cx="710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saw her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alking across the road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71D7-3A60-4A50-9181-2493AE7E721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ss down/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2, Page 50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3, Page 50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1800" y="3429000"/>
            <a:ext cx="759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olk music has been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passed dow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9560" y="4724280"/>
            <a:ext cx="76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this way stories were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passed o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888-874B-4C45-BAED-0587C18953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She looks forward every spr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 the flower-lined garden. (Shanghai 9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aying a visit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alk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alking in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F0D-85FC-45BE-AF2C-C217956F9AB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She looks forward every spr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 the flower-lined garden. (Shanghai 9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aying a visit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alk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walking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73BA-04ED-4486-8690-ACCDCB950CF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Once your business become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ternational, ____ constantl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ll be part of your life.        (Shanghai 9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you fl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B. your f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fl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7555-1886-42F1-A0E8-A046BE8570F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What worried the child most w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 to visit his mother i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ospital. (Shanghai 9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his not allow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his not being allow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is being not allow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AE30-79C5-4A23-8F0B-17F1BFE39BD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What worried the child most w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 to visit his mother i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ospital. (Shanghai 9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his not allow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his not being allow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is being not allow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4F17-7E65-4624-B79F-7A63D7DB1E1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When I got back home I saw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ssage pinned to the door 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“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orry to miss you;  call you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ater”. (NMET 99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read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eads  C.  re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D82-9EE7-4205-8F06-C70C8AB2581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When I got back home I saw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ssage pinned to the door 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“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orry to miss you;  call you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ater”. (NMET 99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read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eads  C.  re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32B9-8CAF-4D8F-95F6-42633C8B916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The ____ boy was last seen 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ear the East Lak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Shanghai 200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issing, play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missing, pl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missed, played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B01C-1929-4C98-A7F4-16263486451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The ____ boy was last seen 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ear the East Lak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Shanghai 200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missing, play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missing, pl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missed, played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8FBE-81D3-4C0D-AE2B-42C262556CB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ony was very unhappy for 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o the party. (Shanghai 200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having not been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not having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not having been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55EC-1A2E-49CE-A3E0-E91C66D1C69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ss down/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to give or leave to people wh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are younger or come l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传给、流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n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注意：三个词组都通常用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被动语态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B58-A5B7-464A-AB1D-0953816FF7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ony was very unhappy for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o the party. (Shanghai 200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having not been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not having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not having been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7BD2-28DD-4AD4-9CE2-E447648D7E4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必做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actice 5---Page 5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actice 6---Page 5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xercise 1---Page 1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. Exercise 2---Page 1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预习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Unit 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823C-46D5-4E5E-9313-FDDCD6BEF6B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提高性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Writing---Page 5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完成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篇阅读理解（材料自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选做作业——本单元的其它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xcherc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http://211.153.43.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D538-89EF-45E4-A3C8-438DC41AB5D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ass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e letter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o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o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nager as soon as I got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his custom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has been han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dow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ince the 18th centu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EB90-5F86-40EC-9A25-6DF5E88ED9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ss down/on, han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好传统应该世代相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Good traditions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3276720"/>
            <a:ext cx="1149336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                            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should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e pas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dow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from one generation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C64C-C6A2-4634-814B-B09D4E9DB4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earn… by hear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记住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3, Page 50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keep in mind   &amp;   bear in min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1440" y="3429000"/>
            <a:ext cx="661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y used to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lear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hundreds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ong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y hear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5819-CC0F-431E-BCC8-960F6EF4F4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4T08:25:24Z</dcterms:created>
  <dc:creator>BJ4HS</dc:creator>
  <dc:description/>
  <dc:language>en-US</dc:language>
  <cp:lastModifiedBy>Zhang Lingdi</cp:lastModifiedBy>
  <dcterms:modified xsi:type="dcterms:W3CDTF">2003-06-03T06:48:16Z</dcterms:modified>
  <cp:revision>105</cp:revision>
  <dc:subject/>
  <dc:title>Unit 21 Music （二）</dc:title>
</cp:coreProperties>
</file>