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9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DD8-7663-406E-9F89-DD5C3F02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4BD-779F-44BF-931F-D932D812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A50-3A24-485D-9A4A-1F1C0E41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6EF-FB01-43C2-B4E8-96CE45D2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0ADC-3AA6-477F-AC37-E7DC625B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EEE0-ADCE-42CB-8E6B-4A1A806C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547D-A037-4DDC-AE25-67CB55E1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FD5D-BCE0-427C-A498-3F8E1F73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1A66-CB16-407E-A881-E82003A6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759B-F9AB-4FFC-9FFF-9A778A1F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287D-A383-4F9F-8466-1320534C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B4D-C7EB-4CD2-8FA2-309C99E5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BAD0-A578-42F6-9107-CEFB5267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4B83-0F52-4322-8981-07C76E34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E7FD-5CA9-4843-ABFC-9030C3AF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1900-8932-4DC3-8F9E-19CB5753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CE0A-479E-4091-B262-95B47601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AB05-8410-4FBA-AA8E-F3D94A26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37C4-A651-4CE0-82AA-6A7AC425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146-7974-4296-98C7-284E20FE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0FC-B00A-4DF3-93E5-D3ED4CB0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49E-BB8D-4336-AD4B-D050473E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7AF-E00C-4784-825C-8760D9C8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637-97CF-4489-B09B-C78F696A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E3D2-4D10-44EE-928C-6773213F682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AA7B-0E1E-448E-8E61-90A82C0AF6B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telephoneart.com/clipart/clip3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telephoneart.com/clipart/clip3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telephoneart.com/fonpic/lotsofbuts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telephoneart.com/fonpic/key-phone.jpg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hyperlink" Target="http://www.telephoneart.com/cell/yelcell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phone196.gif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slide" Target="slide47.xml"/><Relationship Id="rId6" Type="http://schemas.openxmlformats.org/officeDocument/2006/relationships/image" Target="../media/image26.jpeg"/><Relationship Id="rId7" Type="http://schemas.openxmlformats.org/officeDocument/2006/relationships/image" Target="../media/image20.jpeg"/><Relationship Id="rId8" Type="http://schemas.openxmlformats.org/officeDocument/2006/relationships/image" Target="../media/image27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blueline.gif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Yes, she is. Would you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____1______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Yes, ple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______2______. I’ll go 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get h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352680"/>
            <a:ext cx="609840" cy="581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8" name="TN_phone99348" descr="phone99348.gif"/>
          <p:cNvPicPr/>
          <p:nvPr/>
        </p:nvPicPr>
        <p:blipFill>
          <a:blip r:embed="rId3"/>
          <a:stretch/>
        </p:blipFill>
        <p:spPr>
          <a:xfrm>
            <a:off x="1066680" y="1905120"/>
            <a:ext cx="685800" cy="598320"/>
          </a:xfrm>
          <a:prstGeom prst="rect">
            <a:avLst/>
          </a:prstGeom>
          <a:ln w="0">
            <a:noFill/>
          </a:ln>
        </p:spPr>
      </p:pic>
      <p:pic>
        <p:nvPicPr>
          <p:cNvPr id="239" name="TN_phone99348" descr="phone99348.gif"/>
          <p:cNvPicPr/>
          <p:nvPr/>
        </p:nvPicPr>
        <p:blipFill>
          <a:blip r:embed="rId4"/>
          <a:stretch/>
        </p:blipFill>
        <p:spPr>
          <a:xfrm>
            <a:off x="1066680" y="4267080"/>
            <a:ext cx="68580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Pippa. I called to ask you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if you’d like to come to a lecture on Thursday evening at the college. It’s about the universe. The speaker’s__3__ to be excell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676520"/>
            <a:ext cx="762120" cy="7318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: Just a minute. I’ll see i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I’m free. No, I’m not. I’v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already   got someth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___4___ that even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woman+phone,pci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62120" cy="7063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a pity! Never mind.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must get together so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ther time for a ___5___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Yes, good ide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woman+phone,pci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61760" cy="706680"/>
          </a:xfrm>
          <a:prstGeom prst="rect">
            <a:avLst/>
          </a:prstGeom>
          <a:ln w="0">
            <a:noFill/>
          </a:ln>
        </p:spPr>
      </p:pic>
      <p:pic>
        <p:nvPicPr>
          <p:cNvPr id="248" name="TN_clip3" descr="clip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2057400"/>
            <a:ext cx="685800" cy="658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’ll have to go now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Someone wants to u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the phone. All the be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Bye.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woman+phone,pci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761760" cy="706320"/>
          </a:xfrm>
          <a:prstGeom prst="rect">
            <a:avLst/>
          </a:prstGeom>
          <a:ln w="0">
            <a:noFill/>
          </a:ln>
        </p:spPr>
      </p:pic>
      <p:pic>
        <p:nvPicPr>
          <p:cNvPr id="252" name="TN_clip3" descr="clip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905120"/>
            <a:ext cx="685800" cy="658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eck the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Would you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like a word with her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Hold 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The speake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’s</a:t>
            </a: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d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to be excellen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eck the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4. I’ve already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got something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that evening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5. We must get together some other time for a 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Would you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like a word with her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?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3429000"/>
            <a:ext cx="6553080" cy="1905120"/>
          </a:xfrm>
          <a:prstGeom prst="wedgeRectCallout">
            <a:avLst>
              <a:gd name="adj1" fmla="val 21513"/>
              <a:gd name="adj2" fmla="val -9408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to speak to her?/ Would you like to have a word / a few words with her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 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Is Tom in? I’d like to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have  a word / a few words with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  him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Cf.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  I heard that they </a:t>
            </a:r>
            <a:r>
              <a:rPr b="1" i="1" lang="en-US" sz="4000" spc="-1" strike="noStrike">
                <a:solidFill>
                  <a:srgbClr val="00ff00"/>
                </a:solidFill>
                <a:latin typeface="Times New Roman"/>
              </a:rPr>
              <a:t>had words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2. 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Hold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3429000"/>
            <a:ext cx="4343400" cy="914400"/>
          </a:xfrm>
          <a:prstGeom prst="wedgeRectCallout">
            <a:avLst>
              <a:gd name="adj1" fmla="val -28361"/>
              <a:gd name="adj2" fmla="val -14948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wait on the ph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Telephones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514600" y="2209680"/>
            <a:ext cx="4177800" cy="1676520"/>
            <a:chOff x="2514600" y="2209680"/>
            <a:chExt cx="4177800" cy="1676520"/>
          </a:xfrm>
        </p:grpSpPr>
        <p:pic>
          <p:nvPicPr>
            <p:cNvPr id="160" name="old%20tele" descr=""/>
            <p:cNvPicPr/>
            <p:nvPr/>
          </p:nvPicPr>
          <p:blipFill>
            <a:blip r:embed="rId1"/>
            <a:stretch/>
          </p:blipFill>
          <p:spPr>
            <a:xfrm>
              <a:off x="2514600" y="2209680"/>
              <a:ext cx="12412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hone4,%20pic" descr=""/>
            <p:cNvPicPr/>
            <p:nvPr/>
          </p:nvPicPr>
          <p:blipFill>
            <a:blip r:embed="rId2"/>
            <a:stretch/>
          </p:blipFill>
          <p:spPr>
            <a:xfrm>
              <a:off x="3733560" y="2209680"/>
              <a:ext cx="13712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tele3,pic" descr=""/>
            <p:cNvPicPr/>
            <p:nvPr/>
          </p:nvPicPr>
          <p:blipFill>
            <a:blip r:embed="rId3"/>
            <a:stretch/>
          </p:blipFill>
          <p:spPr>
            <a:xfrm>
              <a:off x="5105160" y="2209680"/>
              <a:ext cx="158724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4114800"/>
            <a:ext cx="5715000" cy="1219320"/>
            <a:chOff x="1752480" y="4114800"/>
            <a:chExt cx="5715000" cy="1219320"/>
          </a:xfrm>
        </p:grpSpPr>
        <p:pic>
          <p:nvPicPr>
            <p:cNvPr id="168" name="TN_lotsofbuts" descr="lotsofbuts.jpg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752480" y="4114800"/>
              <a:ext cx="12956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N_key-phone" descr="key-phone.jpg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3276720" y="4114800"/>
              <a:ext cx="12952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cordless-telephone-ge-intact2" descr=""/>
            <p:cNvPicPr/>
            <p:nvPr/>
          </p:nvPicPr>
          <p:blipFill>
            <a:blip r:embed="rId8"/>
            <a:stretch/>
          </p:blipFill>
          <p:spPr>
            <a:xfrm>
              <a:off x="4724280" y="41148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TN_yelcell" descr="yelcell.jpg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248520" y="411480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Hold on 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a minute. I’ll just  get a pe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hold 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wait on the ph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continue in spite of difficul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ry and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hold o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until help arr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The speaker’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 supposed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to be excellent. 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809880"/>
            <a:ext cx="5029200" cy="914400"/>
          </a:xfrm>
          <a:prstGeom prst="wedgeRectCallout">
            <a:avLst>
              <a:gd name="adj1" fmla="val 9027"/>
              <a:gd name="adj2" fmla="val -20121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be believed/  thou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e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is supposed to be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the best student in our clas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believe or th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 to consider to be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s she’s not here, I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suppose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ust have gone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believe or th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 to consider to be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*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be supposed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--- shou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re not supposed t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smoke here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4. I’ve already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got something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that evening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Line 1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3733920"/>
            <a:ext cx="5867280" cy="1523880"/>
          </a:xfrm>
          <a:prstGeom prst="wedgeRectCallout">
            <a:avLst>
              <a:gd name="adj1" fmla="val 51134"/>
              <a:gd name="adj2" fmla="val -12854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of something) happening or going to happ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e.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There’s a new film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on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 at the cinem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I’ve nothing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on 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tonight, so let’s go ou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5. We must get together some other time for a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3809880"/>
            <a:ext cx="7086600" cy="838440"/>
          </a:xfrm>
          <a:prstGeom prst="wedgeRectCallout">
            <a:avLst>
              <a:gd name="adj1" fmla="val 15143"/>
              <a:gd name="adj2" fmla="val -14583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 an informal convers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 had a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chat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ith Mary about the movie last nigh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esson 89   Dialogue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 know how to use some words &amp; 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improve our telephoning skill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5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---to talk in a friend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r informal mann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fter supper, the neighbors ofte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tt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errily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to say when telephon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2" name="TN_phone196" descr="phone19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590920"/>
            <a:ext cx="2209680" cy="2081160"/>
          </a:xfrm>
          <a:prstGeom prst="rect">
            <a:avLst/>
          </a:prstGeom>
          <a:ln w="0">
            <a:noFill/>
          </a:ln>
        </p:spPr>
      </p:pic>
      <p:pic>
        <p:nvPicPr>
          <p:cNvPr id="293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2590920"/>
            <a:ext cx="21333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1143000" y="1143000"/>
          <a:ext cx="6934320" cy="457200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oducing yoursel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to speak to somebod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8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who the caller 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Telling the caller that someone is not availab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Taking a mess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the caller to wait on the lin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4191120" y="2133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7620120" y="2133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4191120" y="3962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>
            <a:hlinkClick r:id="rId3" action="ppaction://hlinksldjump"/>
          </p:cNvPr>
          <p:cNvSpPr/>
          <p:nvPr/>
        </p:nvSpPr>
        <p:spPr>
          <a:xfrm>
            <a:off x="7620120" y="3962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>
            <a:hlinkClick r:id="rId4" action="ppaction://hlinksldjump"/>
          </p:cNvPr>
          <p:cNvSpPr/>
          <p:nvPr/>
        </p:nvSpPr>
        <p:spPr>
          <a:xfrm>
            <a:off x="4191120" y="53341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5" action="ppaction://hlinksldjump"/>
          </p:cNvPr>
          <p:cNvSpPr/>
          <p:nvPr/>
        </p:nvSpPr>
        <p:spPr>
          <a:xfrm>
            <a:off x="7696080" y="53341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BD00028_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15200" y="3049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troducing yourself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This is Mr Smith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r Smith speak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y name is John Smit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greenphone,%20clip" descr=""/>
          <p:cNvPicPr/>
          <p:nvPr/>
        </p:nvPicPr>
        <p:blipFill>
          <a:blip r:embed="rId1"/>
          <a:stretch/>
        </p:blipFill>
        <p:spPr>
          <a:xfrm>
            <a:off x="6629400" y="4498920"/>
            <a:ext cx="11430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MS Sans Serif"/>
              </a:rPr>
              <a:t>Asking to speak to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MS Sans Serif"/>
              </a:rPr>
              <a:t>somebody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s Mr Smith t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speak to Mr Smit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 would like to speak to Mr Smith, please.</a:t>
            </a:r>
            <a:r>
              <a:rPr b="0" lang="zh-CN" sz="3200" spc="-1" strike="noStrike">
                <a:solidFill>
                  <a:srgbClr val="0000ff"/>
                </a:solidFill>
                <a:latin typeface="MS Sans Serif"/>
                <a:ea typeface="MS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tele2,%20cli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724280"/>
            <a:ext cx="9907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Asking who the caller is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ho shall I say is calling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have your name plea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know who's speaking/ calling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TN_vibe" descr="vibe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4724280"/>
            <a:ext cx="914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Telling the caller that someone is not available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'm sorry. Mr Smith is ..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busy on another li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 at a meet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 not in his off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TN_turqois2" descr="turqois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572000"/>
            <a:ext cx="773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Taking a message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s there any message for Mr Smith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an(Could, May) I take a message?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ould you like to leave a message for Mr Smith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j019867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00800" y="4343400"/>
            <a:ext cx="14479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</a:rPr>
              <a:t>Asking the caller to wait on the line 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an you hold on a mo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ould you please hold the lin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ould you like to hold 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TN_tel02" descr="tel02.gif"/>
          <p:cNvPicPr/>
          <p:nvPr/>
        </p:nvPicPr>
        <p:blipFill>
          <a:blip r:embed="rId1"/>
          <a:stretch/>
        </p:blipFill>
        <p:spPr>
          <a:xfrm>
            <a:off x="6934320" y="4495680"/>
            <a:ext cx="112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2" name="TN_phone196" descr="phone196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00200" y="2281320"/>
            <a:ext cx="1295280" cy="1220760"/>
          </a:xfrm>
          <a:prstGeom prst="rect">
            <a:avLst/>
          </a:prstGeom>
          <a:ln w="0">
            <a:noFill/>
          </a:ln>
        </p:spPr>
      </p:pic>
      <p:pic>
        <p:nvPicPr>
          <p:cNvPr id="323" name="TN_clip3" descr="clip3.jpg"/>
          <p:cNvPicPr/>
          <p:nvPr/>
        </p:nvPicPr>
        <p:blipFill>
          <a:blip r:embed="rId3"/>
          <a:stretch/>
        </p:blipFill>
        <p:spPr>
          <a:xfrm>
            <a:off x="3276720" y="3886200"/>
            <a:ext cx="129528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TN_phone99348" descr="phone99348.gif"/>
          <p:cNvPicPr/>
          <p:nvPr/>
        </p:nvPicPr>
        <p:blipFill>
          <a:blip r:embed="rId4"/>
          <a:stretch/>
        </p:blipFill>
        <p:spPr>
          <a:xfrm>
            <a:off x="6629400" y="3962520"/>
            <a:ext cx="1295280" cy="1133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-46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46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>
            <a:hlinkClick r:id="rId5" action="ppaction://hlinksldjump"/>
          </p:cNvPr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TN_phonesman465" descr="phonesman465.gif"/>
          <p:cNvPicPr/>
          <p:nvPr/>
        </p:nvPicPr>
        <p:blipFill>
          <a:blip r:embed="rId6"/>
          <a:stretch/>
        </p:blipFill>
        <p:spPr>
          <a:xfrm>
            <a:off x="5105520" y="2286000"/>
            <a:ext cx="1141200" cy="1173240"/>
          </a:xfrm>
          <a:prstGeom prst="rect">
            <a:avLst/>
          </a:prstGeom>
          <a:ln w="0">
            <a:noFill/>
          </a:ln>
        </p:spPr>
      </p:pic>
      <p:pic>
        <p:nvPicPr>
          <p:cNvPr id="335" name="greenphone,%20clip" descr=""/>
          <p:cNvPicPr/>
          <p:nvPr/>
        </p:nvPicPr>
        <p:blipFill>
          <a:blip r:embed="rId7"/>
          <a:stretch/>
        </p:blipFill>
        <p:spPr>
          <a:xfrm>
            <a:off x="3276720" y="231768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336" name="tele1,%20clip" descr=""/>
          <p:cNvPicPr/>
          <p:nvPr/>
        </p:nvPicPr>
        <p:blipFill>
          <a:blip r:embed="rId8"/>
          <a:stretch/>
        </p:blipFill>
        <p:spPr>
          <a:xfrm>
            <a:off x="5029200" y="3962520"/>
            <a:ext cx="1295280" cy="1133280"/>
          </a:xfrm>
          <a:prstGeom prst="rect">
            <a:avLst/>
          </a:prstGeom>
          <a:ln w="0">
            <a:noFill/>
          </a:ln>
        </p:spPr>
      </p:pic>
      <p:pic>
        <p:nvPicPr>
          <p:cNvPr id="337" name="tele2,%20clip" descr=""/>
          <p:cNvPicPr/>
          <p:nvPr/>
        </p:nvPicPr>
        <p:blipFill>
          <a:blip r:embed="rId9"/>
          <a:stretch/>
        </p:blipFill>
        <p:spPr>
          <a:xfrm>
            <a:off x="6705720" y="228600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338" name="TN_vibe" descr="vibe.gif"/>
          <p:cNvPicPr/>
          <p:nvPr/>
        </p:nvPicPr>
        <p:blipFill>
          <a:blip r:embed="rId10"/>
          <a:stretch/>
        </p:blipFill>
        <p:spPr>
          <a:xfrm>
            <a:off x="1676520" y="396252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467480" y="55627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081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26" h="21600">
                <a:moveTo>
                  <a:pt x="1081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26" h="21600">
                <a:moveTo>
                  <a:pt x="8236" y="8224"/>
                </a:moveTo>
                <a:lnTo>
                  <a:pt x="12101" y="8224"/>
                </a:lnTo>
                <a:lnTo>
                  <a:pt x="12101" y="15221"/>
                </a:lnTo>
                <a:lnTo>
                  <a:pt x="13389" y="15221"/>
                </a:lnTo>
                <a:lnTo>
                  <a:pt x="13389" y="16144"/>
                </a:lnTo>
                <a:lnTo>
                  <a:pt x="8236" y="16144"/>
                </a:lnTo>
                <a:lnTo>
                  <a:pt x="8236" y="15221"/>
                </a:lnTo>
                <a:lnTo>
                  <a:pt x="9525" y="15221"/>
                </a:lnTo>
                <a:lnTo>
                  <a:pt x="9525" y="9129"/>
                </a:lnTo>
                <a:lnTo>
                  <a:pt x="8236" y="912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90760" y="4572000"/>
            <a:ext cx="3733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dial  </a:t>
            </a:r>
            <a:r>
              <a:rPr b="1" i="1" lang="zh-CN" sz="4400" spc="-1" strike="noStrike">
                <a:solidFill>
                  <a:srgbClr val="ffff00"/>
                </a:solidFill>
                <a:latin typeface="Times New Roman"/>
              </a:rPr>
              <a:t>vt. &amp; vi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dialling%203" descr=""/>
          <p:cNvPicPr/>
          <p:nvPr/>
        </p:nvPicPr>
        <p:blipFill>
          <a:blip r:embed="rId1"/>
          <a:stretch/>
        </p:blipFill>
        <p:spPr>
          <a:xfrm>
            <a:off x="4800600" y="1951200"/>
            <a:ext cx="2362320" cy="2179440"/>
          </a:xfrm>
          <a:prstGeom prst="rect">
            <a:avLst/>
          </a:prstGeom>
          <a:ln w="0">
            <a:noFill/>
          </a:ln>
        </p:spPr>
      </p:pic>
      <p:pic>
        <p:nvPicPr>
          <p:cNvPr id="181" name="Woman_dials" descr=""/>
          <p:cNvPicPr/>
          <p:nvPr/>
        </p:nvPicPr>
        <p:blipFill>
          <a:blip r:embed="rId2"/>
          <a:stretch/>
        </p:blipFill>
        <p:spPr>
          <a:xfrm>
            <a:off x="1365120" y="1946160"/>
            <a:ext cx="341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Can I speak to Ms Smith, please?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2590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Mary speaking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Can I take a mess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Hold the line, pl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I could get him to call you back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a few min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No, I prefer to hang o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's very important. 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Yes, I'll put you through. 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1752480" y="3124080"/>
            <a:ext cx="38124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I'm afraid he's out of the off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and won't be back for an hour or 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Well, could you get him to call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ack as soon as he gets 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Yes, I'll put you throug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1219320" y="30481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Could I speak to Ms Johnson, plea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Yes, I'll put you throug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No, I prefer to hang on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'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14479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There's a lot of noise on the li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Could you speak up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a)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es, I'll put you through. 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I'm afraid you seem to ha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wrong nu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1523880" y="4724280"/>
            <a:ext cx="38124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ic points to know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n telepho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swer on the first or second r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dentify yourself clear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se your friendly voice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sk how you can hel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TN_blueline" descr="bluelin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029200"/>
            <a:ext cx="9907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ic points to know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n telepho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ake messages careful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pell and/or pronounce the   caller's name correct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Repeat the messa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lways be polite ---Smi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B_OPL198" descr=""/>
          <p:cNvPicPr/>
          <p:nvPr/>
        </p:nvPicPr>
        <p:blipFill>
          <a:blip r:embed="rId1"/>
          <a:stretch/>
        </p:blipFill>
        <p:spPr>
          <a:xfrm>
            <a:off x="6553080" y="3755880"/>
            <a:ext cx="17528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52680" y="4800600"/>
            <a:ext cx="243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at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v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chat2" descr=""/>
          <p:cNvPicPr/>
          <p:nvPr/>
        </p:nvPicPr>
        <p:blipFill>
          <a:blip r:embed="rId1"/>
          <a:stretch/>
        </p:blipFill>
        <p:spPr>
          <a:xfrm>
            <a:off x="1247760" y="2057400"/>
            <a:ext cx="25336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4419720" y="2133720"/>
            <a:ext cx="3504960" cy="2394000"/>
            <a:chOff x="4419720" y="2133720"/>
            <a:chExt cx="3504960" cy="2394000"/>
          </a:xfrm>
        </p:grpSpPr>
        <p:pic>
          <p:nvPicPr>
            <p:cNvPr id="186" name="chat%201" descr=""/>
            <p:cNvPicPr/>
            <p:nvPr/>
          </p:nvPicPr>
          <p:blipFill>
            <a:blip r:embed="rId2"/>
            <a:stretch/>
          </p:blipFill>
          <p:spPr>
            <a:xfrm>
              <a:off x="4419720" y="2133720"/>
              <a:ext cx="3504960" cy="23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562720" y="3048120"/>
              <a:ext cx="990360" cy="53316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ell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have we learnt today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ave a word wi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old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h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have we learnt today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29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ave something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pressions to use when telepho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me telephon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x.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Arial"/>
              </a:rPr>
              <a:t>,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123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Practise telephoning with your classmates in English tonight.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81480" y="4495680"/>
            <a:ext cx="2819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et togeth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get%20together%203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3429000" cy="2684520"/>
          </a:xfrm>
          <a:prstGeom prst="rect">
            <a:avLst/>
          </a:prstGeom>
          <a:ln w="0">
            <a:noFill/>
          </a:ln>
        </p:spPr>
      </p:pic>
      <p:pic>
        <p:nvPicPr>
          <p:cNvPr id="191" name="get%20together5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2819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10080" y="3352680"/>
            <a:ext cx="243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cell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600200" y="1946160"/>
            <a:ext cx="3048120" cy="4149720"/>
            <a:chOff x="1600200" y="1946160"/>
            <a:chExt cx="3048120" cy="4149720"/>
          </a:xfrm>
        </p:grpSpPr>
        <p:pic>
          <p:nvPicPr>
            <p:cNvPr id="195" name="excellent" descr=""/>
            <p:cNvPicPr/>
            <p:nvPr/>
          </p:nvPicPr>
          <p:blipFill>
            <a:blip r:embed="rId1"/>
            <a:stretch/>
          </p:blipFill>
          <p:spPr>
            <a:xfrm>
              <a:off x="1623960" y="1946160"/>
              <a:ext cx="29005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600200" y="5638680"/>
              <a:ext cx="3048120" cy="4572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cc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Hello. Can I speak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Pippa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There’s no Pippa 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This is 868607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I’m sorry. I think I dialed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wrong numb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14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14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04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114800"/>
            <a:ext cx="609840" cy="585720"/>
          </a:xfrm>
          <a:prstGeom prst="rect">
            <a:avLst/>
          </a:prstGeom>
          <a:ln w="0">
            <a:noFill/>
          </a:ln>
        </p:spPr>
      </p:pic>
      <p:pic>
        <p:nvPicPr>
          <p:cNvPr id="205" name="TN_phone196" descr="phone196.gif"/>
          <p:cNvPicPr/>
          <p:nvPr/>
        </p:nvPicPr>
        <p:blipFill>
          <a:blip r:embed="rId5"/>
          <a:stretch/>
        </p:blipFill>
        <p:spPr>
          <a:xfrm>
            <a:off x="990720" y="2895480"/>
            <a:ext cx="6858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903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Hell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Hello. Is that Bob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Hi, this is Steve. Is Pipp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he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6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1260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260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79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66688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28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411480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29" name="TN_phone99348" descr="phone99348.gif"/>
          <p:cNvPicPr/>
          <p:nvPr/>
        </p:nvPicPr>
        <p:blipFill>
          <a:blip r:embed="rId5"/>
          <a:stretch/>
        </p:blipFill>
        <p:spPr>
          <a:xfrm>
            <a:off x="1143000" y="1981080"/>
            <a:ext cx="685800" cy="598680"/>
          </a:xfrm>
          <a:prstGeom prst="rect">
            <a:avLst/>
          </a:prstGeom>
          <a:ln w="0">
            <a:noFill/>
          </a:ln>
        </p:spPr>
      </p:pic>
      <p:pic>
        <p:nvPicPr>
          <p:cNvPr id="230" name="TN_phone99348" descr="phone99348.gif"/>
          <p:cNvPicPr/>
          <p:nvPr/>
        </p:nvPicPr>
        <p:blipFill>
          <a:blip r:embed="rId6"/>
          <a:stretch/>
        </p:blipFill>
        <p:spPr>
          <a:xfrm>
            <a:off x="1143000" y="3352680"/>
            <a:ext cx="685800" cy="5986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4572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28:44Z</dcterms:modified>
  <cp:revision>98</cp:revision>
  <dc:subject/>
  <dc:title>Unit 19 A freedom fighter (continued)</dc:title>
</cp:coreProperties>
</file>