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AC6-7804-4D52-BC13-A3A94207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B84-3F2B-4021-9218-F95FDEB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EE6-B42B-4203-94AB-B5660D26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488-280A-4AEF-9422-FD96FBD3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BD13-CD5A-4D01-B27F-37C143C7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0A0-F7C7-47C5-BB21-39927DA0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357E-99A4-49EE-AD7E-FCA3EAAC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2178-4919-41CC-B281-4AD372A8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96EE-8C5D-4CD9-8386-8E791C38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2E54-D0CA-4ADE-88B3-44F9C04F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D4DC-D96D-4057-952B-A3D7AA3D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630-EB64-48B9-9DF3-A81846EC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B4B9-0912-4F17-9F65-E4841E3B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39E9-914B-4787-9BD3-A8162164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4D8A-548D-4CE1-9960-5EC6F59B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D66-CD14-4947-8FE8-20CF7A71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B9E5-1C18-4825-BA5C-84E8435C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043-7016-4A5B-8E05-BE3C622C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193-47A9-4D85-A1A3-1E7FCF56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D09-86F8-40A9-816E-1631EC7E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3E1-9864-4C29-811F-02D94416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023-E5BF-4A07-8C84-93947A53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673-B396-4093-85DA-377A949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CAF-B8DD-4699-AFD6-C97CA426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1E2-3D3A-43EE-95B7-BA12FEDB0A7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DECF-75B3-4DF3-95B5-C23C1F900C1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16000" y="274284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李  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Unit 23 (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下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)</a:t>
            </a:r>
            <a:br>
              <a:rPr sz="4400"/>
            </a:b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Lesson 91 Mobile ph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Lisa</cp:lastModifiedBy>
  <dcterms:modified xsi:type="dcterms:W3CDTF">2003-06-12T17:11:52Z</dcterms:modified>
  <cp:revision>109</cp:revision>
  <dc:subject/>
  <dc:title>Unit 19 A freedom fighter (continued)</dc:title>
</cp:coreProperties>
</file>