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F36-F804-4602-AFF8-1DEE66D9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268-9BE9-4C8D-B8B2-9171E6C5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080-3EC6-4167-9A4B-84A2F129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8E8-D9DC-4C0B-A8E8-150C485C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4D8E-E886-47F6-911C-02577086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ECBA-389B-4FFD-ABBE-7FECE489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5059-B97E-49E6-8005-614AFAEE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CCEA-91D5-45DE-AFB5-CB834F75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68C9-F209-4C73-BA4B-69ECEEE7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0ECB-6DB1-4F0A-8579-F67BA7C0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A945-0DCF-45E6-A500-826E01E5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861-C957-4595-B604-C78A0B08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7E70-0E21-410D-A595-D50B6866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AC9B-636A-4232-A1BA-47C83B59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FEC2-1223-456E-BD30-0F13A2D0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9142-9A78-4BE7-9326-5129A5FD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54E1-AC0C-46BD-94C6-7359D1A3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F34-75A3-4688-B2E4-32A58243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2DA-C256-4215-BC36-49072D4F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C60-8EA1-4D44-8BCB-1BCD780F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57A-876F-4035-B8C3-7C55B727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1A5-EAAC-43C7-ABBC-4C222C5C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9CAD-A2A5-429C-A4BC-470CE317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D3C-D71C-4C83-BDB3-3B71209F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33D5-0A86-48E7-AC64-1EDCA7DE572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7925-DA8D-4B71-AB03-C01227A663C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5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5Z</dcterms:modified>
  <cp:revision>102</cp:revision>
  <dc:subject/>
  <dc:title>Unit 19 A freedom fighter (continued)</dc:title>
</cp:coreProperties>
</file>