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2.gif" ContentType="image/gif"/>
  <Override PartName="/ppt/media/image14.png" ContentType="image/png"/>
  <Override PartName="/ppt/media/image3.png" ContentType="image/png"/>
  <Override PartName="/ppt/media/image17.jpeg" ContentType="image/jpeg"/>
  <Override PartName="/ppt/media/image21.gif" ContentType="image/gif"/>
  <Override PartName="/ppt/media/image24.png" ContentType="image/png"/>
  <Override PartName="/ppt/media/image18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25E-4F30-4944-8E07-E9DED0E5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4F87-F8F5-4446-A457-DFB3F273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059C-767A-4E4C-BAF0-8A181671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5DC-1F2B-4AFA-B5EF-459AE29E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DCD2-999B-4BF8-B0A6-51D268BF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13EC-0BFB-4ADB-8F99-DA87CD70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5C6F-1401-4992-B56C-5965D32B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27E1-7894-44FE-89E1-9B3D1E37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E32E-8E85-40CE-9861-DAFAB63C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B544-6B9E-493A-BD7C-D6F7215E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9CFA-E731-4300-BCCD-79E6EC67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9EF-7CDA-478F-9120-4BCBAAF9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B7E9-F8EF-4C9A-A886-9B70E5BA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D970-3E2F-4C76-80E2-90D7798F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EC03-7AE3-4A02-813B-F7B19FA5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A26B-6DBF-4938-9B69-E91DAF3C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3D76-2B03-4A0C-8B0D-CED804DA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FDEC-7D5D-46E8-8755-F165E3FE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B96-9AA4-4150-8135-487185A6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8453-FE52-464F-A8E1-7BD40D35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53B-ED62-4683-9358-01936BBE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F9A-DCC0-443E-8831-BF27A822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93A5-F1F2-4999-97C9-20F33CDF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6362-F514-4743-B0E3-902857E6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0A92-B90C-4B8F-96E2-49C7387A3A7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F426-538B-47B2-B4BC-DA807665CB4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9.xml"/><Relationship Id="rId3" Type="http://schemas.openxmlformats.org/officeDocument/2006/relationships/slide" Target="slide47.xml"/><Relationship Id="rId4" Type="http://schemas.openxmlformats.org/officeDocument/2006/relationships/slide" Target="slide46.xml"/><Relationship Id="rId5" Type="http://schemas.openxmlformats.org/officeDocument/2006/relationships/slide" Target="slide50.xml"/><Relationship Id="rId6" Type="http://schemas.openxmlformats.org/officeDocument/2006/relationships/slide" Target="slide48.xml"/><Relationship Id="rId7" Type="http://schemas.openxmlformats.org/officeDocument/2006/relationships/slide" Target="slide51.xml"/><Relationship Id="rId8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4400" y="12078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Lesson 90 Tele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2971800"/>
            <a:ext cx="64008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李  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学高级教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北师大实验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日播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Put the pictures in the righ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1676520"/>
            <a:ext cx="9144000" cy="1983600"/>
            <a:chOff x="0" y="1676520"/>
            <a:chExt cx="9144000" cy="1983600"/>
          </a:xfrm>
        </p:grpSpPr>
        <p:sp>
          <p:nvSpPr>
            <p:cNvPr id="211" name=""/>
            <p:cNvSpPr/>
            <p:nvPr/>
          </p:nvSpPr>
          <p:spPr>
            <a:xfrm>
              <a:off x="0" y="2954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5720" y="167652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069920" y="32004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-335268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0" y="1523880"/>
            <a:ext cx="3962520" cy="2059920"/>
            <a:chOff x="4572000" y="1523880"/>
            <a:chExt cx="3962520" cy="2059920"/>
          </a:xfrm>
        </p:grpSpPr>
        <p:pic>
          <p:nvPicPr>
            <p:cNvPr id="216" name="j0300239" descr=""/>
            <p:cNvPicPr/>
            <p:nvPr/>
          </p:nvPicPr>
          <p:blipFill>
            <a:blip r:embed="rId2"/>
            <a:stretch/>
          </p:blipFill>
          <p:spPr>
            <a:xfrm>
              <a:off x="5334120" y="1523880"/>
              <a:ext cx="178416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0" y="3124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j0128353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1752480" cy="1359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724280" y="5334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066680" y="3962520"/>
            <a:ext cx="3353040" cy="1907280"/>
            <a:chOff x="1066680" y="3962520"/>
            <a:chExt cx="3353040" cy="1907280"/>
          </a:xfrm>
        </p:grpSpPr>
        <p:grpSp>
          <p:nvGrpSpPr>
            <p:cNvPr id="221" name=""/>
            <p:cNvGrpSpPr/>
            <p:nvPr/>
          </p:nvGrpSpPr>
          <p:grpSpPr>
            <a:xfrm>
              <a:off x="1905120" y="3962520"/>
              <a:ext cx="1752120" cy="1371600"/>
              <a:chOff x="1905120" y="3962520"/>
              <a:chExt cx="1752120" cy="1371600"/>
            </a:xfrm>
          </p:grpSpPr>
          <p:pic>
            <p:nvPicPr>
              <p:cNvPr id="222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5080" y="396252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396252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"/>
            <p:cNvSpPr/>
            <p:nvPr/>
          </p:nvSpPr>
          <p:spPr>
            <a:xfrm>
              <a:off x="1066680" y="541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066680" y="1600200"/>
            <a:ext cx="3886200" cy="1983600"/>
            <a:chOff x="1066680" y="1600200"/>
            <a:chExt cx="3886200" cy="1983600"/>
          </a:xfrm>
        </p:grpSpPr>
        <p:pic>
          <p:nvPicPr>
            <p:cNvPr id="249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2480" y="160020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066680" y="31240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14400" y="3657600"/>
            <a:ext cx="3962160" cy="2059920"/>
            <a:chOff x="914400" y="3657600"/>
            <a:chExt cx="3962160" cy="2059920"/>
          </a:xfrm>
        </p:grpSpPr>
        <p:pic>
          <p:nvPicPr>
            <p:cNvPr id="252" name="j0300239" descr=""/>
            <p:cNvPicPr/>
            <p:nvPr/>
          </p:nvPicPr>
          <p:blipFill>
            <a:blip r:embed="rId2"/>
            <a:stretch/>
          </p:blipFill>
          <p:spPr>
            <a:xfrm>
              <a:off x="1676160" y="36576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14400" y="52578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648320" y="3809880"/>
            <a:ext cx="3657600" cy="1907280"/>
            <a:chOff x="4648320" y="3809880"/>
            <a:chExt cx="3657600" cy="1907280"/>
          </a:xfrm>
        </p:grpSpPr>
        <p:pic>
          <p:nvPicPr>
            <p:cNvPr id="255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80988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648320" y="525744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724280" y="1600200"/>
            <a:ext cx="3353040" cy="1907280"/>
            <a:chOff x="4724280" y="1600200"/>
            <a:chExt cx="3353040" cy="1907280"/>
          </a:xfrm>
        </p:grpSpPr>
        <p:grpSp>
          <p:nvGrpSpPr>
            <p:cNvPr id="258" name=""/>
            <p:cNvGrpSpPr/>
            <p:nvPr/>
          </p:nvGrpSpPr>
          <p:grpSpPr>
            <a:xfrm>
              <a:off x="5562720" y="1600200"/>
              <a:ext cx="1752120" cy="1371600"/>
              <a:chOff x="5562720" y="1600200"/>
              <a:chExt cx="1752120" cy="1371600"/>
            </a:xfrm>
          </p:grpSpPr>
          <p:pic>
            <p:nvPicPr>
              <p:cNvPr id="259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6232680" y="160020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5562720" y="160020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1" name=""/>
            <p:cNvSpPr/>
            <p:nvPr/>
          </p:nvSpPr>
          <p:spPr>
            <a:xfrm>
              <a:off x="4724280" y="304776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ound       electrical signals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electrical signals      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electrical sign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how%20tel%20works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886200" y="19810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32004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liked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didn’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ke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00200" y="1600200"/>
            <a:ext cx="1752120" cy="1371600"/>
            <a:chOff x="1600200" y="1600200"/>
            <a:chExt cx="1752120" cy="1371600"/>
          </a:xfrm>
        </p:grpSpPr>
        <p:pic>
          <p:nvPicPr>
            <p:cNvPr id="278" name="Operator" descr=""/>
            <p:cNvPicPr/>
            <p:nvPr/>
          </p:nvPicPr>
          <p:blipFill>
            <a:blip r:embed="rId1"/>
            <a:stretch/>
          </p:blipFill>
          <p:spPr>
            <a:xfrm>
              <a:off x="2270160" y="1600200"/>
              <a:ext cx="10821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hone%20handle" descr=""/>
            <p:cNvPicPr/>
            <p:nvPr/>
          </p:nvPicPr>
          <p:blipFill>
            <a:blip r:embed="rId2"/>
            <a:stretch/>
          </p:blipFill>
          <p:spPr>
            <a:xfrm>
              <a:off x="1600200" y="1600200"/>
              <a:ext cx="71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/>
          <p:cNvSpPr/>
          <p:nvPr/>
        </p:nvSpPr>
        <p:spPr>
          <a:xfrm>
            <a:off x="3657600" y="1905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history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re about the histo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980720" y="4648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lexander Graham Bell invented the phone in 187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Graham%20Bell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505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w the phone was used at that tim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6" name="p,g.BELL_HANDSETS_1877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8098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j0300239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784520" cy="1461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505320" y="17524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number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297144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metal wir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thin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glass pip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44197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j012835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752840" cy="1359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505320" y="18288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me of the ways telephones can be us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i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edirection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all wait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752480" y="3429000"/>
            <a:ext cx="2057400" cy="2133360"/>
            <a:chOff x="1752480" y="3429000"/>
            <a:chExt cx="2057400" cy="2133360"/>
          </a:xfrm>
        </p:grpSpPr>
        <p:pic>
          <p:nvPicPr>
            <p:cNvPr id="302" name="modern%202" descr=""/>
            <p:cNvPicPr/>
            <p:nvPr/>
          </p:nvPicPr>
          <p:blipFill>
            <a:blip r:embed="rId1"/>
            <a:stretch/>
          </p:blipFill>
          <p:spPr>
            <a:xfrm>
              <a:off x="1905120" y="3429000"/>
              <a:ext cx="182880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752480" y="5029200"/>
              <a:ext cx="2057400" cy="53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00" y="4629"/>
                  </a:moveTo>
                  <a:lnTo>
                    <a:pt x="25067" y="4629"/>
                  </a:lnTo>
                  <a:lnTo>
                    <a:pt x="25067" y="-14464"/>
                  </a:lnTo>
                  <a:lnTo>
                    <a:pt x="20817" y="-315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e at a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24280" y="3429000"/>
            <a:ext cx="2971800" cy="2133720"/>
            <a:chOff x="4724280" y="3429000"/>
            <a:chExt cx="2971800" cy="2133720"/>
          </a:xfrm>
        </p:grpSpPr>
        <p:pic>
          <p:nvPicPr>
            <p:cNvPr id="305" name="mordern%201" descr=""/>
            <p:cNvPicPr/>
            <p:nvPr/>
          </p:nvPicPr>
          <p:blipFill>
            <a:blip r:embed="rId2"/>
            <a:stretch/>
          </p:blipFill>
          <p:spPr>
            <a:xfrm>
              <a:off x="5334120" y="3429000"/>
              <a:ext cx="1434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24280" y="5029200"/>
              <a:ext cx="2971800" cy="53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154" y="4629"/>
                  </a:moveTo>
                  <a:lnTo>
                    <a:pt x="23435" y="4629"/>
                  </a:lnTo>
                  <a:lnTo>
                    <a:pt x="23435" y="-14014"/>
                  </a:lnTo>
                  <a:lnTo>
                    <a:pt x="14792" y="-306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lk at the same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Lesson 90 Tele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j0300239" descr=""/>
          <p:cNvPicPr/>
          <p:nvPr/>
        </p:nvPicPr>
        <p:blipFill>
          <a:blip r:embed="rId1"/>
          <a:stretch/>
        </p:blipFill>
        <p:spPr>
          <a:xfrm>
            <a:off x="5638680" y="762120"/>
            <a:ext cx="1784520" cy="1766880"/>
          </a:xfrm>
          <a:prstGeom prst="rect">
            <a:avLst/>
          </a:prstGeom>
          <a:ln w="0">
            <a:noFill/>
          </a:ln>
        </p:spPr>
      </p:pic>
      <p:pic>
        <p:nvPicPr>
          <p:cNvPr id="164" name="j0128353" descr=""/>
          <p:cNvPicPr/>
          <p:nvPr/>
        </p:nvPicPr>
        <p:blipFill>
          <a:blip r:embed="rId2"/>
          <a:stretch/>
        </p:blipFill>
        <p:spPr>
          <a:xfrm>
            <a:off x="2362320" y="4114800"/>
            <a:ext cx="1752480" cy="1587600"/>
          </a:xfrm>
          <a:prstGeom prst="rect">
            <a:avLst/>
          </a:prstGeom>
          <a:ln w="0">
            <a:noFill/>
          </a:ln>
        </p:spPr>
      </p:pic>
      <p:pic>
        <p:nvPicPr>
          <p:cNvPr id="165" name="how%20tel%20works2" descr=""/>
          <p:cNvPicPr/>
          <p:nvPr/>
        </p:nvPicPr>
        <p:blipFill>
          <a:blip r:embed="rId3"/>
          <a:stretch/>
        </p:blipFill>
        <p:spPr>
          <a:xfrm>
            <a:off x="2286000" y="1295280"/>
            <a:ext cx="1981080" cy="11685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5715000" y="4191120"/>
            <a:ext cx="2057040" cy="1447560"/>
            <a:chOff x="5715000" y="4191120"/>
            <a:chExt cx="2057040" cy="1447560"/>
          </a:xfrm>
        </p:grpSpPr>
        <p:pic>
          <p:nvPicPr>
            <p:cNvPr id="167" name="Operator" descr=""/>
            <p:cNvPicPr/>
            <p:nvPr/>
          </p:nvPicPr>
          <p:blipFill>
            <a:blip r:embed="rId4"/>
            <a:stretch/>
          </p:blipFill>
          <p:spPr>
            <a:xfrm>
              <a:off x="6501600" y="4191120"/>
              <a:ext cx="127044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hone%20handle" descr=""/>
            <p:cNvPicPr/>
            <p:nvPr/>
          </p:nvPicPr>
          <p:blipFill>
            <a:blip r:embed="rId5"/>
            <a:stretch/>
          </p:blipFill>
          <p:spPr>
            <a:xfrm>
              <a:off x="5715000" y="4191120"/>
              <a:ext cx="83700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37339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mordern%201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1828800" cy="1650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600200" y="3429000"/>
            <a:ext cx="2971800" cy="2109960"/>
            <a:chOff x="1600200" y="3429000"/>
            <a:chExt cx="2971800" cy="2109960"/>
          </a:xfrm>
        </p:grpSpPr>
        <p:pic>
          <p:nvPicPr>
            <p:cNvPr id="313" name="dialling4" descr=""/>
            <p:cNvPicPr/>
            <p:nvPr/>
          </p:nvPicPr>
          <p:blipFill>
            <a:blip r:embed="rId1"/>
            <a:stretch/>
          </p:blipFill>
          <p:spPr>
            <a:xfrm>
              <a:off x="1600200" y="4191120"/>
              <a:ext cx="18288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514600" y="3429000"/>
              <a:ext cx="2057400" cy="609480"/>
            </a:xfrm>
            <a:prstGeom prst="borderCallout1">
              <a:avLst>
                <a:gd name="adj1" fmla="val 18750"/>
                <a:gd name="adj2" fmla="val -8333"/>
                <a:gd name="adj3" fmla="val 121875"/>
                <a:gd name="adj4" fmla="val -27004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3904637…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029200" y="3505320"/>
            <a:ext cx="2565360" cy="1968480"/>
            <a:chOff x="5029200" y="3505320"/>
            <a:chExt cx="2565360" cy="1968480"/>
          </a:xfrm>
        </p:grpSpPr>
        <p:sp>
          <p:nvSpPr>
            <p:cNvPr id="316" name=""/>
            <p:cNvSpPr/>
            <p:nvPr/>
          </p:nvSpPr>
          <p:spPr>
            <a:xfrm>
              <a:off x="6324480" y="350532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7" name="dialling" descr=""/>
            <p:cNvPicPr/>
            <p:nvPr/>
          </p:nvPicPr>
          <p:blipFill>
            <a:blip r:embed="rId2"/>
            <a:stretch/>
          </p:blipFill>
          <p:spPr>
            <a:xfrm>
              <a:off x="5029200" y="419112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19720" y="3352680"/>
            <a:ext cx="2565360" cy="1968480"/>
            <a:chOff x="4419720" y="3352680"/>
            <a:chExt cx="2565360" cy="1968480"/>
          </a:xfrm>
        </p:grpSpPr>
        <p:sp>
          <p:nvSpPr>
            <p:cNvPr id="321" name=""/>
            <p:cNvSpPr/>
            <p:nvPr/>
          </p:nvSpPr>
          <p:spPr>
            <a:xfrm>
              <a:off x="5715000" y="335268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2" name="dialling" descr=""/>
            <p:cNvPicPr/>
            <p:nvPr/>
          </p:nvPicPr>
          <p:blipFill>
            <a:blip r:embed="rId1"/>
            <a:stretch/>
          </p:blipFill>
          <p:spPr>
            <a:xfrm>
              <a:off x="4419720" y="403848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1523880" y="4114800"/>
            <a:ext cx="30481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Di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3880" y="3429000"/>
            <a:ext cx="3657600" cy="1981080"/>
            <a:chOff x="1523880" y="3429000"/>
            <a:chExt cx="3657600" cy="1981080"/>
          </a:xfrm>
        </p:grpSpPr>
        <p:pic>
          <p:nvPicPr>
            <p:cNvPr id="327" name="call%20waiting" descr=""/>
            <p:cNvPicPr/>
            <p:nvPr/>
          </p:nvPicPr>
          <p:blipFill>
            <a:blip r:embed="rId1"/>
            <a:stretch/>
          </p:blipFill>
          <p:spPr>
            <a:xfrm>
              <a:off x="1523880" y="411480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666880" y="342900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638680" y="3276720"/>
            <a:ext cx="1676520" cy="2087280"/>
            <a:chOff x="5638680" y="3276720"/>
            <a:chExt cx="1676520" cy="2087280"/>
          </a:xfrm>
        </p:grpSpPr>
        <p:pic>
          <p:nvPicPr>
            <p:cNvPr id="330" name="cordless1,%20pic" descr=""/>
            <p:cNvPicPr/>
            <p:nvPr/>
          </p:nvPicPr>
          <p:blipFill>
            <a:blip r:embed="rId2"/>
            <a:stretch/>
          </p:blipFill>
          <p:spPr>
            <a:xfrm>
              <a:off x="5638680" y="4114800"/>
              <a:ext cx="1214640" cy="124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705720" y="3429000"/>
              <a:ext cx="228600" cy="380520"/>
              <a:chOff x="6705720" y="3429000"/>
              <a:chExt cx="228600" cy="3805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6781680" y="342900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81680" y="358128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6705720" y="358092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086600" y="3276720"/>
              <a:ext cx="228600" cy="380520"/>
              <a:chOff x="7086600" y="3276720"/>
              <a:chExt cx="228600" cy="3805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7162560" y="32767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162560" y="34290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7086600" y="34286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934320" y="3733920"/>
              <a:ext cx="228600" cy="380520"/>
              <a:chOff x="6934320" y="3733920"/>
              <a:chExt cx="228600" cy="3805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7010280" y="37339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10280" y="38862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6934320" y="38858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400800" y="3809880"/>
              <a:ext cx="228600" cy="380520"/>
              <a:chOff x="6400800" y="3809880"/>
              <a:chExt cx="228600" cy="380520"/>
            </a:xfrm>
          </p:grpSpPr>
          <p:sp>
            <p:nvSpPr>
              <p:cNvPr id="344" name=""/>
              <p:cNvSpPr/>
              <p:nvPr/>
            </p:nvSpPr>
            <p:spPr>
              <a:xfrm flipH="1">
                <a:off x="6476760" y="380988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476760" y="396216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6400800" y="396180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114800" y="3276720"/>
            <a:ext cx="3657600" cy="1981080"/>
            <a:chOff x="4114800" y="3276720"/>
            <a:chExt cx="3657600" cy="1981080"/>
          </a:xfrm>
        </p:grpSpPr>
        <p:pic>
          <p:nvPicPr>
            <p:cNvPr id="350" name="call%20waiting" descr=""/>
            <p:cNvPicPr/>
            <p:nvPr/>
          </p:nvPicPr>
          <p:blipFill>
            <a:blip r:embed="rId1"/>
            <a:stretch/>
          </p:blipFill>
          <p:spPr>
            <a:xfrm>
              <a:off x="4114800" y="396252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257800" y="327672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371600" y="3809880"/>
            <a:ext cx="3200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Busy_man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193840" cy="162252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4724280" y="3276720"/>
            <a:ext cx="2819520" cy="2239920"/>
            <a:chOff x="4724280" y="3276720"/>
            <a:chExt cx="2819520" cy="2239920"/>
          </a:xfrm>
        </p:grpSpPr>
        <p:sp>
          <p:nvSpPr>
            <p:cNvPr id="357" name=""/>
            <p:cNvSpPr/>
            <p:nvPr/>
          </p:nvSpPr>
          <p:spPr>
            <a:xfrm>
              <a:off x="6078600" y="3276720"/>
              <a:ext cx="1465200" cy="927000"/>
            </a:xfrm>
            <a:prstGeom prst="borderCallout1">
              <a:avLst>
                <a:gd name="adj1" fmla="val 18750"/>
                <a:gd name="adj2" fmla="val -8333"/>
                <a:gd name="adj3" fmla="val 12328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Mobile_phone" descr=""/>
            <p:cNvPicPr/>
            <p:nvPr/>
          </p:nvPicPr>
          <p:blipFill>
            <a:blip r:embed="rId2"/>
            <a:stretch/>
          </p:blipFill>
          <p:spPr>
            <a:xfrm>
              <a:off x="472428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657600"/>
            <a:ext cx="29718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all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0" y="3124080"/>
            <a:ext cx="2684520" cy="2392560"/>
            <a:chOff x="4572000" y="3124080"/>
            <a:chExt cx="2684520" cy="2392560"/>
          </a:xfrm>
        </p:grpSpPr>
        <p:sp>
          <p:nvSpPr>
            <p:cNvPr id="363" name=""/>
            <p:cNvSpPr/>
            <p:nvPr/>
          </p:nvSpPr>
          <p:spPr>
            <a:xfrm>
              <a:off x="5791320" y="3124080"/>
              <a:ext cx="1465200" cy="927360"/>
            </a:xfrm>
            <a:prstGeom prst="borderCallout1">
              <a:avLst>
                <a:gd name="adj1" fmla="val 18750"/>
                <a:gd name="adj2" fmla="val -8333"/>
                <a:gd name="adj3" fmla="val 46574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4" name="Mobile_phone" descr=""/>
            <p:cNvPicPr/>
            <p:nvPr/>
          </p:nvPicPr>
          <p:blipFill>
            <a:blip r:embed="rId1"/>
            <a:stretch/>
          </p:blipFill>
          <p:spPr>
            <a:xfrm>
              <a:off x="457200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was one teleph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connected wit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anot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the past?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question1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4724280"/>
            <a:ext cx="4724280" cy="685800"/>
          </a:xfrm>
          <a:prstGeom prst="wedgeRectCallout">
            <a:avLst>
              <a:gd name="adj1" fmla="val -1342"/>
              <a:gd name="adj2" fmla="val -25439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(cause to) join (someth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riv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irectly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se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have a general knowledge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of telephon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know how to use some  words, expressions and one grammar item--- noun claus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mall children do not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und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ighte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Can 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 m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ith London, plea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22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of trains, buses,etc.) to be planned so that passengers can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train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s 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one leaving for London an hour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The problem with electrical signals is that they get weaker and weaker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a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y travel 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4572000"/>
            <a:ext cx="2895840" cy="914400"/>
          </a:xfrm>
          <a:prstGeom prst="wedgeRectCallout">
            <a:avLst>
              <a:gd name="adj1" fmla="val -32509"/>
              <a:gd name="adj2" fmla="val -14513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; wh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he talked on, he got more and more excit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get wis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et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These are some of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e ways in whic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y can be us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2, Text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4114800"/>
            <a:ext cx="5029200" cy="1143000"/>
          </a:xfrm>
          <a:prstGeom prst="wedgeRectCallout">
            <a:avLst>
              <a:gd name="adj1" fmla="val 50472"/>
              <a:gd name="adj2" fmla="val -18972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the ways (tha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is very rude. Don’t speak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do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y didn’t do the experiment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e do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1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How a telephone work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is a question which not every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n answ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4572000"/>
            <a:ext cx="3124440" cy="609480"/>
          </a:xfrm>
          <a:prstGeom prst="wedgeRectCallout">
            <a:avLst>
              <a:gd name="adj1" fmla="val 63060"/>
              <a:gd name="adj2" fmla="val -25807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00040" y="4343040"/>
            <a:ext cx="3962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versation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conversation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2392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2 The problem with electrical signals is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they get weak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nd weaker as they tra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4419720"/>
            <a:ext cx="2057400" cy="609480"/>
          </a:xfrm>
          <a:prstGeom prst="wedgeRectCallout">
            <a:avLst>
              <a:gd name="adj1" fmla="val -11884"/>
              <a:gd name="adj2" fmla="val -16119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3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fac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we lack enough phon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needs to be consider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4267080"/>
            <a:ext cx="2438640" cy="533520"/>
          </a:xfrm>
          <a:prstGeom prst="wedgeRectCallout">
            <a:avLst>
              <a:gd name="adj1" fmla="val 61587"/>
              <a:gd name="adj2" fmla="val -26637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4  We need to think abou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what we should say to the caller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3809880"/>
            <a:ext cx="2819160" cy="609840"/>
          </a:xfrm>
          <a:prstGeom prst="wedgeRectCallout">
            <a:avLst>
              <a:gd name="adj1" fmla="val 31925"/>
              <a:gd name="adj2" fmla="val -18020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性从句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主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表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同位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2514600"/>
            <a:ext cx="3809880" cy="2438280"/>
          </a:xfrm>
          <a:prstGeom prst="leftArrowCallout">
            <a:avLst>
              <a:gd name="adj1" fmla="val 14112"/>
              <a:gd name="adj2" fmla="val 11894"/>
              <a:gd name="adj3" fmla="val 27228"/>
              <a:gd name="adj4" fmla="val 7666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; whos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; tha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; wh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ther; how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;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>
            <a:hlinkClick r:id="rId3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>
            <a:hlinkClick r:id="rId4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>
            <a:hlinkClick r:id="rId5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>
            <a:hlinkClick r:id="rId6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>
            <a:hlinkClick r:id="rId7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00040" y="44956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elephone direc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irectory%201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154620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j0300239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1784160" cy="1981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how%20tel%20works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0666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572000" y="1600200"/>
            <a:ext cx="3962160" cy="2059920"/>
            <a:chOff x="4572000" y="1600200"/>
            <a:chExt cx="3962160" cy="2059920"/>
          </a:xfrm>
        </p:grpSpPr>
        <p:pic>
          <p:nvPicPr>
            <p:cNvPr id="457" name="j0300239" descr=""/>
            <p:cNvPicPr/>
            <p:nvPr/>
          </p:nvPicPr>
          <p:blipFill>
            <a:blip r:embed="rId2"/>
            <a:stretch/>
          </p:blipFill>
          <p:spPr>
            <a:xfrm>
              <a:off x="5333760" y="16002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4572000" y="32004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48320" y="3733920"/>
            <a:ext cx="3657600" cy="1907280"/>
            <a:chOff x="4648320" y="3733920"/>
            <a:chExt cx="3657600" cy="1907280"/>
          </a:xfrm>
        </p:grpSpPr>
        <p:pic>
          <p:nvPicPr>
            <p:cNvPr id="460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73392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648320" y="51814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990720" y="3809880"/>
            <a:ext cx="3352680" cy="1907280"/>
            <a:chOff x="990720" y="3809880"/>
            <a:chExt cx="3352680" cy="1907280"/>
          </a:xfrm>
        </p:grpSpPr>
        <p:grpSp>
          <p:nvGrpSpPr>
            <p:cNvPr id="463" name=""/>
            <p:cNvGrpSpPr/>
            <p:nvPr/>
          </p:nvGrpSpPr>
          <p:grpSpPr>
            <a:xfrm>
              <a:off x="1828800" y="3809880"/>
              <a:ext cx="1752120" cy="1371600"/>
              <a:chOff x="1828800" y="3809880"/>
              <a:chExt cx="1752120" cy="1371600"/>
            </a:xfrm>
          </p:grpSpPr>
          <p:pic>
            <p:nvPicPr>
              <p:cNvPr id="464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498760" y="380988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380988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6" name=""/>
            <p:cNvSpPr/>
            <p:nvPr/>
          </p:nvSpPr>
          <p:spPr>
            <a:xfrm>
              <a:off x="990720" y="525744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way in which/ (that)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5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76" name="bell's%201st%20%20box%20phone%20in%201877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361960" cy="1584360"/>
          </a:xfrm>
          <a:prstGeom prst="rect">
            <a:avLst/>
          </a:prstGeom>
          <a:ln w="0">
            <a:noFill/>
          </a:ln>
        </p:spPr>
      </p:pic>
      <p:pic>
        <p:nvPicPr>
          <p:cNvPr id="477" name="liquid" descr=""/>
          <p:cNvPicPr/>
          <p:nvPr/>
        </p:nvPicPr>
        <p:blipFill>
          <a:blip r:embed="rId2"/>
          <a:stretch/>
        </p:blipFill>
        <p:spPr>
          <a:xfrm>
            <a:off x="2462040" y="1946160"/>
            <a:ext cx="1224000" cy="1981440"/>
          </a:xfrm>
          <a:prstGeom prst="rect">
            <a:avLst/>
          </a:prstGeom>
          <a:ln w="0">
            <a:noFill/>
          </a:ln>
        </p:spPr>
      </p:pic>
      <p:pic>
        <p:nvPicPr>
          <p:cNvPr id="478" name="phone%20gallery1" descr=""/>
          <p:cNvPicPr/>
          <p:nvPr/>
        </p:nvPicPr>
        <p:blipFill>
          <a:blip r:embed="rId3"/>
          <a:stretch/>
        </p:blipFill>
        <p:spPr>
          <a:xfrm>
            <a:off x="5410080" y="396252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479" name="phone%20handle" descr=""/>
          <p:cNvPicPr/>
          <p:nvPr/>
        </p:nvPicPr>
        <p:blipFill>
          <a:blip r:embed="rId4"/>
          <a:stretch/>
        </p:blipFill>
        <p:spPr>
          <a:xfrm>
            <a:off x="2438280" y="3962520"/>
            <a:ext cx="127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81" name="old%20tele" descr=""/>
          <p:cNvPicPr/>
          <p:nvPr/>
        </p:nvPicPr>
        <p:blipFill>
          <a:blip r:embed="rId1"/>
          <a:stretch/>
        </p:blipFill>
        <p:spPr>
          <a:xfrm>
            <a:off x="2427120" y="1946160"/>
            <a:ext cx="1295640" cy="1981440"/>
          </a:xfrm>
          <a:prstGeom prst="rect">
            <a:avLst/>
          </a:prstGeom>
          <a:ln w="0">
            <a:noFill/>
          </a:ln>
        </p:spPr>
      </p:pic>
      <p:pic>
        <p:nvPicPr>
          <p:cNvPr id="482" name="ivory_princess" descr=""/>
          <p:cNvPicPr/>
          <p:nvPr/>
        </p:nvPicPr>
        <p:blipFill>
          <a:blip r:embed="rId2"/>
          <a:stretch/>
        </p:blipFill>
        <p:spPr>
          <a:xfrm>
            <a:off x="2057400" y="4343400"/>
            <a:ext cx="2405160" cy="1495440"/>
          </a:xfrm>
          <a:prstGeom prst="rect">
            <a:avLst/>
          </a:prstGeom>
          <a:ln w="0">
            <a:noFill/>
          </a:ln>
        </p:spPr>
      </p:pic>
      <p:pic>
        <p:nvPicPr>
          <p:cNvPr id="483" name="left_" descr=""/>
          <p:cNvPicPr/>
          <p:nvPr/>
        </p:nvPicPr>
        <p:blipFill>
          <a:blip r:embed="rId3"/>
          <a:stretch/>
        </p:blipFill>
        <p:spPr>
          <a:xfrm>
            <a:off x="5105520" y="2023920"/>
            <a:ext cx="1981080" cy="1633680"/>
          </a:xfrm>
          <a:prstGeom prst="rect">
            <a:avLst/>
          </a:prstGeom>
          <a:ln w="0">
            <a:noFill/>
          </a:ln>
        </p:spPr>
      </p:pic>
      <p:pic>
        <p:nvPicPr>
          <p:cNvPr id="484" name="modern%20p2" descr=""/>
          <p:cNvPicPr/>
          <p:nvPr/>
        </p:nvPicPr>
        <p:blipFill>
          <a:blip r:embed="rId4"/>
          <a:stretch/>
        </p:blipFill>
        <p:spPr>
          <a:xfrm>
            <a:off x="5145120" y="4114800"/>
            <a:ext cx="1901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4419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wind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 waind ]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winding1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2133360" cy="1981080"/>
          </a:xfrm>
          <a:prstGeom prst="rect">
            <a:avLst/>
          </a:prstGeom>
          <a:ln w="0">
            <a:noFill/>
          </a:ln>
        </p:spPr>
      </p:pic>
      <p:pic>
        <p:nvPicPr>
          <p:cNvPr id="180" name="winded%20silk%20thread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1295280" cy="1904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ndl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handle2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194472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winding1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213372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 flipV="1">
            <a:off x="4343040" y="3352320"/>
            <a:ext cx="152280" cy="114300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38680" y="3352320"/>
            <a:ext cx="457200" cy="121932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directio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redirect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2514600" cy="23623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8120" y="4343040"/>
            <a:ext cx="3782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engthe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Strengthen-our-Hands-" descr=""/>
          <p:cNvPicPr/>
          <p:nvPr/>
        </p:nvPicPr>
        <p:blipFill>
          <a:blip r:embed="rId1"/>
          <a:stretch/>
        </p:blipFill>
        <p:spPr>
          <a:xfrm>
            <a:off x="3790800" y="1946160"/>
            <a:ext cx="2529000" cy="1981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Dell</cp:lastModifiedBy>
  <dcterms:modified xsi:type="dcterms:W3CDTF">2003-06-11T13:14:08Z</dcterms:modified>
  <cp:revision>101</cp:revision>
  <dc:subject/>
  <dc:title>Unit 19 A freedom fighter (continued)</dc:title>
</cp:coreProperties>
</file>