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wmf" ContentType="image/x-wmf"/>
  <Override PartName="/ppt/media/image8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23.wmf" ContentType="image/x-wmf"/>
  <Override PartName="/ppt/media/image20.gif" ContentType="image/gif"/>
  <Override PartName="/ppt/media/image22.wmf" ContentType="image/x-wmf"/>
  <Override PartName="/ppt/media/image2.gif" ContentType="image/gif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5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76B-9DD6-43EA-B54A-4B53CF85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FC4-4FC3-4F71-A905-BAB9138C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87B-AF93-48E7-AD67-A7139640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B91-B692-4513-BD85-382246FF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B4A9-38A7-4C46-AAED-24EA998B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C2DC-E4B3-4FCE-877A-D0E7356B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D025-7C3B-44CE-A9AE-5D4400E8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8CE0-EADF-45D0-9CCC-27407841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A3A9-3384-49E1-A49F-D3030432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BEA2-455E-4B7E-9940-C3FFB2C4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7598-8E51-4C45-852E-60063EB8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50D-D9D9-4E91-A697-E23B8169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037C-F29A-4C01-BDAC-E70E4938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9B9D-5E80-4BD2-9192-BB2B6D2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7660-942E-4182-8571-948A428A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F059-5E6A-48AB-8FC6-3F616BC2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CE70-D367-4820-A385-E3567991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A7A-E6EB-4D73-9657-A7DEE977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303-88ED-45EA-B03B-726D1D1B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CEA-8421-4256-B3BE-72CCC24F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73E-5765-4EF7-9CAB-EA748370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1C9-A34A-4310-85BF-9F63B86E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1A5-7A93-45AA-8D88-652A1F54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D09-A9AE-43F3-9387-C158E348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9CFC-1A88-4679-85A9-00B5DB563C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6770-12E5-414E-B135-F39E9D224B5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9957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04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467840" cy="4395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514600" y="685800"/>
            <a:ext cx="49150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1680"/>
            <a:ext cx="7792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sun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windy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rai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039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5" name="039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6" name="NA01468_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458964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: What’s  the weather like today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B:It’s…                                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iny        snow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unny         wind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BD19563_" descr=""/>
          <p:cNvPicPr/>
          <p:nvPr/>
        </p:nvPicPr>
        <p:blipFill>
          <a:blip r:embed="rId1"/>
          <a:stretch/>
        </p:blipFill>
        <p:spPr>
          <a:xfrm flipH="1" rot="10800000">
            <a:off x="1143000" y="251460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l152" descr=""/>
          <p:cNvPicPr/>
          <p:nvPr/>
        </p:nvPicPr>
        <p:blipFill>
          <a:blip r:embed="rId1"/>
          <a:stretch/>
        </p:blipFill>
        <p:spPr>
          <a:xfrm>
            <a:off x="1339920" y="1143000"/>
            <a:ext cx="7651800" cy="5129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629400" y="259092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41148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Wu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4648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ngh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9920" y="761760"/>
            <a:ext cx="7804080" cy="5514840"/>
          </a:xfrm>
          <a:prstGeom prst="rect">
            <a:avLst/>
          </a:prstGeom>
          <a:ln w="0">
            <a:noFill/>
          </a:ln>
        </p:spPr>
      </p:pic>
      <p:pic>
        <p:nvPicPr>
          <p:cNvPr id="145" name="l151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7696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1620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(1) ——— the weather like today ?</a:t>
            </a: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It’s __________ .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7400" y="3200400"/>
            <a:ext cx="4114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indy                  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039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2342880" cy="1096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76520" y="2286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windy1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335268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What’s ____ weather like today?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.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6880" y="3657600"/>
            <a:ext cx="18288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in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039" descr=""/>
          <p:cNvPicPr/>
          <p:nvPr/>
        </p:nvPicPr>
        <p:blipFill>
          <a:blip r:embed="rId1"/>
          <a:stretch/>
        </p:blipFill>
        <p:spPr>
          <a:xfrm>
            <a:off x="6095880" y="464832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33920" y="24382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NA01682_" descr=""/>
          <p:cNvPicPr/>
          <p:nvPr/>
        </p:nvPicPr>
        <p:blipFill>
          <a:blip r:embed="rId2"/>
          <a:stretch/>
        </p:blipFill>
        <p:spPr>
          <a:xfrm>
            <a:off x="2895480" y="0"/>
            <a:ext cx="335304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6201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3)What’s  the ________like  today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_ .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320040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now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039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2342880" cy="1096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00600" y="2438280"/>
            <a:ext cx="222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DD00297_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124080" cy="13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4)What’s the weather                     ____  today 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 . 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720" y="3276720"/>
            <a:ext cx="3047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nn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039" descr=""/>
          <p:cNvPicPr/>
          <p:nvPr/>
        </p:nvPicPr>
        <p:blipFill>
          <a:blip r:embed="rId1"/>
          <a:stretch/>
        </p:blipFill>
        <p:spPr>
          <a:xfrm>
            <a:off x="5715000" y="541008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066680" y="289548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E00542_" descr=""/>
          <p:cNvPicPr/>
          <p:nvPr/>
        </p:nvPicPr>
        <p:blipFill>
          <a:blip r:embed="rId2"/>
          <a:stretch/>
        </p:blipFill>
        <p:spPr>
          <a:xfrm>
            <a:off x="2819520" y="0"/>
            <a:ext cx="28954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362320"/>
            <a:ext cx="7848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5)What’s the weather like ______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.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09320" y="35053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039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66680" y="30481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NA01680_" descr=""/>
          <p:cNvPicPr/>
          <p:nvPr/>
        </p:nvPicPr>
        <p:blipFill>
          <a:blip r:embed="rId2"/>
          <a:stretch/>
        </p:blipFill>
        <p:spPr>
          <a:xfrm>
            <a:off x="3048120" y="609480"/>
            <a:ext cx="32763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9957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4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175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176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177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029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sion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 现在是几点钟？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---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四点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现在是差五分六点钟， 该吃晚饭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今天是星期几？星期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71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ime is it now? It’s four o’c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657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five to six. It’s time for sup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800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ay is it today? It’s Thur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39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08" name="SO00820_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1819080" cy="1346400"/>
          </a:xfrm>
          <a:prstGeom prst="rect">
            <a:avLst/>
          </a:prstGeom>
          <a:ln w="0">
            <a:noFill/>
          </a:ln>
        </p:spPr>
      </p:pic>
      <p:pic>
        <p:nvPicPr>
          <p:cNvPr id="109" name="NA00042_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4655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Lesson</a:t>
            </a:r>
            <a:r>
              <a:rPr b="0" lang="zh-CN" sz="4400" spc="-1" strike="noStrike">
                <a:solidFill>
                  <a:srgbClr val="ffcf01"/>
                </a:solidFill>
                <a:latin typeface="Tahoma"/>
              </a:rPr>
              <a:t>15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What’s the weather                      like toda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335268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BL00526_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ahoma"/>
              </a:rPr>
              <a:t>sunn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40040" y="2091960"/>
            <a:ext cx="51120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today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t’s  sunny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NA01064_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0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i="1" lang="en-US" sz="6600" spc="-1" strike="noStrike">
                <a:solidFill>
                  <a:srgbClr val="3333cc"/>
                </a:solidFill>
                <a:latin typeface="Tahoma"/>
              </a:rPr>
              <a:t>rain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’s  rainy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NA01682_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宋体"/>
              </a:rPr>
              <a:t>        </a:t>
            </a:r>
            <a:r>
              <a:rPr b="1" i="1" lang="en-US" sz="6600" spc="-1" strike="noStrike">
                <a:solidFill>
                  <a:srgbClr val="ffffff"/>
                </a:solidFill>
                <a:latin typeface="宋体"/>
              </a:rPr>
              <a:t>snow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’s  snowy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SO00257_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956880"/>
            <a:ext cx="7792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oudy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t’s cloud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NA01680_" descr=""/>
          <p:cNvPicPr/>
          <p:nvPr/>
        </p:nvPicPr>
        <p:blipFill>
          <a:blip r:embed="rId1"/>
          <a:stretch/>
        </p:blipFill>
        <p:spPr>
          <a:xfrm>
            <a:off x="-228600" y="279072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1200" y="-481320"/>
            <a:ext cx="816300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i="1" lang="en-US" sz="6600" spc="-1" strike="noStrike">
                <a:solidFill>
                  <a:srgbClr val="ff99ff"/>
                </a:solidFill>
                <a:latin typeface="Tahoma"/>
              </a:rPr>
              <a:t>windy  </a:t>
            </a:r>
            <a:br>
              <a:rPr sz="6600"/>
            </a:b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05080" y="2091960"/>
            <a:ext cx="4746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t’s  windy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956880"/>
            <a:ext cx="7792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New word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fteen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039" descr=""/>
          <p:cNvPicPr/>
          <p:nvPr/>
        </p:nvPicPr>
        <p:blipFill>
          <a:blip r:embed="rId1"/>
          <a:stretch/>
        </p:blipFill>
        <p:spPr>
          <a:xfrm>
            <a:off x="5715000" y="51055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1" name="NA00433_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2827440" cy="349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4:21:15Z</dcterms:created>
  <dc:creator>jxh</dc:creator>
  <dc:description/>
  <dc:language>en-US</dc:language>
  <cp:lastModifiedBy>jxh</cp:lastModifiedBy>
  <dcterms:modified xsi:type="dcterms:W3CDTF">2002-05-12T13:01:51Z</dcterms:modified>
  <cp:revision>56</cp:revision>
  <dc:subject/>
  <dc:title>Teaching design of Lesson 15 (Book I)</dc:title>
</cp:coreProperties>
</file>