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FF6-CD71-44D5-97FA-7FA5E9C5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AFC-2D90-4592-B3DA-7DE401E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396-E539-4C2C-9CA9-37BB02F6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249-57E5-4970-B68F-4D90B344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77BB-1ED3-48DD-AB6D-7D77230D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7572-CE87-4849-976A-08EF58C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E34B-8013-4C5B-98D9-3A650A28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E03D-09A0-438A-8B5F-ED69CD74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0633-7805-4DD8-B10B-24CA4B65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B31D-86E0-4E3A-817D-A6A36F6A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F9B3-1825-40E6-A22C-DEDC917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0EA-8594-4B62-AA6A-7F046E84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4F77-E1DC-4585-8B62-082755CA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60C-E75E-4963-BBF9-9F321E5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A1A4-6A95-45CF-8B41-79791877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A49A-4909-4BF4-8F43-B8F71E2E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C1CD-868E-4981-AD8A-7D36305A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5BF-F1F6-4950-8407-30D4A75F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9B0-8203-4C1A-B9DE-7CFA6F8D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86B-3227-4543-98D1-D8C3963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43E-B7B0-4580-9C97-5EF776AD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163-296A-45E1-B9E8-6CB71B32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0AB-2CCE-4669-B5CB-CBAD5336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B6E-4678-4C05-890E-84AB171A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DAD-5F47-487A-BAB4-823F435D5A7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2EBF-EDF2-4442-89C9-5EB330D70D9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zh-CN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2Z</dcterms:modified>
  <cp:revision>109</cp:revision>
  <dc:subject/>
  <dc:title>Unit 19 A freedom fighter (continued)</dc:title>
</cp:coreProperties>
</file>