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45D-0646-4705-BEFB-1EB59BE7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5EA-9A82-47BE-BF63-F38EF418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1F1-E99A-4852-AAC4-A56FDD71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E64-247A-4D0F-9954-217B8147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61D-C72D-4215-B932-B915E8F6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880-8F7E-4B90-8882-976AA4D6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C419-2DA7-47C9-8F10-77E1D9BC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A988-61C4-419A-965F-2DD0BD58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733C-6933-41DE-BE90-8052E2D6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306A-D587-46F7-B749-06580E3C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C225-117F-4D6A-AF75-349129E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EB4-C2D1-464E-8AF2-8A046B9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7131-C35C-4DAF-B8C9-5866100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348-4D0B-4D81-93EA-AAE90BA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C11A-C2F5-4A3F-934F-6BD97EC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270D-75A5-4600-8FCF-854C788F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E6DE-D80C-42E4-A63A-73F95DD5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83D-78FF-4FAD-B6DC-9FF667CC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FCA-00D4-4865-ACC6-DD0A54B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CA5-F39A-4921-AFD2-2CF2D58E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9D6-A5D3-4FBC-8A60-B5DD70E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3E4-D3C1-4998-84D3-50FACB6B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DE6-3ACD-4211-AC7C-5B767FE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AE7-0A22-43AA-8800-4F43915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858F-6476-4580-9999-E56F5B0B87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804-12BC-48D3-A2E4-35B7331336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6000" y="274284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  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Unit 23 (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下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)</a:t>
            </a:r>
            <a:br>
              <a:rPr sz="4400"/>
            </a:b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Lesson 91 Mobile ph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Lisa</cp:lastModifiedBy>
  <dcterms:modified xsi:type="dcterms:W3CDTF">2003-06-12T17:11:52Z</dcterms:modified>
  <cp:revision>109</cp:revision>
  <dc:subject/>
  <dc:title>Unit 19 A freedom fighter (continued)</dc:title>
</cp:coreProperties>
</file>