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AC1-9775-4D5D-B75A-86D4CABF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7EC-8D76-4589-9B72-76EBC83C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842-4DC2-4D4C-BEAD-E8EFAE1E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4D1-E899-4DA1-B617-FEFD12F2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ADFE-3577-43BD-AB80-DA893999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FBF0-6A28-42EE-8BFA-CA42C9DA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BB5F-B3EE-46E8-87C0-E4A02CEB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A1E-4C24-47ED-9E82-AA7A6314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96F2-5F25-423F-851B-36FEB98F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6BCD-8A2C-445B-82D9-059B4FB8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5C59-4D52-496A-A81D-858775F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68E-04E9-4DD6-8013-8DB0E361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FE47-DDE8-4282-9DC7-872F5E40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E688-D347-492D-AD37-C1ED73E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4DBB-DCFC-48E5-9D4E-26442AB4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C6D2-2F92-4DAB-ACA7-DB97B440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322A-16D2-45AC-9961-22E48E4F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A6F-B8FF-4385-BC99-343B79DF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32D-4ECB-4C36-B47A-08A36A7A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108-05D0-4CB1-8BC7-C8BC24B2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754-F6F3-4092-B038-09A9D378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00F-FD10-46CB-BD4E-8AEC1A11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748-944D-412C-96C2-B0CE3BB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C02-E576-4720-B63F-1F8DC502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DFF4-62B4-4925-AFB1-5AFAA389E5B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22D5-6CE3-4A0A-9C27-B3F0D87B15D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10667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Unit 21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What are you doing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1911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Lesson 8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5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焦作市第二十中学    张福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Corret the sentenc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8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I cleaning the house 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5909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He is listen to 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114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.He is write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562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They are run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am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leaning the house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276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 listen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876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216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run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E03166_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.Ask and answ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04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What’s he/she doing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5'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3" name="6'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7'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5" name="8'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905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267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22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33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444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219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685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.Read and ac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83808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.New wor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962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zh-CN" sz="7200" spc="-1" strike="noStrike" u="sng">
                <a:solidFill>
                  <a:srgbClr val="ffffff"/>
                </a:solidFill>
                <a:uFillTx/>
                <a:latin typeface="Times New Roman"/>
              </a:rPr>
              <a:t>ear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 v.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穿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i="1" lang="zh-CN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i="1" lang="zh-CN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zj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255" name="zj4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02920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wearing a co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48769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putting o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II.Quest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838080"/>
            <a:ext cx="9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1.What is she wearing?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851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uc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85144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张晶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133720" cy="4191120"/>
          </a:xfrm>
          <a:prstGeom prst="rect">
            <a:avLst/>
          </a:prstGeom>
          <a:ln w="0">
            <a:noFill/>
          </a:ln>
        </p:spPr>
      </p:pic>
      <p:pic>
        <p:nvPicPr>
          <p:cNvPr id="263" name="张晶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4572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666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I am coming.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现在进行时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BD00028_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.Duty repor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Who’s on duty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2.Is everyone here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1148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3.What day i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t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S00975_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733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9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Spelling and pronunc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00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e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ousers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in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00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895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nk  hu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d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895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038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ca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k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s/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038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s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2578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ir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frie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s/d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334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z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.Talk about the pictur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4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01981_" descr=""/>
          <p:cNvPicPr/>
          <p:nvPr/>
        </p:nvPicPr>
        <p:blipFill>
          <a:blip r:embed="rId1"/>
          <a:stretch/>
        </p:blipFill>
        <p:spPr>
          <a:xfrm>
            <a:off x="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24080" y="1676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woman is </a:t>
            </a:r>
            <a:r>
              <a:rPr b="0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i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s the woman ski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581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she i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572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is the woman      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D06518_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5049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sing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905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re they sing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124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they a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3434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50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.Stree and inton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is she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e’s mending her      b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are you 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’m cleaning the      wind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s he singing a      so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es,he      is./  No,he      isn’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088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37160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9092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24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8098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048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8769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.Grammer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Using the Present Continuous Tense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现在进行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现在进行时表示现在（说话瞬间）正在进行或发生的动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谓语结构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否定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not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疑问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re they  playing      footb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es,they      are./  No,they     are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049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动词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-ing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形式的构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914400"/>
          <a:ext cx="7772400" cy="5645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般在动词原形后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以不发音的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结尾的，去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，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重读闭音节以一个辅音字母结尾的，双写这一字母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.Add –ing to the following 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57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2819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73320"/>
            <a:ext cx="243828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3623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5053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715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2952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2362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05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638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7:54:41Z</dcterms:created>
  <dc:creator>user5</dc:creator>
  <dc:description/>
  <dc:language>en-US</dc:language>
  <cp:lastModifiedBy>user</cp:lastModifiedBy>
  <dcterms:modified xsi:type="dcterms:W3CDTF">2002-04-09T07:34:48Z</dcterms:modified>
  <cp:revision>47</cp:revision>
  <dc:subject/>
  <dc:title>PowerPoint 演示文稿</dc:title>
</cp:coreProperties>
</file>