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21.wmf" ContentType="image/x-wmf"/>
  <Override PartName="/ppt/media/image19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png" ContentType="image/pn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5CC6-7F75-43D4-8342-964404FA8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5A7D-1A0A-46D5-A7CA-C81E12DE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083C-9E42-4DFC-A835-E9A96B8A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7114-5BA7-416A-8AAD-0F37B7A2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6AFB-E420-4CF8-8CB4-04F58674A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A7DA-F75E-42C5-840B-F7A07D8B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B133-5F7D-49CC-ACD6-D68A47FB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FB9D-B9A6-4041-B541-D081C6DC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8AE3-CE33-4A31-BFDA-C230710E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C5FD-779F-40EF-B893-32A0923D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EAD7-1E89-42A2-A438-4DD9B994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D453-D54B-4D8A-8871-EB0251FC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0E0F-9633-4DE3-8E1C-4B6BD85F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98D5-5629-4AF5-BC26-624B146F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3520-1EDA-421D-B619-17FE6A1B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F48D-922E-4519-BD93-ECCE8C1C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2535-0D7F-4DE6-A021-3593FB097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7EA7-9C36-42DD-9B09-4C50181A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36CB-5436-4243-9E6A-EEEB32E0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C29A-147D-498E-96E5-68EAFF68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8C63-3D6A-4810-81C0-667EB607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6946-1F18-4FFC-90E1-A43DB59C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B108-5A51-41AB-8F2B-1002BB65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5ED5-6922-4BAE-BB07-2F90E48A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E93C-D0BE-4431-A034-245A2306F11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B538-E3A8-47A9-BF2B-20336CD3446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19.jpeg"/><Relationship Id="rId3" Type="http://schemas.openxmlformats.org/officeDocument/2006/relationships/image" Target="../media/image21.wmf"/><Relationship Id="rId4" Type="http://schemas.openxmlformats.org/officeDocument/2006/relationships/slide" Target="slide42.xml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58.xml"/><Relationship Id="rId3" Type="http://schemas.openxmlformats.org/officeDocument/2006/relationships/slide" Target="slide57.xml"/><Relationship Id="rId4" Type="http://schemas.openxmlformats.org/officeDocument/2006/relationships/slide" Target="slide61.xml"/><Relationship Id="rId5" Type="http://schemas.openxmlformats.org/officeDocument/2006/relationships/slide" Target="slide59.xml"/><Relationship Id="rId6" Type="http://schemas.openxmlformats.org/officeDocument/2006/relationships/slide" Target="slide50.xml"/><Relationship Id="rId7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jpeg"/><Relationship Id="rId3" Type="http://schemas.openxmlformats.org/officeDocument/2006/relationships/image" Target="../media/image16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116000" y="2742840"/>
            <a:ext cx="77724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李    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学高级教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北师大实验中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日播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11600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Times New Roman"/>
              </a:rPr>
              <a:t>Unit 23 (</a:t>
            </a:r>
            <a:r>
              <a:rPr b="1" lang="zh-CN" sz="4400" spc="-1" strike="noStrike">
                <a:solidFill>
                  <a:srgbClr val="00ffff"/>
                </a:solidFill>
                <a:latin typeface="Times New Roman"/>
              </a:rPr>
              <a:t>下</a:t>
            </a:r>
            <a:r>
              <a:rPr b="1" lang="zh-CN" sz="4400" spc="-1" strike="noStrike">
                <a:solidFill>
                  <a:srgbClr val="00ffff"/>
                </a:solidFill>
                <a:latin typeface="Times New Roman"/>
              </a:rPr>
              <a:t>)</a:t>
            </a:r>
            <a:br>
              <a:rPr sz="4400"/>
            </a:br>
            <a:r>
              <a:rPr b="1" lang="zh-CN" sz="4400" spc="-1" strike="noStrike">
                <a:solidFill>
                  <a:srgbClr val="00ffff"/>
                </a:solidFill>
                <a:latin typeface="Times New Roman"/>
              </a:rPr>
              <a:t>Lesson 91 Mobile phon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ut the following in correct ord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057400" y="16761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ordless phone can be useful within certain dist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nokia3210_mainpage_s1" descr=""/>
          <p:cNvPicPr/>
          <p:nvPr/>
        </p:nvPicPr>
        <p:blipFill>
          <a:blip r:embed="rId1"/>
          <a:stretch/>
        </p:blipFill>
        <p:spPr>
          <a:xfrm>
            <a:off x="1295280" y="4267080"/>
            <a:ext cx="685800" cy="990720"/>
          </a:xfrm>
          <a:prstGeom prst="rect">
            <a:avLst/>
          </a:prstGeom>
          <a:ln w="0">
            <a:noFill/>
          </a:ln>
        </p:spPr>
      </p:pic>
      <p:pic>
        <p:nvPicPr>
          <p:cNvPr id="185" name="m3" descr=""/>
          <p:cNvPicPr/>
          <p:nvPr/>
        </p:nvPicPr>
        <p:blipFill>
          <a:blip r:embed="rId2"/>
          <a:stretch/>
        </p:blipFill>
        <p:spPr>
          <a:xfrm>
            <a:off x="1219320" y="2895480"/>
            <a:ext cx="709560" cy="965160"/>
          </a:xfrm>
          <a:prstGeom prst="rect">
            <a:avLst/>
          </a:prstGeom>
          <a:ln w="0">
            <a:noFill/>
          </a:ln>
        </p:spPr>
      </p:pic>
      <p:pic>
        <p:nvPicPr>
          <p:cNvPr id="186" name="images4" descr=""/>
          <p:cNvPicPr/>
          <p:nvPr/>
        </p:nvPicPr>
        <p:blipFill>
          <a:blip r:embed="rId3"/>
          <a:stretch/>
        </p:blipFill>
        <p:spPr>
          <a:xfrm>
            <a:off x="1219320" y="1676520"/>
            <a:ext cx="641160" cy="768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209680" y="2971800"/>
            <a:ext cx="55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The new model can recognize your voi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62320" y="4343400"/>
            <a:ext cx="5562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You can take a mobile phone with you wherever you 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eck the answ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057400" y="2819160"/>
            <a:ext cx="6019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ordless phone can be useful within certain dist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nokia3210_mainpage_s1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85800" cy="990720"/>
          </a:xfrm>
          <a:prstGeom prst="rect">
            <a:avLst/>
          </a:prstGeom>
          <a:ln w="0">
            <a:noFill/>
          </a:ln>
        </p:spPr>
      </p:pic>
      <p:pic>
        <p:nvPicPr>
          <p:cNvPr id="192" name="m3" descr=""/>
          <p:cNvPicPr/>
          <p:nvPr/>
        </p:nvPicPr>
        <p:blipFill>
          <a:blip r:embed="rId2"/>
          <a:stretch/>
        </p:blipFill>
        <p:spPr>
          <a:xfrm>
            <a:off x="1219320" y="4114800"/>
            <a:ext cx="709560" cy="965160"/>
          </a:xfrm>
          <a:prstGeom prst="rect">
            <a:avLst/>
          </a:prstGeom>
          <a:ln w="0">
            <a:noFill/>
          </a:ln>
        </p:spPr>
      </p:pic>
      <p:pic>
        <p:nvPicPr>
          <p:cNvPr id="193" name="images4" descr=""/>
          <p:cNvPicPr/>
          <p:nvPr/>
        </p:nvPicPr>
        <p:blipFill>
          <a:blip r:embed="rId3"/>
          <a:stretch/>
        </p:blipFill>
        <p:spPr>
          <a:xfrm>
            <a:off x="1219320" y="2819520"/>
            <a:ext cx="641160" cy="7682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133720" y="4114800"/>
            <a:ext cx="5562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The new model can recognize your voi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1676520"/>
            <a:ext cx="5562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You can take a mobile phone with you wherever you 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ou can take it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wherever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you go…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3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81080" y="3657600"/>
            <a:ext cx="3657600" cy="990720"/>
          </a:xfrm>
          <a:prstGeom prst="wedgeRectCallout">
            <a:avLst>
              <a:gd name="adj1" fmla="val 52560"/>
              <a:gd name="adj2" fmla="val -16955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e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219320" y="16765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e found people friendly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erever/ no matter where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e 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 will find her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ere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/ wher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he may b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on’t keep him waiting,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at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you do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at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you 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o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 is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o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it is, I don’t want to see hi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 has the same result,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ich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ich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ay you do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en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en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 come here , it rai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75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hatever, whoever, which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还可以引导名词性从句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这时 –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ever                     no matter wh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3962520"/>
            <a:ext cx="16002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505320" y="3581280"/>
            <a:ext cx="914400" cy="8384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3428640" y="3580920"/>
            <a:ext cx="1143000" cy="76212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on’t keep him waiting,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at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you do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at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you 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  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at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(Anything that) he did was righ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rite to him or her,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who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you wa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rite to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o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(anyone who) you wan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 has the same result,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ichever / no matter which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ay you do i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You should wear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ich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ress(any dress that) suits you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Unit 23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下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Lesson 91 Mobile phon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895480" y="2057400"/>
            <a:ext cx="4273560" cy="3733920"/>
            <a:chOff x="2895480" y="2057400"/>
            <a:chExt cx="4273560" cy="3733920"/>
          </a:xfrm>
        </p:grpSpPr>
        <p:pic>
          <p:nvPicPr>
            <p:cNvPr id="150" name="mob,p,%20pic" descr=""/>
            <p:cNvPicPr/>
            <p:nvPr/>
          </p:nvPicPr>
          <p:blipFill>
            <a:blip r:embed="rId1"/>
            <a:stretch/>
          </p:blipFill>
          <p:spPr>
            <a:xfrm>
              <a:off x="5568840" y="4038480"/>
              <a:ext cx="1600200" cy="16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mob,p5" descr=""/>
            <p:cNvPicPr/>
            <p:nvPr/>
          </p:nvPicPr>
          <p:blipFill>
            <a:blip r:embed="rId2"/>
            <a:stretch/>
          </p:blipFill>
          <p:spPr>
            <a:xfrm>
              <a:off x="2901960" y="4038480"/>
              <a:ext cx="1600200" cy="175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m2" descr=""/>
            <p:cNvPicPr/>
            <p:nvPr/>
          </p:nvPicPr>
          <p:blipFill>
            <a:blip r:embed="rId3"/>
            <a:stretch/>
          </p:blipFill>
          <p:spPr>
            <a:xfrm>
              <a:off x="2895480" y="2057400"/>
              <a:ext cx="162252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mob,%20p4" descr=""/>
            <p:cNvPicPr/>
            <p:nvPr/>
          </p:nvPicPr>
          <p:blipFill>
            <a:blip r:embed="rId4"/>
            <a:stretch/>
          </p:blipFill>
          <p:spPr>
            <a:xfrm>
              <a:off x="5568840" y="2057400"/>
              <a:ext cx="1600200" cy="160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hatever, whoever, which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引导主语或宾语从句时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这时 –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ever                     no matter wh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hatever, whoever, which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与其它的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-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引导状语从句时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         –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ever                     no matter wh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71800" y="4952880"/>
            <a:ext cx="16002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352320" y="2895120"/>
            <a:ext cx="1143000" cy="838800"/>
            <a:chOff x="3352320" y="2895120"/>
            <a:chExt cx="1143000" cy="838800"/>
          </a:xfrm>
        </p:grpSpPr>
        <p:sp>
          <p:nvSpPr>
            <p:cNvPr id="220" name=""/>
            <p:cNvSpPr/>
            <p:nvPr/>
          </p:nvSpPr>
          <p:spPr>
            <a:xfrm flipH="1">
              <a:off x="3429000" y="2895480"/>
              <a:ext cx="914400" cy="83844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3352320" y="2895120"/>
              <a:ext cx="1143000" cy="76212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124080" y="3276720"/>
            <a:ext cx="16002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 In other words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,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you can walk…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10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3733920"/>
            <a:ext cx="3657600" cy="990360"/>
          </a:xfrm>
          <a:prstGeom prst="wedgeRectCallout">
            <a:avLst>
              <a:gd name="adj1" fmla="val 13106"/>
              <a:gd name="adj2" fmla="val -17211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ch is the same by saying; that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kind of phone is cordless  --- 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in other words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, it has no cords or wir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13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I want to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remind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you that we’ve got a meeting next Monday.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 P65 Line 2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8120" y="3962520"/>
            <a:ext cx="4343400" cy="990360"/>
          </a:xfrm>
          <a:prstGeom prst="wedgeRectCallout">
            <a:avLst>
              <a:gd name="adj1" fmla="val -16666"/>
              <a:gd name="adj2" fmla="val -19262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tell or cause (someone) to reme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914040" y="1676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’ve forgotten his name --- will you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remind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me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of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66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Remind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me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to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rite to Mum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sight of the clock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reminded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me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that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I was lat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13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One question is how much money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is due to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be paid.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 Practice 3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4114800"/>
            <a:ext cx="4952880" cy="1066680"/>
          </a:xfrm>
          <a:prstGeom prst="wedgeRectCallout">
            <a:avLst>
              <a:gd name="adj1" fmla="val -4388"/>
              <a:gd name="adj2" fmla="val -14836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 expected/ supposed ( to happen or arrive, etc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914400" y="16765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Mr Smith is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due to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give the lecture twice tomorrow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Cf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 accident was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due to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/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because of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careless drivin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13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5. The problem is how much we should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charg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or the new mobile phone.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Practice3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4191120"/>
            <a:ext cx="4038480" cy="609480"/>
          </a:xfrm>
          <a:prstGeom prst="wedgeRectCallout">
            <a:avLst>
              <a:gd name="adj1" fmla="val 9944"/>
              <a:gd name="adj2" fmla="val -23073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ask in pa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914400" y="16765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y tried to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harge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me $80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fo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 room for a nigh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218960" y="1752480"/>
            <a:ext cx="713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charge  (v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sk in pay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ccus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控告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指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was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charged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ith stealing the jewels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Goals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教学目标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238880" cy="40384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We will be able 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1. have a general idea of mobile telephon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2. know how to use some words and expressi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218960" y="1752480"/>
            <a:ext cx="713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charge  (v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sk in pay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ccus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控告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指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take in and store electric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 often have to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charg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the phone batte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harge  (n.)---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price asked or pai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phone will be repaired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free of charge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f it goes wrong.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68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ll in the blanks with  “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-ev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___1___    I said, he would disagre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___2___     you go, I go to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 will discuss it with you ___3___ you lik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2743200"/>
            <a:ext cx="18288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at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3352680"/>
            <a:ext cx="18288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r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3886200"/>
            <a:ext cx="2133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ll in the blanks with  “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-ev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___4___      hard the task may be, we’ll try to finish it in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___5___       book you borrow, you must return it within a we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3048120"/>
            <a:ext cx="18288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ow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00200" y="4267080"/>
            <a:ext cx="20574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ich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hich “-ever”  = “no matter wh-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 will do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atever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you wis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Don’t lose heart,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atever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you 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5334120"/>
            <a:ext cx="2971800" cy="609480"/>
          </a:xfrm>
          <a:prstGeom prst="wedgeRectCallout">
            <a:avLst>
              <a:gd name="adj1" fmla="val 43962"/>
              <a:gd name="adj2" fmla="val -1388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hich “-ever”  = “no matter wh-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oever</a:t>
            </a:r>
            <a:r>
              <a:rPr b="1" lang="zh-CN" sz="3200" spc="-1" strike="noStrike">
                <a:solidFill>
                  <a:srgbClr val="33cc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wants to see me, tell him I’m bus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oever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makes mistakes must correct them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3733920"/>
            <a:ext cx="2971800" cy="609480"/>
          </a:xfrm>
          <a:prstGeom prst="wedgeRectCallout">
            <a:avLst>
              <a:gd name="adj1" fmla="val -77833"/>
              <a:gd name="adj2" fmla="val -7343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hich “-ever”  = “no matter wh-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You can tak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icheve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room you pref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t will take 3 hours,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 whichever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way you do it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4876920"/>
            <a:ext cx="3276360" cy="609480"/>
          </a:xfrm>
          <a:prstGeom prst="wedgeRectCallout">
            <a:avLst>
              <a:gd name="adj1" fmla="val -240"/>
              <a:gd name="adj2" fmla="val -84634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“of”, “that”, “to” or “/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lease remind me ___1___     I must call him up before no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picture reminded me ___2___ the days in Par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29200" y="2971800"/>
            <a:ext cx="12952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477120" y="4038480"/>
            <a:ext cx="83808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75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“of”, “that”, “to” or “/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f I forget, please remind ___3___ 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lease remind me ___4___  answer that let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172200" y="2895480"/>
            <a:ext cx="9144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3962520"/>
            <a:ext cx="7621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lp her decide which to buy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42640" y="38862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empus Sans ITC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I’m a woman teacher. I just need a mobile phone to call  my friends or receive calls from them. I don’t want to spend too much time on the ph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j0198594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2286000" cy="1733400"/>
          </a:xfrm>
          <a:prstGeom prst="rect">
            <a:avLst/>
          </a:prstGeom>
          <a:ln w="0">
            <a:noFill/>
          </a:ln>
        </p:spPr>
      </p:pic>
      <p:pic>
        <p:nvPicPr>
          <p:cNvPr id="278" name="nokia%208210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1295280" cy="1578240"/>
          </a:xfrm>
          <a:prstGeom prst="rect">
            <a:avLst/>
          </a:prstGeom>
          <a:ln w="0">
            <a:noFill/>
          </a:ln>
        </p:spPr>
      </p:pic>
      <p:pic>
        <p:nvPicPr>
          <p:cNvPr id="279" name="samsung" descr=""/>
          <p:cNvPicPr/>
          <p:nvPr/>
        </p:nvPicPr>
        <p:blipFill>
          <a:blip r:embed="rId3"/>
          <a:stretch/>
        </p:blipFill>
        <p:spPr>
          <a:xfrm>
            <a:off x="6324480" y="1600200"/>
            <a:ext cx="1309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505320" y="472428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bile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dj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mobile%20library%202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2819520" cy="1981080"/>
          </a:xfrm>
          <a:prstGeom prst="rect">
            <a:avLst/>
          </a:prstGeom>
          <a:ln w="0">
            <a:noFill/>
          </a:ln>
        </p:spPr>
      </p:pic>
      <p:pic>
        <p:nvPicPr>
          <p:cNvPr id="159" name="mobile%20library%205" descr=""/>
          <p:cNvPicPr/>
          <p:nvPr/>
        </p:nvPicPr>
        <p:blipFill>
          <a:blip r:embed="rId2"/>
          <a:stretch/>
        </p:blipFill>
        <p:spPr>
          <a:xfrm>
            <a:off x="5257800" y="2273400"/>
            <a:ext cx="302256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lp him decide which to buy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18960" y="36576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I’m a young man. I like all fashionable things. I often chat with my friends on the phone or on line. I  hope to be loved by th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nokia%208210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0" y="1752480"/>
            <a:ext cx="1438200" cy="1752840"/>
          </a:xfrm>
          <a:prstGeom prst="rect">
            <a:avLst/>
          </a:prstGeom>
          <a:ln w="0">
            <a:noFill/>
          </a:ln>
        </p:spPr>
      </p:pic>
      <p:pic>
        <p:nvPicPr>
          <p:cNvPr id="283" name="j0285696" descr=""/>
          <p:cNvPicPr/>
          <p:nvPr/>
        </p:nvPicPr>
        <p:blipFill>
          <a:blip r:embed="rId3"/>
          <a:stretch/>
        </p:blipFill>
        <p:spPr>
          <a:xfrm>
            <a:off x="1828800" y="1600200"/>
            <a:ext cx="1549440" cy="1827360"/>
          </a:xfrm>
          <a:prstGeom prst="rect">
            <a:avLst/>
          </a:prstGeom>
          <a:ln w="0">
            <a:noFill/>
          </a:ln>
        </p:spPr>
      </p:pic>
      <p:pic>
        <p:nvPicPr>
          <p:cNvPr id="284" name="samsung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324480" y="1600200"/>
            <a:ext cx="1309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  <a:ea typeface="Arial"/>
              </a:rPr>
              <a:t>Nokia 8210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1144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Phon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Fashionable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Voice dialing for up to 8 nam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SMS and picture messa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Clock, alarm cloc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nokia%208210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259848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  <a:ea typeface="Arial"/>
              </a:rPr>
              <a:t>Samsung SGH-V205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9621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Arial"/>
              </a:rPr>
              <a:t>Phon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Built-in digital cam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100 picture stor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Colour  scr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Free flash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500+ SIM phonebook capa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high speed on lin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samsung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215568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495680" y="1143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msung SGH-V2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j0285696" descr=""/>
          <p:cNvPicPr/>
          <p:nvPr/>
        </p:nvPicPr>
        <p:blipFill>
          <a:blip r:embed="rId1"/>
          <a:stretch/>
        </p:blipFill>
        <p:spPr>
          <a:xfrm>
            <a:off x="1330200" y="1946160"/>
            <a:ext cx="3489480" cy="4114800"/>
          </a:xfrm>
          <a:prstGeom prst="rect">
            <a:avLst/>
          </a:prstGeom>
          <a:ln w="0">
            <a:noFill/>
          </a:ln>
        </p:spPr>
      </p:pic>
      <p:pic>
        <p:nvPicPr>
          <p:cNvPr id="294" name="samsung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215568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724280" y="1143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kia 82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j0198594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3809880" cy="2889360"/>
          </a:xfrm>
          <a:prstGeom prst="rect">
            <a:avLst/>
          </a:prstGeom>
          <a:ln w="0">
            <a:noFill/>
          </a:ln>
        </p:spPr>
      </p:pic>
      <p:pic>
        <p:nvPicPr>
          <p:cNvPr id="298" name="nokia%208210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259884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4 Ex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.   The baby was fed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frequentl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2.1  I have lived in a small house whose door opened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directly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onto the stre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2.2  It is quite useful to have a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redirectio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ith your telephone</a:t>
            </a:r>
            <a:r>
              <a:rPr b="0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4 Ex2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3.1    … but I had no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strengt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to go back for a rainco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3.2    We are making efforts to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strengthe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the relationship between the two si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4 Ex2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4.1    She does very well in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chemistr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and phys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4.2    The change from water to ice is not a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chemical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ch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.  This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a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e need for the experi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2.  The question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how muc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money we can collect for special educ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3.  The problem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tha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the electrical signals get weaker and weaker as they travel along metal wi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4. This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e must get support from the govern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1" name="cordless,%20Samsung%20SGH-V205" descr=""/>
          <p:cNvPicPr/>
          <p:nvPr/>
        </p:nvPicPr>
        <p:blipFill>
          <a:blip r:embed="rId1"/>
          <a:stretch/>
        </p:blipFill>
        <p:spPr>
          <a:xfrm>
            <a:off x="5105520" y="23623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3520" y="2666880"/>
            <a:ext cx="33260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mobile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ellular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ell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hand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5.  One question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how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e use glass pipes to send light signals instead of metal wi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6.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How man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countries will take part in the next Asian Games is not yet know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7. 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ic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company will take up the project must be decided to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8.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o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ill go to see the sick and the injured is very importa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9. 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ere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the top secret document was kept was not known till the revolution star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0.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eth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both of them should be hired needs to be conside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1. 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ose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English is the best can be judged by tes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Compare the two sentences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The new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that he had won the priz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as tr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The new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that he told me yesterday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as tr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05320" y="4419720"/>
            <a:ext cx="3276360" cy="609480"/>
          </a:xfrm>
          <a:prstGeom prst="wedgeRectCallout">
            <a:avLst>
              <a:gd name="adj1" fmla="val -1402"/>
              <a:gd name="adj2" fmla="val -12161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581280" y="2743200"/>
            <a:ext cx="3276720" cy="609480"/>
          </a:xfrm>
          <a:prstGeom prst="wedgeRectCallout">
            <a:avLst>
              <a:gd name="adj1" fmla="val -240"/>
              <a:gd name="adj2" fmla="val -106773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位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6765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choose 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28954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>
            <a:hlinkClick r:id="rId1" action="ppaction://hlinksldjump"/>
          </p:cNvPr>
          <p:cNvSpPr/>
          <p:nvPr/>
        </p:nvSpPr>
        <p:spPr>
          <a:xfrm>
            <a:off x="4572000" y="43434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>
            <a:hlinkClick r:id="rId2" action="ppaction://hlinksldjump"/>
          </p:cNvPr>
          <p:cNvSpPr/>
          <p:nvPr/>
        </p:nvSpPr>
        <p:spPr>
          <a:xfrm>
            <a:off x="6248520" y="29718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>
            <a:hlinkClick r:id="rId3" action="ppaction://hlinksldjump"/>
          </p:cNvPr>
          <p:cNvSpPr/>
          <p:nvPr/>
        </p:nvSpPr>
        <p:spPr>
          <a:xfrm>
            <a:off x="44956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>
            <a:hlinkClick r:id="rId4" action="ppaction://hlinksldjump"/>
          </p:cNvPr>
          <p:cNvSpPr/>
          <p:nvPr/>
        </p:nvSpPr>
        <p:spPr>
          <a:xfrm>
            <a:off x="6248520" y="4267080"/>
            <a:ext cx="838080" cy="83844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>
            <a:hlinkClick r:id="rId5" action="ppaction://hlinksldjump"/>
          </p:cNvPr>
          <p:cNvSpPr/>
          <p:nvPr/>
        </p:nvSpPr>
        <p:spPr>
          <a:xfrm>
            <a:off x="2895480" y="434340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>
            <a:hlinkClick r:id="rId6" action="ppaction://hlinksldjump"/>
          </p:cNvPr>
          <p:cNvSpPr/>
          <p:nvPr/>
        </p:nvSpPr>
        <p:spPr>
          <a:xfrm>
            <a:off x="800100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.  It worried her a bit 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er hair was turning gray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 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ile              B. that  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if                     D.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>
            <a:hlinkClick r:id="" action="ppaction://hlinkshowjump?jump=previousslide"/>
          </p:cNvPr>
          <p:cNvSpPr/>
          <p:nvPr/>
        </p:nvSpPr>
        <p:spPr>
          <a:xfrm>
            <a:off x="5181480" y="32004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____ he said at the meeting astonished everybody prese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 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What            B. That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fact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>
            <a:hlinkClick r:id="rId1" action="ppaction://hlinksldjump"/>
          </p:cNvPr>
          <p:cNvSpPr/>
          <p:nvPr/>
        </p:nvSpPr>
        <p:spPr>
          <a:xfrm>
            <a:off x="1905120" y="32767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 _____ you don't like him 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ne of my busines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o 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at   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They have no idea at all 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ere he has gone          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 did he 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which place has he gone  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ich place he has g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1219320" y="26668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362320" y="4495680"/>
            <a:ext cx="50292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mart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dj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smart1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2438640" cy="21668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6" name="smart%20student" descr=""/>
          <p:cNvPicPr/>
          <p:nvPr/>
        </p:nvPicPr>
        <p:blipFill>
          <a:blip r:embed="rId2"/>
          <a:stretch/>
        </p:blipFill>
        <p:spPr>
          <a:xfrm>
            <a:off x="5867280" y="1828800"/>
            <a:ext cx="1573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5.  Go and get your coat. It's ____  you  left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there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plac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place w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>
            <a:hlinkClick r:id="rId1" action="ppaction://hlinksldjump"/>
          </p:cNvPr>
          <p:cNvSpPr/>
          <p:nvPr/>
        </p:nvSpPr>
        <p:spPr>
          <a:xfrm>
            <a:off x="1523880" y="373392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6. They want to know ___ d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help u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 can they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at they c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how they can 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how can th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2742840" y="2133360"/>
            <a:ext cx="4419720" cy="2514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e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mi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e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other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Lesson 91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218960" y="1599840"/>
            <a:ext cx="7010280" cy="4267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词性从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at is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why he decided to buy a mobile ph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cc66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Who made the long distance call to hi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s not importa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fact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that we lack enough phone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needs to be conside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need to think about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what we should say to the call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the whole uni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142640" y="2362320"/>
            <a:ext cx="7010280" cy="2133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接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 can take it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wherever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 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grow wiser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as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grow old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the whole uni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2895480" y="1676520"/>
            <a:ext cx="4267440" cy="4114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短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ave… 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get tog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ll the b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ave a word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n other wo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ree of char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the whole uni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92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Ex. 1 &amp;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et on line and try to search a new mobile phone model which has more attractive features than Samsung V205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bile phone picture collectio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59" name="mob,%20p4" descr=""/>
          <p:cNvPicPr/>
          <p:nvPr/>
        </p:nvPicPr>
        <p:blipFill>
          <a:blip r:embed="rId1"/>
          <a:stretch/>
        </p:blipFill>
        <p:spPr>
          <a:xfrm>
            <a:off x="2209680" y="2120760"/>
            <a:ext cx="1913040" cy="1806840"/>
          </a:xfrm>
          <a:prstGeom prst="rect">
            <a:avLst/>
          </a:prstGeom>
          <a:ln w="0">
            <a:noFill/>
          </a:ln>
        </p:spPr>
      </p:pic>
      <p:pic>
        <p:nvPicPr>
          <p:cNvPr id="360" name="mob,p,%20pic" descr=""/>
          <p:cNvPicPr/>
          <p:nvPr/>
        </p:nvPicPr>
        <p:blipFill>
          <a:blip r:embed="rId2"/>
          <a:stretch/>
        </p:blipFill>
        <p:spPr>
          <a:xfrm>
            <a:off x="5181480" y="2044800"/>
            <a:ext cx="1905120" cy="1841400"/>
          </a:xfrm>
          <a:prstGeom prst="rect">
            <a:avLst/>
          </a:prstGeom>
          <a:ln w="0">
            <a:noFill/>
          </a:ln>
        </p:spPr>
      </p:pic>
      <p:pic>
        <p:nvPicPr>
          <p:cNvPr id="361" name="m2" descr=""/>
          <p:cNvPicPr/>
          <p:nvPr/>
        </p:nvPicPr>
        <p:blipFill>
          <a:blip r:embed="rId3"/>
          <a:stretch/>
        </p:blipFill>
        <p:spPr>
          <a:xfrm>
            <a:off x="2286000" y="4038480"/>
            <a:ext cx="1832040" cy="1981440"/>
          </a:xfrm>
          <a:prstGeom prst="rect">
            <a:avLst/>
          </a:prstGeom>
          <a:ln w="0">
            <a:noFill/>
          </a:ln>
        </p:spPr>
      </p:pic>
      <p:pic>
        <p:nvPicPr>
          <p:cNvPr id="362" name="mob,p5" descr=""/>
          <p:cNvPicPr/>
          <p:nvPr/>
        </p:nvPicPr>
        <p:blipFill>
          <a:blip r:embed="rId4"/>
          <a:stretch/>
        </p:blipFill>
        <p:spPr>
          <a:xfrm>
            <a:off x="5257800" y="4114800"/>
            <a:ext cx="1828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obile 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64" name="cordless,%20Samsung%20SGH-V205" descr=""/>
          <p:cNvPicPr/>
          <p:nvPr/>
        </p:nvPicPr>
        <p:blipFill>
          <a:blip r:embed="rId1"/>
          <a:stretch/>
        </p:blipFill>
        <p:spPr>
          <a:xfrm>
            <a:off x="5410080" y="4114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65" name="Nokia%207210" descr=""/>
          <p:cNvPicPr/>
          <p:nvPr/>
        </p:nvPicPr>
        <p:blipFill>
          <a:blip r:embed="rId2"/>
          <a:stretch/>
        </p:blipFill>
        <p:spPr>
          <a:xfrm>
            <a:off x="5715000" y="1752480"/>
            <a:ext cx="1189080" cy="1981440"/>
          </a:xfrm>
          <a:prstGeom prst="rect">
            <a:avLst/>
          </a:prstGeom>
          <a:ln w="0">
            <a:noFill/>
          </a:ln>
        </p:spPr>
      </p:pic>
      <p:pic>
        <p:nvPicPr>
          <p:cNvPr id="366" name="m3" descr=""/>
          <p:cNvPicPr/>
          <p:nvPr/>
        </p:nvPicPr>
        <p:blipFill>
          <a:blip r:embed="rId3"/>
          <a:stretch/>
        </p:blipFill>
        <p:spPr>
          <a:xfrm>
            <a:off x="2743200" y="4114800"/>
            <a:ext cx="1457280" cy="1981080"/>
          </a:xfrm>
          <a:prstGeom prst="rect">
            <a:avLst/>
          </a:prstGeom>
          <a:ln w="0">
            <a:noFill/>
          </a:ln>
        </p:spPr>
      </p:pic>
      <p:pic>
        <p:nvPicPr>
          <p:cNvPr id="367" name="nokia3210_mainpage_s1" descr=""/>
          <p:cNvPicPr/>
          <p:nvPr/>
        </p:nvPicPr>
        <p:blipFill>
          <a:blip r:embed="rId4"/>
          <a:stretch/>
        </p:blipFill>
        <p:spPr>
          <a:xfrm>
            <a:off x="2666880" y="1676520"/>
            <a:ext cx="1447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obile 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69" name="mobile2" descr=""/>
          <p:cNvPicPr/>
          <p:nvPr/>
        </p:nvPicPr>
        <p:blipFill>
          <a:blip r:embed="rId1"/>
          <a:stretch/>
        </p:blipFill>
        <p:spPr>
          <a:xfrm>
            <a:off x="5334120" y="4191120"/>
            <a:ext cx="2057400" cy="1809720"/>
          </a:xfrm>
          <a:prstGeom prst="rect">
            <a:avLst/>
          </a:prstGeom>
          <a:ln w="0">
            <a:noFill/>
          </a:ln>
        </p:spPr>
      </p:pic>
      <p:pic>
        <p:nvPicPr>
          <p:cNvPr id="370" name="motorola2" descr=""/>
          <p:cNvPicPr/>
          <p:nvPr/>
        </p:nvPicPr>
        <p:blipFill>
          <a:blip r:embed="rId2"/>
          <a:stretch/>
        </p:blipFill>
        <p:spPr>
          <a:xfrm>
            <a:off x="2362320" y="4038480"/>
            <a:ext cx="1944720" cy="1981440"/>
          </a:xfrm>
          <a:prstGeom prst="rect">
            <a:avLst/>
          </a:prstGeom>
          <a:ln w="0">
            <a:noFill/>
          </a:ln>
        </p:spPr>
      </p:pic>
      <p:pic>
        <p:nvPicPr>
          <p:cNvPr id="371" name="motorola1" descr=""/>
          <p:cNvPicPr/>
          <p:nvPr/>
        </p:nvPicPr>
        <p:blipFill>
          <a:blip r:embed="rId3"/>
          <a:stretch/>
        </p:blipFill>
        <p:spPr>
          <a:xfrm>
            <a:off x="2362320" y="1752480"/>
            <a:ext cx="1968480" cy="1981440"/>
          </a:xfrm>
          <a:prstGeom prst="rect">
            <a:avLst/>
          </a:prstGeom>
          <a:ln w="0">
            <a:noFill/>
          </a:ln>
        </p:spPr>
      </p:pic>
      <p:pic>
        <p:nvPicPr>
          <p:cNvPr id="372" name="mobile1" descr=""/>
          <p:cNvPicPr/>
          <p:nvPr/>
        </p:nvPicPr>
        <p:blipFill>
          <a:blip r:embed="rId4"/>
          <a:stretch/>
        </p:blipFill>
        <p:spPr>
          <a:xfrm>
            <a:off x="5257800" y="17524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057040" y="43434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rd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cord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1677960" cy="1981440"/>
          </a:xfrm>
          <a:prstGeom prst="rect">
            <a:avLst/>
          </a:prstGeom>
          <a:ln w="0">
            <a:noFill/>
          </a:ln>
        </p:spPr>
      </p:pic>
      <p:pic>
        <p:nvPicPr>
          <p:cNvPr id="169" name="cordless%20phone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1752840" cy="1981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495680" y="43434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rdless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dj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294920" y="4572000"/>
            <a:ext cx="3581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stant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j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distance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1601640" cy="25146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5" name="distance%201" descr=""/>
          <p:cNvPicPr/>
          <p:nvPr/>
        </p:nvPicPr>
        <p:blipFill>
          <a:blip r:embed="rId2"/>
          <a:stretch/>
        </p:blipFill>
        <p:spPr>
          <a:xfrm>
            <a:off x="4876920" y="1940040"/>
            <a:ext cx="2514600" cy="2315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867280" y="2666880"/>
            <a:ext cx="838440" cy="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4572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stance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352320" y="4343040"/>
            <a:ext cx="3783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nounce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announce" descr=""/>
          <p:cNvPicPr/>
          <p:nvPr/>
        </p:nvPicPr>
        <p:blipFill>
          <a:blip r:embed="rId1"/>
          <a:stretch/>
        </p:blipFill>
        <p:spPr>
          <a:xfrm>
            <a:off x="4167360" y="1752480"/>
            <a:ext cx="1730160" cy="25146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48006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nouncement  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2:42:50Z</dcterms:created>
  <dc:creator>any</dc:creator>
  <dc:description/>
  <dc:language>en-US</dc:language>
  <cp:lastModifiedBy>Lisa</cp:lastModifiedBy>
  <dcterms:modified xsi:type="dcterms:W3CDTF">2003-06-12T17:11:52Z</dcterms:modified>
  <cp:revision>109</cp:revision>
  <dc:subject/>
  <dc:title>Unit 19 A freedom fighter (continued)</dc:title>
</cp:coreProperties>
</file>