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55AD-6691-46DE-9215-2A20FFDB6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03F0-65A8-4E68-8054-1E160029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1A15-32D1-46E8-906E-2964A736A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6F24-92E2-4DFC-AABA-CCB35BAE5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BC3D-7B04-43DC-B655-E8299207B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6D03-DFC1-429D-8F0E-D0714F84A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3D0D-2D9A-48C0-A6AE-AF6CE70C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DC6C-50AA-43C6-B066-7FDE874C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7584F-8FEC-4439-A692-C0F0BB2C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862E-C287-4B94-A1A9-FFFB4E99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1971-F2DD-4D11-8769-DA65EB63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0088-EE4B-4C8F-91BE-97276280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4009-FE1B-4EFE-A3D7-F1103959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B80D-35A4-4945-AF0E-2CAFED67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0653-4ABA-464A-9138-6CB035B9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6770-EE27-4DE1-858D-A1E45DA7E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6D71-EA4E-43A4-B430-8F7099BAC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BD5A-5B48-402F-B053-04C463AF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C08A-07D4-4677-97D5-A05F15B0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1586-3696-40D5-A848-F05FCCB6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C9F4-2ED2-4F46-B582-590B4FB3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BE56-0B4E-4FED-BDF5-7E61B02E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2174-7E98-449F-9AB9-1915606D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3E9E-37A8-4EAD-8F89-316EB298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8BD7-28FA-4767-9391-22FD88A2332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" y="2438280"/>
            <a:ext cx="9147240" cy="1063800"/>
            <a:chOff x="-36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" y="2479680"/>
              <a:ext cx="9147240" cy="1012320"/>
              <a:chOff x="-36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9140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5304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340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364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884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5128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9300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640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640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808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328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50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672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8156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215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660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72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8244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488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72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72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DC13-68DF-4377-9FDB-31B08D3FC7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TX014" descr=""/>
          <p:cNvPicPr/>
          <p:nvPr/>
        </p:nvPicPr>
        <p:blipFill>
          <a:blip r:embed="rId1"/>
          <a:stretch/>
        </p:blipFill>
        <p:spPr>
          <a:xfrm>
            <a:off x="762120" y="0"/>
            <a:ext cx="838188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607440" y="380880"/>
            <a:ext cx="164268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彩云"/>
                <a:ea typeface="华文彩云"/>
              </a:rPr>
              <a:t>面向世界    面向未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838080" y="0"/>
            <a:ext cx="8305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:What a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cold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day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:Yes, but it`s going to                       get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colder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, I`m afraid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3276720"/>
            <a:ext cx="815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hot                     hott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411480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wet                     wett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525780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windy                wind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401120" y="450720"/>
            <a:ext cx="68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Talk about weath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-286200" y="2523960"/>
            <a:ext cx="10440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A: </a:t>
            </a:r>
            <a:r>
              <a:rPr b="1" lang="en-US" sz="4800" spc="-1" strike="noStrike">
                <a:solidFill>
                  <a:srgbClr val="0000ff"/>
                </a:solidFill>
                <a:latin typeface="Abadi MT Condensed Light"/>
              </a:rPr>
              <a:t>What`s the weather like today?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B: </a:t>
            </a:r>
            <a:r>
              <a:rPr b="1" lang="en-US" sz="4800" spc="-1" strike="noStrike">
                <a:solidFill>
                  <a:srgbClr val="0000ff"/>
                </a:solidFill>
                <a:latin typeface="Abadi MT Condensed Light"/>
              </a:rPr>
              <a:t>It`s</a:t>
            </a: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 </a:t>
            </a:r>
            <a:r>
              <a:rPr b="1" lang="en-US" sz="4800" spc="-1" strike="noStrike">
                <a:solidFill>
                  <a:srgbClr val="660066"/>
                </a:solidFill>
                <a:latin typeface="Abadi MT Condensed Light"/>
              </a:rPr>
              <a:t>cold/hot/dry/wet/rainy/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Abadi MT Condensed Light"/>
              </a:rPr>
              <a:t>    </a:t>
            </a:r>
            <a:r>
              <a:rPr b="1" lang="en-US" sz="4800" spc="-1" strike="noStrike">
                <a:solidFill>
                  <a:srgbClr val="660066"/>
                </a:solidFill>
                <a:latin typeface="Abadi MT Condensed Light"/>
              </a:rPr>
              <a:t>sunny/cloudy/wind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914400" y="0"/>
            <a:ext cx="79246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ind       wind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loud      cloud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rain       rain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snow       snow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sun        sun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00200" y="487692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方正大黑简体"/>
                <a:ea typeface="方正大黑简体"/>
              </a:rPr>
              <a:t>n. </a:t>
            </a:r>
            <a:r>
              <a:rPr b="0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4952880"/>
            <a:ext cx="19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方正大黑简体"/>
                <a:ea typeface="方正大黑简体"/>
              </a:rPr>
              <a:t> </a:t>
            </a:r>
            <a:r>
              <a:rPr b="1" lang="en-US" sz="4800" spc="-1" strike="noStrike">
                <a:solidFill>
                  <a:srgbClr val="0000ff"/>
                </a:solidFill>
                <a:latin typeface="方正大黑简体"/>
                <a:ea typeface="方正大黑简体"/>
              </a:rPr>
              <a:t>adj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2743200" cy="486000"/>
          </a:xfrm>
          <a:prstGeom prst="rightArrow">
            <a:avLst>
              <a:gd name="adj1" fmla="val 50000"/>
              <a:gd name="adj2" fmla="val 14111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05280" y="19051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528960" y="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909840" y="9907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528960" y="28195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48520" y="3657600"/>
            <a:ext cx="99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n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0"/>
            <a:ext cx="10058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rite the correct adj. In the blank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el:    What heavy </a:t>
            </a:r>
            <a:r>
              <a:rPr b="1" i="1" lang="en-US" sz="4400" spc="-1" strike="noStrike">
                <a:solidFill>
                  <a:srgbClr val="0000ff"/>
                </a:solidFill>
                <a:latin typeface="Abadi MT Condensed Light"/>
              </a:rPr>
              <a:t>rai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!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t`s very 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badi MT Condensed Light"/>
              </a:rPr>
              <a:t>rainy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tod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14400" y="190512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ook at the 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su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!  It`s very               toda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81680" y="1905120"/>
            <a:ext cx="1806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sunny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3124080"/>
            <a:ext cx="9448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ok at the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clou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! It`s very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day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05720" y="2971800"/>
            <a:ext cx="1828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clou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457200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a 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wind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! It`s very               toda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5880" y="45720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win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14400" y="59436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ook at the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rai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! It`s a very               d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77120" y="5791320"/>
            <a:ext cx="1523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rai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 rot="10800000">
            <a:off x="1143000" y="-76320"/>
            <a:ext cx="77724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          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-228960"/>
            <a:ext cx="8229600" cy="708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n the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u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is shining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 is  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n there are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cloud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 is     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n it is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raini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 is   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n it is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nowing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 is   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en the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win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is blowing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 is              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57600" y="4572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sun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81480" y="1905120"/>
            <a:ext cx="175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clou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62520" y="3276720"/>
            <a:ext cx="160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rai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4800600"/>
            <a:ext cx="1752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snow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657600" y="6033960"/>
            <a:ext cx="15238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badi MT Condensed Light"/>
              </a:rPr>
              <a:t>wi</a:t>
            </a:r>
            <a:r>
              <a:rPr b="1" i="1" lang="en-US" sz="4800" spc="-1" strike="noStrike" u="sng">
                <a:solidFill>
                  <a:srgbClr val="ff0000"/>
                </a:solidFill>
                <a:uFillTx/>
                <a:latin typeface="Abadi MT Condensed Light"/>
              </a:rPr>
              <a:t>n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Abadi MT Condensed Light"/>
              </a:rPr>
              <a:t>d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X023" descr=""/>
          <p:cNvPicPr/>
          <p:nvPr/>
        </p:nvPicPr>
        <p:blipFill>
          <a:blip r:embed="rId1"/>
          <a:stretch/>
        </p:blipFill>
        <p:spPr>
          <a:xfrm>
            <a:off x="762120" y="0"/>
            <a:ext cx="838188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204200" y="1044720"/>
            <a:ext cx="342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Thank  you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en-US" sz="5400" spc="-1" strike="noStrike">
                <a:solidFill>
                  <a:srgbClr val="ffff00"/>
                </a:solidFill>
                <a:latin typeface="Times New Roman"/>
              </a:rPr>
              <a:t>Bye-bye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27160" y="4865760"/>
            <a:ext cx="474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cc00"/>
                </a:solidFill>
                <a:latin typeface="幼圆"/>
                <a:ea typeface="幼圆"/>
              </a:rPr>
              <a:t>2 0 0 2 </a:t>
            </a:r>
            <a:r>
              <a:rPr b="1" i="1" lang="zh-CN" sz="4400" spc="-1" strike="noStrike">
                <a:solidFill>
                  <a:srgbClr val="ffcc00"/>
                </a:solidFill>
                <a:latin typeface="幼圆"/>
                <a:ea typeface="幼圆"/>
              </a:rPr>
              <a:t>年 </a:t>
            </a:r>
            <a:r>
              <a:rPr b="1" i="1" lang="zh-CN" sz="4400" spc="-1" strike="noStrike">
                <a:solidFill>
                  <a:srgbClr val="ffcc00"/>
                </a:solidFill>
                <a:latin typeface="幼圆"/>
                <a:ea typeface="幼圆"/>
              </a:rPr>
              <a:t>3 </a:t>
            </a:r>
            <a:r>
              <a:rPr b="1" i="1" lang="zh-CN" sz="4400" spc="-1" strike="noStrike">
                <a:solidFill>
                  <a:srgbClr val="ffcc00"/>
                </a:solidFill>
                <a:latin typeface="幼圆"/>
                <a:ea typeface="幼圆"/>
              </a:rPr>
              <a:t>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TX002" descr=""/>
          <p:cNvPicPr/>
          <p:nvPr/>
        </p:nvPicPr>
        <p:blipFill>
          <a:blip r:embed="rId1"/>
          <a:stretch/>
        </p:blipFill>
        <p:spPr>
          <a:xfrm>
            <a:off x="762120" y="-1440"/>
            <a:ext cx="8381880" cy="6859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446840" y="915840"/>
            <a:ext cx="6937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66ff33"/>
                </a:solidFill>
                <a:latin typeface="Times New Roman"/>
              </a:rPr>
              <a:t>          </a:t>
            </a:r>
            <a:r>
              <a:rPr b="1" i="1" lang="en-US" sz="6600" spc="-1" strike="noStrike">
                <a:solidFill>
                  <a:srgbClr val="66ff33"/>
                </a:solidFill>
                <a:latin typeface="Times New Roman"/>
              </a:rPr>
              <a:t>What’s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6600" spc="-1" strike="noStrike">
                <a:solidFill>
                  <a:srgbClr val="66ff33"/>
                </a:solidFill>
                <a:latin typeface="Times New Roman"/>
              </a:rPr>
              <a:t>the  weather  like 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56960" y="3962520"/>
            <a:ext cx="5447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66"/>
                </a:solidFill>
                <a:latin typeface="Times New Roman"/>
                <a:ea typeface="幼圆"/>
              </a:rPr>
              <a:t>松阳县阳溪初中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ff66"/>
                </a:solidFill>
                <a:latin typeface="Times New Roman"/>
                <a:ea typeface="幼圆"/>
              </a:rPr>
              <a:t>       </a:t>
            </a:r>
            <a:r>
              <a:rPr b="1" i="1" lang="zh-CN" sz="4800" spc="-1" strike="noStrike">
                <a:solidFill>
                  <a:srgbClr val="ffff66"/>
                </a:solidFill>
                <a:latin typeface="Times New Roman"/>
                <a:ea typeface="幼圆"/>
              </a:rPr>
              <a:t>周  俏  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52600" y="5943600"/>
            <a:ext cx="619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E-mail:  zhouqia0680@sina.c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rcRect l="0" t="0" r="10894" b="0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029200" y="1981080"/>
            <a:ext cx="2057400" cy="1905120"/>
          </a:xfrm>
          <a:custGeom>
            <a:avLst/>
            <a:gdLst>
              <a:gd name="textAreaLeft" fmla="*/ 469440 w 2057400"/>
              <a:gd name="textAreaRight" fmla="*/ 1587960 w 2057400"/>
              <a:gd name="textAreaTop" fmla="*/ 434880 h 1905120"/>
              <a:gd name="textAreaBottom" fmla="*/ 14702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sun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4267080"/>
            <a:ext cx="2666880" cy="1371600"/>
          </a:xfrm>
          <a:prstGeom prst="cloudCallout">
            <a:avLst>
              <a:gd name="adj1" fmla="val 6430"/>
              <a:gd name="adj2" fmla="val 47800"/>
            </a:avLst>
          </a:prstGeom>
          <a:solidFill>
            <a:srgbClr val="549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clou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990720"/>
            <a:ext cx="2438280" cy="1857240"/>
          </a:xfrm>
          <a:prstGeom prst="rightArrow">
            <a:avLst>
              <a:gd name="adj1" fmla="val 50000"/>
              <a:gd name="adj2" fmla="val 32821"/>
            </a:avLst>
          </a:prstGeom>
          <a:solidFill>
            <a:srgbClr val="2bd1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方正大黑简体"/>
                <a:ea typeface="方正大黑简体"/>
              </a:rPr>
              <a:t>win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53280" y="99072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1880" y="1371600"/>
            <a:ext cx="457200" cy="457200"/>
          </a:xfrm>
          <a:custGeom>
            <a:avLst/>
            <a:gdLst>
              <a:gd name="textAreaLeft" fmla="*/ 104400 w 457200"/>
              <a:gd name="textAreaRight" fmla="*/ 352800 w 45720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86600" y="762120"/>
            <a:ext cx="2057400" cy="1676160"/>
          </a:xfrm>
          <a:custGeom>
            <a:avLst/>
            <a:gdLst>
              <a:gd name="textAreaLeft" fmla="*/ 469440 w 2057400"/>
              <a:gd name="textAreaRight" fmla="*/ 1587960 w 2057400"/>
              <a:gd name="textAreaTop" fmla="*/ 382680 h 1676160"/>
              <a:gd name="textAreaBottom" fmla="*/ 129348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方正大黑简体"/>
                <a:ea typeface="方正大黑简体"/>
              </a:rPr>
              <a:t>snow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5181480"/>
            <a:ext cx="914400" cy="9144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543800" y="5257800"/>
            <a:ext cx="914400" cy="9144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15200" y="5410080"/>
            <a:ext cx="914400" cy="9144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5029200"/>
            <a:ext cx="2286000" cy="16002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方正大黑简体"/>
                <a:ea typeface="方正大黑简体"/>
              </a:rPr>
              <a:t>rai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rcRect l="0" t="0" r="10894" b="0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924680" y="1600200"/>
            <a:ext cx="1219320" cy="6094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ol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562720" y="6095880"/>
            <a:ext cx="12189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ho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0" y="2895480"/>
            <a:ext cx="1371600" cy="8384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方正大黑简体"/>
                <a:ea typeface="方正大黑简体"/>
              </a:rPr>
              <a:t>d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4419720"/>
            <a:ext cx="1981080" cy="914400"/>
          </a:xfrm>
          <a:prstGeom prst="ellipse">
            <a:avLst/>
          </a:prstGeom>
          <a:solidFill>
            <a:srgbClr val="549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clou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77120" y="4038480"/>
            <a:ext cx="1752480" cy="83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rai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96080" y="5715000"/>
            <a:ext cx="1295640" cy="8380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2514600"/>
            <a:ext cx="190512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sun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1447920"/>
            <a:ext cx="1905120" cy="914400"/>
          </a:xfrm>
          <a:prstGeom prst="ellipse">
            <a:avLst/>
          </a:prstGeom>
          <a:solidFill>
            <a:srgbClr val="2bd1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in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5715000"/>
            <a:ext cx="1447920" cy="609480"/>
          </a:xfrm>
          <a:prstGeom prst="wedgeEllipseCallout">
            <a:avLst>
              <a:gd name="adj1" fmla="val 90129"/>
              <a:gd name="adj2" fmla="val -134375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clou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96080" y="3505320"/>
            <a:ext cx="1447920" cy="609480"/>
          </a:xfrm>
          <a:prstGeom prst="wedgeEllipseCallout">
            <a:avLst>
              <a:gd name="adj1" fmla="val -67763"/>
              <a:gd name="adj2" fmla="val 6171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rai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762120"/>
            <a:ext cx="1371600" cy="609480"/>
          </a:xfrm>
          <a:prstGeom prst="wedgeEllipseCallout">
            <a:avLst>
              <a:gd name="adj1" fmla="val 54513"/>
              <a:gd name="adj2" fmla="val 243231"/>
            </a:avLst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su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1828800"/>
            <a:ext cx="1143000" cy="609480"/>
          </a:xfrm>
          <a:prstGeom prst="wedgeEllipseCallout">
            <a:avLst>
              <a:gd name="adj1" fmla="val -128055"/>
              <a:gd name="adj2" fmla="val -29166"/>
            </a:avLst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wi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-3429000" y="0"/>
            <a:ext cx="23623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               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 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5181480" y="152388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方正大黑简体"/>
                <a:ea typeface="方正大黑简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38240" y="19051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38240" y="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39280" y="91440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2819520"/>
            <a:ext cx="99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n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0"/>
            <a:ext cx="7696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ind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loud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        </a:t>
            </a: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rain     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        </a:t>
            </a:r>
            <a:r>
              <a:rPr b="1" lang="en-US" sz="60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su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4572000"/>
            <a:ext cx="693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old        ho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dry          we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KT029" descr=""/>
          <p:cNvPicPr/>
          <p:nvPr/>
        </p:nvPicPr>
        <p:blipFill>
          <a:blip r:embed="rId1"/>
          <a:stretch/>
        </p:blipFill>
        <p:spPr>
          <a:xfrm>
            <a:off x="1600200" y="533520"/>
            <a:ext cx="1806480" cy="3047760"/>
          </a:xfrm>
          <a:prstGeom prst="rect">
            <a:avLst/>
          </a:prstGeom>
          <a:ln w="0">
            <a:noFill/>
          </a:ln>
        </p:spPr>
      </p:pic>
      <p:pic>
        <p:nvPicPr>
          <p:cNvPr id="165" name="KT025" descr=""/>
          <p:cNvPicPr/>
          <p:nvPr/>
        </p:nvPicPr>
        <p:blipFill>
          <a:blip r:embed="rId2"/>
          <a:stretch/>
        </p:blipFill>
        <p:spPr>
          <a:xfrm>
            <a:off x="7010280" y="838080"/>
            <a:ext cx="17258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39880" y="0"/>
            <a:ext cx="7341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:What`s the date?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:It`s Dec. 21st, 2001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:What`s the weather like?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:It`s 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very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cold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57400" y="2971800"/>
            <a:ext cx="160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badi MT Condensed Light"/>
              </a:rPr>
              <a:t>  </a:t>
            </a:r>
            <a:r>
              <a:rPr b="1" lang="zh-CN" sz="4800" spc="-1" strike="noStrike">
                <a:solidFill>
                  <a:srgbClr val="0000ff"/>
                </a:solidFill>
                <a:latin typeface="Abadi MT Condensed Light"/>
              </a:rPr>
              <a:t>qui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297180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ho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9880" y="3124080"/>
            <a:ext cx="129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d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33920" y="297180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clou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733920" y="29718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rai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86200" y="30481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w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304812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sun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312408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win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cloudy" descr=""/>
          <p:cNvPicPr/>
          <p:nvPr/>
        </p:nvPicPr>
        <p:blipFill>
          <a:blip r:embed="rId1"/>
          <a:stretch/>
        </p:blipFill>
        <p:spPr>
          <a:xfrm>
            <a:off x="4191120" y="3878280"/>
            <a:ext cx="4724280" cy="2674800"/>
          </a:xfrm>
          <a:prstGeom prst="rect">
            <a:avLst/>
          </a:prstGeom>
          <a:ln w="0">
            <a:noFill/>
          </a:ln>
        </p:spPr>
      </p:pic>
      <p:pic>
        <p:nvPicPr>
          <p:cNvPr id="176" name="cold" descr=""/>
          <p:cNvPicPr/>
          <p:nvPr/>
        </p:nvPicPr>
        <p:blipFill>
          <a:blip r:embed="rId2"/>
          <a:stretch/>
        </p:blipFill>
        <p:spPr>
          <a:xfrm>
            <a:off x="4191120" y="3962520"/>
            <a:ext cx="4724280" cy="2590560"/>
          </a:xfrm>
          <a:prstGeom prst="rect">
            <a:avLst/>
          </a:prstGeom>
          <a:ln w="0">
            <a:noFill/>
          </a:ln>
        </p:spPr>
      </p:pic>
      <p:pic>
        <p:nvPicPr>
          <p:cNvPr id="177" name="dry" descr=""/>
          <p:cNvPicPr/>
          <p:nvPr/>
        </p:nvPicPr>
        <p:blipFill>
          <a:blip r:embed="rId3"/>
          <a:stretch/>
        </p:blipFill>
        <p:spPr>
          <a:xfrm>
            <a:off x="4267080" y="3962520"/>
            <a:ext cx="4572000" cy="2514600"/>
          </a:xfrm>
          <a:prstGeom prst="rect">
            <a:avLst/>
          </a:prstGeom>
          <a:ln w="0">
            <a:noFill/>
          </a:ln>
        </p:spPr>
      </p:pic>
      <p:pic>
        <p:nvPicPr>
          <p:cNvPr id="178" name="hot" descr=""/>
          <p:cNvPicPr/>
          <p:nvPr/>
        </p:nvPicPr>
        <p:blipFill>
          <a:blip r:embed="rId4"/>
          <a:stretch/>
        </p:blipFill>
        <p:spPr>
          <a:xfrm>
            <a:off x="4343400" y="3962520"/>
            <a:ext cx="4495680" cy="2514600"/>
          </a:xfrm>
          <a:prstGeom prst="rect">
            <a:avLst/>
          </a:prstGeom>
          <a:ln w="0">
            <a:noFill/>
          </a:ln>
        </p:spPr>
      </p:pic>
      <p:pic>
        <p:nvPicPr>
          <p:cNvPr id="179" name="rainy" descr=""/>
          <p:cNvPicPr/>
          <p:nvPr/>
        </p:nvPicPr>
        <p:blipFill>
          <a:blip r:embed="rId5"/>
          <a:stretch/>
        </p:blipFill>
        <p:spPr>
          <a:xfrm>
            <a:off x="4267080" y="3962520"/>
            <a:ext cx="4572000" cy="2514600"/>
          </a:xfrm>
          <a:prstGeom prst="rect">
            <a:avLst/>
          </a:prstGeom>
          <a:ln w="0">
            <a:noFill/>
          </a:ln>
        </p:spPr>
      </p:pic>
      <p:pic>
        <p:nvPicPr>
          <p:cNvPr id="180" name="snowy" descr=""/>
          <p:cNvPicPr/>
          <p:nvPr/>
        </p:nvPicPr>
        <p:blipFill>
          <a:blip r:embed="rId6"/>
          <a:stretch/>
        </p:blipFill>
        <p:spPr>
          <a:xfrm>
            <a:off x="4267080" y="3962520"/>
            <a:ext cx="4572000" cy="2514600"/>
          </a:xfrm>
          <a:prstGeom prst="rect">
            <a:avLst/>
          </a:prstGeom>
          <a:ln w="0">
            <a:noFill/>
          </a:ln>
        </p:spPr>
      </p:pic>
      <p:pic>
        <p:nvPicPr>
          <p:cNvPr id="181" name="sunny" descr=""/>
          <p:cNvPicPr/>
          <p:nvPr/>
        </p:nvPicPr>
        <p:blipFill>
          <a:blip r:embed="rId7"/>
          <a:stretch/>
        </p:blipFill>
        <p:spPr>
          <a:xfrm>
            <a:off x="4267080" y="4038480"/>
            <a:ext cx="4572000" cy="2438640"/>
          </a:xfrm>
          <a:prstGeom prst="rect">
            <a:avLst/>
          </a:prstGeom>
          <a:ln w="0">
            <a:noFill/>
          </a:ln>
        </p:spPr>
      </p:pic>
      <p:pic>
        <p:nvPicPr>
          <p:cNvPr id="182" name="wet" descr=""/>
          <p:cNvPicPr/>
          <p:nvPr/>
        </p:nvPicPr>
        <p:blipFill>
          <a:blip r:embed="rId8"/>
          <a:stretch/>
        </p:blipFill>
        <p:spPr>
          <a:xfrm>
            <a:off x="4267080" y="3962520"/>
            <a:ext cx="4572000" cy="2514600"/>
          </a:xfrm>
          <a:prstGeom prst="rect">
            <a:avLst/>
          </a:prstGeom>
          <a:ln w="0">
            <a:noFill/>
          </a:ln>
        </p:spPr>
      </p:pic>
      <p:pic>
        <p:nvPicPr>
          <p:cNvPr id="183" name="windy" descr=""/>
          <p:cNvPicPr/>
          <p:nvPr/>
        </p:nvPicPr>
        <p:blipFill>
          <a:blip r:embed="rId9"/>
          <a:stretch/>
        </p:blipFill>
        <p:spPr>
          <a:xfrm>
            <a:off x="4267080" y="3886200"/>
            <a:ext cx="4572000" cy="2590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810240" y="3124080"/>
            <a:ext cx="167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snow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KT010" descr=""/>
          <p:cNvPicPr/>
          <p:nvPr/>
        </p:nvPicPr>
        <p:blipFill>
          <a:blip r:embed="rId10"/>
          <a:stretch/>
        </p:blipFill>
        <p:spPr>
          <a:xfrm>
            <a:off x="1066680" y="4495680"/>
            <a:ext cx="166536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rcRect l="0" t="0" r="10894" b="0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7924680" y="1600200"/>
            <a:ext cx="1219320" cy="6094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ol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62720" y="6095880"/>
            <a:ext cx="121896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ho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895480"/>
            <a:ext cx="1371600" cy="8384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方正大黑简体"/>
                <a:ea typeface="方正大黑简体"/>
              </a:rPr>
              <a:t>d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4419720"/>
            <a:ext cx="1981440" cy="914400"/>
          </a:xfrm>
          <a:prstGeom prst="ellipse">
            <a:avLst/>
          </a:prstGeom>
          <a:solidFill>
            <a:srgbClr val="5490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Times New Roman"/>
              </a:rPr>
              <a:t>clou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7120" y="4038480"/>
            <a:ext cx="1752480" cy="83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rai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5715000"/>
            <a:ext cx="1295640" cy="8380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e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38680" y="2514600"/>
            <a:ext cx="1905120" cy="762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sun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1447920"/>
            <a:ext cx="1905120" cy="914400"/>
          </a:xfrm>
          <a:prstGeom prst="ellipse">
            <a:avLst/>
          </a:prstGeom>
          <a:solidFill>
            <a:srgbClr val="2bd1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in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72200" y="838080"/>
            <a:ext cx="1828800" cy="609840"/>
          </a:xfrm>
          <a:prstGeom prst="wedgeEllipseCallout">
            <a:avLst>
              <a:gd name="adj1" fmla="val 62847"/>
              <a:gd name="adj2" fmla="val 1013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col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57600" y="6172200"/>
            <a:ext cx="1295280" cy="609480"/>
          </a:xfrm>
          <a:prstGeom prst="wedgeEllipseCallout">
            <a:avLst>
              <a:gd name="adj1" fmla="val 116175"/>
              <a:gd name="adj2" fmla="val 10416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hot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800" y="3657600"/>
            <a:ext cx="1371600" cy="762120"/>
          </a:xfrm>
          <a:prstGeom prst="wedgeEllipseCallout">
            <a:avLst>
              <a:gd name="adj1" fmla="val 135416"/>
              <a:gd name="adj2" fmla="val -5625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dri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8800" y="5334120"/>
            <a:ext cx="1752480" cy="609480"/>
          </a:xfrm>
          <a:prstGeom prst="wedgeEllipseCallout">
            <a:avLst>
              <a:gd name="adj1" fmla="val 95925"/>
              <a:gd name="adj2" fmla="val -8906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cloudi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96080" y="3124080"/>
            <a:ext cx="1447920" cy="762120"/>
          </a:xfrm>
          <a:prstGeom prst="wedgeEllipseCallout">
            <a:avLst>
              <a:gd name="adj1" fmla="val -25000"/>
              <a:gd name="adj2" fmla="val 116041"/>
            </a:avLst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badi MT Condensed Light"/>
              </a:rPr>
              <a:t>raini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19920" y="5410080"/>
            <a:ext cx="1523880" cy="762120"/>
          </a:xfrm>
          <a:prstGeom prst="wedgeEllipseCallout">
            <a:avLst>
              <a:gd name="adj1" fmla="val 69898"/>
              <a:gd name="adj2" fmla="val 36666"/>
            </a:avLst>
          </a:prstGeom>
          <a:solidFill>
            <a:srgbClr val="e1e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wet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1523880"/>
            <a:ext cx="2133720" cy="609840"/>
          </a:xfrm>
          <a:prstGeom prst="wedgeEllipseCallout">
            <a:avLst>
              <a:gd name="adj1" fmla="val 69120"/>
              <a:gd name="adj2" fmla="val 152342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sunni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762120"/>
            <a:ext cx="2133360" cy="609480"/>
          </a:xfrm>
          <a:prstGeom prst="wedgeEllipseCallout">
            <a:avLst>
              <a:gd name="adj1" fmla="val -93078"/>
              <a:gd name="adj2" fmla="val 99217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badi MT Condensed Light"/>
              </a:rPr>
              <a:t>windi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018800" y="0"/>
            <a:ext cx="2442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ol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hot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e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d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r</a:t>
            </a: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lou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d</a:t>
            </a: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rai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n</a:t>
            </a: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sun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n</a:t>
            </a: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in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d</a:t>
            </a: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714560" y="0"/>
            <a:ext cx="29775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old</a:t>
            </a: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hot</a:t>
            </a: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et</a:t>
            </a: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dr</a:t>
            </a: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i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cloud</a:t>
            </a: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i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rain</a:t>
            </a: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i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sunn</a:t>
            </a: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i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大黑简体"/>
                <a:ea typeface="方正大黑简体"/>
              </a:rPr>
              <a:t>wind</a:t>
            </a:r>
            <a:r>
              <a:rPr b="1" lang="en-US" sz="5400" spc="-1" strike="noStrike">
                <a:solidFill>
                  <a:srgbClr val="ff0000"/>
                </a:solidFill>
                <a:latin typeface="方正大黑简体"/>
                <a:ea typeface="方正大黑简体"/>
              </a:rPr>
              <a:t>i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90720" y="762120"/>
            <a:ext cx="7805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cold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it is today!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:Yes, but it`s going to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e 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warmer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later on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371600" y="495288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wet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                     dri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66680" y="388620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hot</a:t>
            </a: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                      cool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59436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cloudy                 sunni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2T04:50:50Z</dcterms:created>
  <dc:creator>lp</dc:creator>
  <dc:description/>
  <dc:language>en-US</dc:language>
  <cp:lastModifiedBy>sywzmin</cp:lastModifiedBy>
  <dcterms:modified xsi:type="dcterms:W3CDTF">2002-04-03T14:59:32Z</dcterms:modified>
  <cp:revision>37</cp:revision>
  <dc:subject/>
  <dc:title>没有幻灯片标题</dc:title>
</cp:coreProperties>
</file>