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mera.wav" ContentType="audio/x-wav"/>
  <Override PartName="/ppt/media/image5.wmf" ContentType="image/x-wmf"/>
  <Override PartName="/ppt/media/image6.png" ContentType="image/png"/>
  <Override PartName="/ppt/media/image7.jpeg" ContentType="image/jpeg"/>
  <Override PartName="/ppt/media/APPLAUS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413B-01A9-4693-A05F-DC9E303F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862-30B2-4371-A80A-5E41BACF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BDE5-FE5C-424D-B624-66D69449E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668-5DCF-42E7-82A0-5DEF50D7C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DD91-E702-4EBF-A0C3-6499B476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B376-041F-45F6-8EFE-1D7AA9E0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87EC0-5C46-4B48-ADD8-B08E7708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2589-4C73-4BD1-B389-DD4ABD3E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27F2-03B1-48E4-9E03-2E9EA0AD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A668D-3D3C-438E-94E1-988692DC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A511-673D-4F82-9D4D-4AF6427E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AE4E-94BD-4F76-934A-094FC626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F660-CD9B-4984-899D-D799D2B8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BC2A-4609-4497-BEEC-7DCAC393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1375-664F-49B2-A347-DF071CA9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5139-40C6-4673-80AE-EA8490B94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2A54-7969-4993-A5E2-D568AC38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584-9949-42DB-8A32-6BB2411E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0212-7B49-4443-AE2D-FBCB8442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752-59BF-4D0D-B8E7-058F54F4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88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FF3-398B-4F4C-9F04-437B78ED2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755-7CB7-4A6C-82EF-B57CBBD7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485D-E0D3-4058-8FE8-F62F75D3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31D0-A020-4B8B-8153-B95D4E8A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8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A785-DC70-4172-870D-4151887A6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E06F-ADC3-4D53-AC2A-A054B0B16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"/>
          <p:cNvGrpSpPr/>
          <p:nvPr/>
        </p:nvGrpSpPr>
        <p:grpSpPr>
          <a:xfrm>
            <a:off x="304920" y="762120"/>
            <a:ext cx="8534160" cy="2669400"/>
            <a:chOff x="304920" y="762120"/>
            <a:chExt cx="8534160" cy="2669400"/>
          </a:xfrm>
        </p:grpSpPr>
        <p:sp>
          <p:nvSpPr>
            <p:cNvPr id="84" name=""/>
            <p:cNvSpPr/>
            <p:nvPr/>
          </p:nvSpPr>
          <p:spPr>
            <a:xfrm>
              <a:off x="304920" y="2514600"/>
              <a:ext cx="8001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5400" spc="-1" strike="noStrike">
                  <a:solidFill>
                    <a:srgbClr val="ff3399"/>
                  </a:solidFill>
                  <a:latin typeface="Times New Roman"/>
                </a:rPr>
                <a:t>          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－</a:t>
              </a:r>
              <a:r>
                <a:rPr b="1" i="1" lang="zh-CN" sz="4400" spc="-1" strike="noStrike">
                  <a:solidFill>
                    <a:srgbClr val="ff3399"/>
                  </a:solidFill>
                  <a:latin typeface="Times New Roman"/>
                </a:rPr>
                <a:t>Directed by Qiu Hong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48640" y="762120"/>
              <a:ext cx="6582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3399"/>
                  </a:solidFill>
                  <a:latin typeface="Times New Roman"/>
                </a:rPr>
                <a:t>The Attributive Claus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59320" y="1752480"/>
              <a:ext cx="347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400" spc="-1" strike="noStrike">
                  <a:solidFill>
                    <a:srgbClr val="ffff00"/>
                  </a:solidFill>
                  <a:latin typeface="Times New Roman"/>
                </a:rPr>
                <a:t>定语从句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866160"/>
            <a:ext cx="746748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 Black"/>
              </a:rPr>
              <a:t>Which boy do you like better?</a:t>
            </a:r>
            <a:endParaRPr b="0" lang="en-US" sz="5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39" name="z3" descr=""/>
          <p:cNvPicPr/>
          <p:nvPr/>
        </p:nvPicPr>
        <p:blipFill>
          <a:blip r:embed="rId1"/>
          <a:stretch/>
        </p:blipFill>
        <p:spPr>
          <a:xfrm>
            <a:off x="2743200" y="38862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6320" y="1522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关系代词</a:t>
            </a:r>
            <a:r>
              <a:rPr b="1" lang="zh-CN" sz="4000" spc="-1" strike="noStrike">
                <a:solidFill>
                  <a:srgbClr val="663300"/>
                </a:solidFill>
                <a:latin typeface="宋体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6633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. who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676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</a:rPr>
              <a:t> I talked with is 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2286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erso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steals things is called a th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2. whom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作宾语可省略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如介词提前则不能省</a:t>
            </a:r>
            <a:r>
              <a:rPr b="0" lang="zh-CN" sz="3200" spc="-1" strike="noStrike">
                <a:solidFill>
                  <a:srgbClr val="ff3300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280" y="437364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whom/who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 nodded to is Mr.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49831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o who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nodded is Professor L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659400" y="16002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ap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2149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7680" y="3124080"/>
            <a:ext cx="710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m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38242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y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0800" y="4510080"/>
            <a:ext cx="72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r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is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5195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apple   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ic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gre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is bi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51000">
            <a:off x="1295280" y="36568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0851000">
            <a:off x="1295280" y="43426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0851000">
            <a:off x="1295280" y="50284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0851000">
            <a:off x="1295280" y="5714280"/>
            <a:ext cx="2286000" cy="152280"/>
          </a:xfrm>
          <a:custGeom>
            <a:avLst/>
            <a:gdLst>
              <a:gd name="textAreaLeft" fmla="*/ 461160 w 2286000"/>
              <a:gd name="textAreaRight" fmla="*/ 1596240 w 22860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938160" cy="107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9" name=""/>
          <p:cNvGraphicFramePr/>
          <p:nvPr/>
        </p:nvGraphicFramePr>
        <p:xfrm>
          <a:off x="6248520" y="1066680"/>
          <a:ext cx="16207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48520" y="1066680"/>
                    <a:ext cx="16207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320" y="637200"/>
            <a:ext cx="7315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Mrs. Clark is angry with the goat.   </a:t>
            </a: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Times New Roman"/>
              </a:rPr>
              <a:t>The goat is eating her flowers.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2" name=""/>
          <p:cNvSpPr/>
          <p:nvPr/>
        </p:nvSpPr>
        <p:spPr>
          <a:xfrm>
            <a:off x="1736640" y="2077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6765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Clark is angry with the goat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eating her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648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8120"/>
            <a:ext cx="617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talked about it last nigh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41148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lked about last n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51055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lend me the book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about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talked last night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295280"/>
            <a:ext cx="380880" cy="312840"/>
          </a:xfrm>
          <a:custGeom>
            <a:avLst/>
            <a:gdLst>
              <a:gd name="textAreaLeft" fmla="*/ 127080 w 380880"/>
              <a:gd name="textAreaRight" fmla="*/ 299520 w 38088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3657600"/>
            <a:ext cx="381240" cy="312840"/>
          </a:xfrm>
          <a:custGeom>
            <a:avLst/>
            <a:gdLst>
              <a:gd name="textAreaLeft" fmla="*/ 127080 w 381240"/>
              <a:gd name="textAreaRight" fmla="*/ 299520 w 381240"/>
              <a:gd name="textAreaTop" fmla="*/ 204840 h 312840"/>
              <a:gd name="textAreaBottom" fmla="*/ 245880 h 312840"/>
            </a:gdLst>
            <a:ahLst/>
            <a:rect l="textAreaLeft" t="textAreaTop" r="textAreaRight" b="textAreaBottom"/>
            <a:pathLst>
              <a:path w="21600" h="21600">
                <a:moveTo>
                  <a:pt x="0" y="18772"/>
                </a:moveTo>
                <a:lnTo>
                  <a:pt x="14143" y="18772"/>
                </a:lnTo>
                <a:lnTo>
                  <a:pt x="14143" y="7200"/>
                </a:lnTo>
                <a:lnTo>
                  <a:pt x="9514" y="7200"/>
                </a:lnTo>
                <a:lnTo>
                  <a:pt x="15557" y="0"/>
                </a:lnTo>
                <a:lnTo>
                  <a:pt x="21600" y="7200"/>
                </a:lnTo>
                <a:lnTo>
                  <a:pt x="16971" y="7200"/>
                </a:lnTo>
                <a:lnTo>
                  <a:pt x="169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762120" y="12952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?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wrote with it just n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411480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ith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ust 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2666880"/>
            <a:ext cx="6476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find the pe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wro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just n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533520"/>
            <a:ext cx="784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3. which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物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主语或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如介词提前则不能省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160020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se are the trees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ere pla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st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7432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recorder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（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using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de in Jap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3886200"/>
            <a:ext cx="743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ich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 books fr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65040" y="54547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4400" y="5105520"/>
            <a:ext cx="736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the librar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from whic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bo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ook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65040" y="291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69640" y="1143000"/>
            <a:ext cx="57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936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2057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. It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62040" y="2681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14504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. I told you abou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498312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0880" y="2133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told you ab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429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注意：介词提前时只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whi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而不能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at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64960" y="790560"/>
            <a:ext cx="637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指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物，作主语或宾语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作宾语可省略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5840" y="144792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lane is a machin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f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30040" y="4191120"/>
            <a:ext cx="7610400" cy="990360"/>
            <a:chOff x="230040" y="4191120"/>
            <a:chExt cx="7610400" cy="990360"/>
          </a:xfrm>
        </p:grpSpPr>
        <p:grpSp>
          <p:nvGrpSpPr>
            <p:cNvPr id="191" name=""/>
            <p:cNvGrpSpPr/>
            <p:nvPr/>
          </p:nvGrpSpPr>
          <p:grpSpPr>
            <a:xfrm>
              <a:off x="3048120" y="4724280"/>
              <a:ext cx="1143000" cy="457200"/>
              <a:chOff x="3048120" y="4724280"/>
              <a:chExt cx="1143000" cy="457200"/>
            </a:xfrm>
          </p:grpSpPr>
          <p:sp>
            <p:nvSpPr>
              <p:cNvPr id="192" name=""/>
              <p:cNvSpPr/>
              <p:nvPr/>
            </p:nvSpPr>
            <p:spPr>
              <a:xfrm>
                <a:off x="3048120" y="4724280"/>
                <a:ext cx="1143000" cy="45720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3048120" y="4724280"/>
                <a:ext cx="1143000" cy="4060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230040" y="4191120"/>
              <a:ext cx="7610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Is this the library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which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you borrow books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                             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Times New Roman"/>
                </a:rPr>
                <a:t>from th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8600" y="304920"/>
            <a:ext cx="799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指物的情况下一般都可以互换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但在下列情况下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一般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不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22240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am sure she ha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somethi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b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7680" y="3657600"/>
            <a:ext cx="74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ve read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a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book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re not m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4815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firs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(that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has 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5943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the ver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ook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belongs to h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" y="1371600"/>
            <a:ext cx="70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1)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thing, nothing, some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nything, little, much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不定代词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2800" y="2819520"/>
            <a:ext cx="742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all, every, no, some, any, little, much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43578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序数词或最高级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73520" y="5486400"/>
            <a:ext cx="728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(4)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先行词被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the only, the very, the same, the last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修饰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31480" y="457200"/>
            <a:ext cx="3009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ands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ong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le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augh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32480" y="1066680"/>
            <a:ext cx="102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imes New Roman"/>
              </a:rPr>
              <a:t>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69040" y="2743200"/>
            <a:ext cx="252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9200" y="312408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hands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36576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tal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41911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st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47242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cle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is 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2722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boy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s naugh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is T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0851000">
            <a:off x="1675800" y="3581280"/>
            <a:ext cx="2514600" cy="152640"/>
          </a:xfrm>
          <a:custGeom>
            <a:avLst/>
            <a:gdLst>
              <a:gd name="textAreaLeft" fmla="*/ 507240 w 2514600"/>
              <a:gd name="textAreaRight" fmla="*/ 1755720 w 25146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51000">
            <a:off x="1676520" y="41083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51000">
            <a:off x="1676520" y="4641480"/>
            <a:ext cx="1828800" cy="15228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280"/>
              <a:gd name="textAreaBottom" fmla="*/ 132120 h 152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51000">
            <a:off x="1750680" y="5171400"/>
            <a:ext cx="1752480" cy="160200"/>
          </a:xfrm>
          <a:custGeom>
            <a:avLst/>
            <a:gdLst>
              <a:gd name="textAreaLeft" fmla="*/ 353520 w 1752480"/>
              <a:gd name="textAreaRight" fmla="*/ 1223640 w 1752480"/>
              <a:gd name="textAreaTop" fmla="*/ 21240 h 160200"/>
              <a:gd name="textAreaBottom" fmla="*/ 138960 h 160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0851000">
            <a:off x="1676520" y="5708520"/>
            <a:ext cx="1828800" cy="152640"/>
          </a:xfrm>
          <a:custGeom>
            <a:avLst/>
            <a:gdLst>
              <a:gd name="textAreaLeft" fmla="*/ 369000 w 1828800"/>
              <a:gd name="textAreaRight" fmla="*/ 1276920 w 182880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653040"/>
            <a:ext cx="8229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(1) The scientist is very famous in the world. </a:t>
            </a:r>
            <a:br>
              <a:rPr sz="2800"/>
            </a:br>
            <a:r>
              <a:rPr b="1" lang="zh-CN" sz="2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3300"/>
                </a:solidFill>
                <a:uFillTx/>
                <a:latin typeface="Times New Roman"/>
              </a:rPr>
              <a:t>We met her yesterday.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704960"/>
            <a:ext cx="8153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scientist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we met yesterday is very famous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the wor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390060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2) The dress is new.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e is wear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480060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ess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he is wearing is ne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wh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28600" y="9907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3) He is the kind pers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worked with him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4419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This is the best film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ve ever seen this fil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1981080"/>
            <a:ext cx="807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the kind person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 have ever worked wi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wh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      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49528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is the best film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 have ever se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518148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33cc"/>
                  </a:solidFill>
                  <a:miter/>
                </a:ln>
                <a:solidFill>
                  <a:srgbClr val="cc99ff"/>
                </a:solidFill>
                <a:latin typeface="Comic Sans MS"/>
              </a:rPr>
              <a:t>THE END</a:t>
            </a:r>
            <a:endParaRPr b="1" lang="en-US" sz="2400" spc="1" strike="noStrike">
              <a:ln w="9360">
                <a:solidFill>
                  <a:srgbClr val="ff33cc"/>
                </a:solidFill>
                <a:miter/>
              </a:ln>
              <a:solidFill>
                <a:srgbClr val="cc99ff"/>
              </a:solidFill>
              <a:latin typeface="Comic Sans MS"/>
              <a:ea typeface="Comic Sans MS"/>
            </a:endParaRPr>
          </a:p>
        </p:txBody>
      </p:sp>
    </p:spTree>
  </p:cSld>
  <p:transition spd="slow">
    <p:dissolve/>
    <p:sndAc>
      <p:stSnd>
        <p:snd r:embed="rId2" name="APPLAUS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z2" descr=""/>
          <p:cNvPicPr/>
          <p:nvPr/>
        </p:nvPicPr>
        <p:blipFill>
          <a:blip r:embed="rId1"/>
          <a:stretch/>
        </p:blipFill>
        <p:spPr>
          <a:xfrm>
            <a:off x="0" y="468360"/>
            <a:ext cx="8915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3477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is smil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2502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boy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143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s smil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3720" y="3124080"/>
            <a:ext cx="67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has a round fa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960" y="3449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4648320"/>
            <a:ext cx="74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is Tom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53341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sits in front of m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To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51000">
            <a:off x="990000" y="8377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41911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41148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woman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6002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can speak Russia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2971800"/>
            <a:ext cx="632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1148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s famou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4320" y="119160"/>
            <a:ext cx="725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n is kind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one likes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066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man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everyone like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is k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20968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got the job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saw her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320040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wo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saw on the stre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t the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44197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will give us a talk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 met the teacher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5486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we met yester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will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ive us a tal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51000">
            <a:off x="789840" y="609120"/>
            <a:ext cx="3476520" cy="30492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60948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boy is in the lab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 talk to h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7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to talk t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2909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o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you want  to talk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in the l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4197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 sit behind hi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075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om)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 beh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56847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the boy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hind whom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I 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6094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9144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is the teacher.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teacher can speak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ren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20113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n speak 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327672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e came to visit you toda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434340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a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you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0851000">
            <a:off x="2237760" y="1447920"/>
            <a:ext cx="3476520" cy="304560"/>
          </a:xfrm>
          <a:custGeom>
            <a:avLst/>
            <a:gdLst>
              <a:gd name="textAreaLeft" fmla="*/ 701280 w 3476520"/>
              <a:gd name="textAreaRight" fmla="*/ 2427480 w 347652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717" hR="21600" stAng="10800000" swAng="5400000"/>
                <a:lnTo>
                  <a:pt x="10723" y="0"/>
                </a:lnTo>
                <a:arcTo wR="8717" hR="21600" stAng="-5400000" swAng="2926751"/>
                <a:lnTo>
                  <a:pt x="21101" y="14400"/>
                </a:lnTo>
                <a:lnTo>
                  <a:pt x="18437" y="21600"/>
                </a:lnTo>
                <a:lnTo>
                  <a:pt x="14775" y="14400"/>
                </a:lnTo>
                <a:lnTo>
                  <a:pt x="16935" y="14400"/>
                </a:lnTo>
                <a:arcTo wR="8717" hR="21600" stAng="-2473249" swAng="-2766168"/>
                <a:lnTo>
                  <a:pt x="9720" y="143"/>
                </a:lnTo>
                <a:arcTo wR="8717" hR="21600" stAng="-5560583" swAng="-5239417"/>
                <a:close/>
              </a:path>
              <a:path fill="darkenLess" w="21600" h="21600">
                <a:moveTo>
                  <a:pt x="0" y="21600"/>
                </a:moveTo>
                <a:arcTo wR="8717" hR="21600" stAng="10800000" swAng="5400000"/>
                <a:lnTo>
                  <a:pt x="8717" y="0"/>
                </a:lnTo>
                <a:arcTo wR="8717" hR="21600" stAng="-5400000" swAng="160583"/>
                <a:lnTo>
                  <a:pt x="9720" y="143"/>
                </a:lnTo>
                <a:arcTo wR="8717" hR="21600" stAng="-5560583" swAng="-5239417"/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6858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lady stepped on his foot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was dancing with the l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90512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ad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whom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was dancing 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ped on his fo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429000"/>
            <a:ext cx="6096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Monotype Sorts"/>
                <a:ea typeface="Monotype Sorts"/>
              </a:rPr>
              <a:t>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m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You will visit him tod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44956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know the man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ho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il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sit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6T11:32:25Z</dcterms:created>
  <dc:creator>余青</dc:creator>
  <dc:description/>
  <dc:language>en-US</dc:language>
  <cp:lastModifiedBy>a</cp:lastModifiedBy>
  <dcterms:modified xsi:type="dcterms:W3CDTF">2001-03-06T02:53:07Z</dcterms:modified>
  <cp:revision>67</cp:revision>
  <dc:subject/>
  <dc:title>定语从句关系代词that which who whom whose 1. That 指人/物， 作主语或宾语    A plane is a machine. It can fly.    He is the man. I told you about him. 2. Which 指人/物， 作主语或宾语    There are the trees. They were planted last year.    This recorder is made in Japan. He is using it. 3. Who指人,作主语; whom指人,作宾语    A person is called a thief. He steals things.    The man is Professor Li. I nodded to him. 4. Whose指人/物， 起物主代词作用    I want the book. It’s cover is blue.    This is the girl. Her pronunciation is the best.</dc:title>
</cp:coreProperties>
</file>