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9F4-88E6-47DC-9955-2CF774D8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404-5357-41C2-94BC-3F24F0A6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28D-6DA3-4BDC-A40B-2B227728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B0A-8389-41A7-AB64-667BA523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7D0B-28D1-4EAE-A1C0-4F29B175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090B-E1EC-409C-94A9-B74B0F06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165C-1038-4088-A897-4CACC903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EBB-7457-40C5-AB87-4709C1DA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7782-CE0C-42E9-985B-4E37D2E1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57E7-81EE-4818-A653-FA70B94C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19C6-5087-432C-A837-9FEE253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5F8-7F14-4E4A-8BB2-2D560FDA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1C4B-E00D-4938-B151-D1145431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AC31-6C86-42BD-90E8-63AF9FC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2ED-91E6-44B6-9E04-279F752D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91B7-49EC-4DD2-AF12-8DBECD85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7A38-1571-4ED5-8339-C6BCE538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970-96AC-4401-9C17-B049C38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0AA-95D3-4430-86ED-9D443DC0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019-A6ED-4B87-9797-561B4FC2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CD9-9D24-4074-A9BB-46EA604B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87C-F14B-4BB6-8B5C-0B98492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4E1-B4D1-4042-B7BF-3D702BAF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90D-5E81-4485-84D8-03600DD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3814-28E0-4A78-A7FA-A3FB8FB3AC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428E-8199-49EA-8953-043FEDF5D63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5Z</dcterms:modified>
  <cp:revision>102</cp:revision>
  <dc:subject/>
  <dc:title>Unit 19 A freedom fighter (continued)</dc:title>
</cp:coreProperties>
</file>