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9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6EF-4C37-46D5-B3A0-746EFA86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23C-31EB-4CDA-9536-46CD1D14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347-40A6-44EE-923D-45A37DAB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8CA-6550-40FE-B441-88C2FEB6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09D-77F9-4364-90D4-D7A346F4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20BD-2DA6-4E28-8E7D-00CA12C5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A8C-FD4B-4910-AA00-0ABA41D9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3790-B854-40FA-B40E-D0EC10E3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F1E2-D287-40FB-BD19-99832B4C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A7A2-F67F-492E-9C81-1DCDCAEA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493-8593-4341-85F1-0B1182A9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42D-14A2-4063-8139-C7F2A79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9198-8CF0-4E68-AA71-322AC04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A4EF-704A-41FD-A580-B25C53D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74A2-4A2E-4568-B49A-3EE39415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6347-ED7B-4DAA-A61F-8CA22C91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2D1C-C2EC-49DF-A2EC-573C4245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EDE-C664-414F-AA28-029BF4A9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72F-74E6-4861-9B12-C6C6554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6B4-BD81-4B8B-818B-31087C9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3A8-CA94-4A2B-9A11-CF70C13D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555-5590-4B8B-B0EB-9A9F161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6E2-EC6B-4583-AD96-AB1CD2E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D883-2A3E-4FC1-B879-B52E9ED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75F6-4A96-465C-8DE8-EA208B2EF55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9BFE-8E75-4804-909C-0D1DEEFCE25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telephoneart.com/clipart/clip3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telephoneart.com/fonpic/lotsofbuts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telephoneart.com/fonpic/key-phone.jp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hyperlink" Target="http://www.telephoneart.com/cell/yelcell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phone196.gif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7.jpeg"/><Relationship Id="rId5" Type="http://schemas.openxmlformats.org/officeDocument/2006/relationships/slide" Target="slide47.xml"/><Relationship Id="rId6" Type="http://schemas.openxmlformats.org/officeDocument/2006/relationships/image" Target="../media/image26.jpeg"/><Relationship Id="rId7" Type="http://schemas.openxmlformats.org/officeDocument/2006/relationships/image" Target="../media/image20.jpeg"/><Relationship Id="rId8" Type="http://schemas.openxmlformats.org/officeDocument/2006/relationships/image" Target="../media/image27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blueline.gif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elephoneart.com/clipart/clip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telephoneart.com/clipart/clip3.jp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she is. Would y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1______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Y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______2______. I’ll go 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get h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352680"/>
            <a:ext cx="609840" cy="58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8" name="TN_phone99348" descr="phone99348.gif"/>
          <p:cNvPicPr/>
          <p:nvPr/>
        </p:nvPicPr>
        <p:blipFill>
          <a:blip r:embed="rId3"/>
          <a:stretch/>
        </p:blipFill>
        <p:spPr>
          <a:xfrm>
            <a:off x="1066680" y="1905120"/>
            <a:ext cx="685800" cy="598320"/>
          </a:xfrm>
          <a:prstGeom prst="rect">
            <a:avLst/>
          </a:prstGeom>
          <a:ln w="0">
            <a:noFill/>
          </a:ln>
        </p:spPr>
      </p:pic>
      <p:pic>
        <p:nvPicPr>
          <p:cNvPr id="239" name="TN_phone99348" descr="phone99348.gif"/>
          <p:cNvPicPr/>
          <p:nvPr/>
        </p:nvPicPr>
        <p:blipFill>
          <a:blip r:embed="rId4"/>
          <a:stretch/>
        </p:blipFill>
        <p:spPr>
          <a:xfrm>
            <a:off x="1066680" y="4267080"/>
            <a:ext cx="68580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Pippa. I called to ask you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if you’d like to come to a lecture on Thursday evening at the college. It’s about the universe. The speaker’s__3__ to be excell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676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: Just a minute. I’ll see i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I’m free. No, I’m not. I’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already   got somet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___4___ that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woman+phone,pci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212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 pity! Never mind.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must get together so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ther time for a ___5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Yes, good ide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woman+phone,pci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61760" cy="706680"/>
          </a:xfrm>
          <a:prstGeom prst="rect">
            <a:avLst/>
          </a:prstGeom>
          <a:ln w="0">
            <a:noFill/>
          </a:ln>
        </p:spPr>
      </p:pic>
      <p:pic>
        <p:nvPicPr>
          <p:cNvPr id="248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205740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’ll have to go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Someone wants to u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the phone. All the be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Bye.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woman+phone,pci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61760" cy="706320"/>
          </a:xfrm>
          <a:prstGeom prst="rect">
            <a:avLst/>
          </a:prstGeom>
          <a:ln w="0">
            <a:noFill/>
          </a:ln>
        </p:spPr>
      </p:pic>
      <p:pic>
        <p:nvPicPr>
          <p:cNvPr id="252" name="TN_clip3" descr="clip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685800" cy="658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s</a:t>
            </a: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ck the answ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Would you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like a word with her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?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429000"/>
            <a:ext cx="6553080" cy="1905120"/>
          </a:xfrm>
          <a:prstGeom prst="wedgeRectCallout">
            <a:avLst>
              <a:gd name="adj1" fmla="val 21513"/>
              <a:gd name="adj2" fmla="val -9408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to speak to her?/ Would you like to have a word / a few words with her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 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Is Tom in? I’d like to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have  a word / a few words with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him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Cf.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  I heard that they </a:t>
            </a:r>
            <a:r>
              <a:rPr b="1" i="1" lang="en-US" sz="4000" spc="-1" strike="noStrike">
                <a:solidFill>
                  <a:srgbClr val="00ff00"/>
                </a:solidFill>
                <a:latin typeface="Times New Roman"/>
              </a:rPr>
              <a:t>had words</a:t>
            </a:r>
            <a:r>
              <a:rPr b="1" i="1" lang="en-US" sz="4000" spc="-1" strike="noStrike">
                <a:solidFill>
                  <a:srgbClr val="ecf53d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2. 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Hold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3429000"/>
            <a:ext cx="4343400" cy="914400"/>
          </a:xfrm>
          <a:prstGeom prst="wedgeRectCallout">
            <a:avLst>
              <a:gd name="adj1" fmla="val -28361"/>
              <a:gd name="adj2" fmla="val -14948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Telephones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14600" y="2209680"/>
            <a:ext cx="4177800" cy="1676520"/>
            <a:chOff x="2514600" y="2209680"/>
            <a:chExt cx="4177800" cy="1676520"/>
          </a:xfrm>
        </p:grpSpPr>
        <p:pic>
          <p:nvPicPr>
            <p:cNvPr id="160" name="old%20tele" descr=""/>
            <p:cNvPicPr/>
            <p:nvPr/>
          </p:nvPicPr>
          <p:blipFill>
            <a:blip r:embed="rId1"/>
            <a:stretch/>
          </p:blipFill>
          <p:spPr>
            <a:xfrm>
              <a:off x="2514600" y="2209680"/>
              <a:ext cx="12412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hone4,%20pic" descr=""/>
            <p:cNvPicPr/>
            <p:nvPr/>
          </p:nvPicPr>
          <p:blipFill>
            <a:blip r:embed="rId2"/>
            <a:stretch/>
          </p:blipFill>
          <p:spPr>
            <a:xfrm>
              <a:off x="3733560" y="2209680"/>
              <a:ext cx="13712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tele3,pic" descr=""/>
            <p:cNvPicPr/>
            <p:nvPr/>
          </p:nvPicPr>
          <p:blipFill>
            <a:blip r:embed="rId3"/>
            <a:stretch/>
          </p:blipFill>
          <p:spPr>
            <a:xfrm>
              <a:off x="5105160" y="2209680"/>
              <a:ext cx="158724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4114800"/>
            <a:ext cx="5715000" cy="1219320"/>
            <a:chOff x="1752480" y="4114800"/>
            <a:chExt cx="5715000" cy="1219320"/>
          </a:xfrm>
        </p:grpSpPr>
        <p:pic>
          <p:nvPicPr>
            <p:cNvPr id="168" name="TN_lotsofbuts" descr="lotsofbuts.jpg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752480" y="4114800"/>
              <a:ext cx="1295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N_key-phone" descr="key-phone.jpg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276720" y="411480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cordless-telephone-ge-intact2" descr=""/>
            <p:cNvPicPr/>
            <p:nvPr/>
          </p:nvPicPr>
          <p:blipFill>
            <a:blip r:embed="rId8"/>
            <a:stretch/>
          </p:blipFill>
          <p:spPr>
            <a:xfrm>
              <a:off x="4724280" y="41148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TN_yelcell" descr="yelcell.jp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248520" y="411480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Hold 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a minute. I’ll just  get a pe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wait on the 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continue in spite of difficul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ry and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hold 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until help arriv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The speaker’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 supposed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to be excellent.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809880"/>
            <a:ext cx="5029200" cy="914400"/>
          </a:xfrm>
          <a:prstGeom prst="wedgeRectCallout">
            <a:avLst>
              <a:gd name="adj1" fmla="val 9027"/>
              <a:gd name="adj2" fmla="val -20121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be believed/  thou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is supposed to b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the best student in our clas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s she’s not here, I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suppose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ust have gone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3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believe or th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to consider to be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*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be supposed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--- sh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re not supposed 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smoke here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4. I’ve already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got something</a:t>
            </a:r>
            <a:r>
              <a:rPr b="1" lang="zh-CN" sz="4000" spc="-1" strike="noStrike" u="sng">
                <a:solidFill>
                  <a:srgbClr val="ff66ff"/>
                </a:solidFill>
                <a:uFillTx/>
                <a:latin typeface="Times New Roman"/>
              </a:rPr>
              <a:t> on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that evening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Line 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3733920"/>
            <a:ext cx="5867280" cy="1523880"/>
          </a:xfrm>
          <a:prstGeom prst="wedgeRectCallout">
            <a:avLst>
              <a:gd name="adj1" fmla="val 51134"/>
              <a:gd name="adj2" fmla="val -1285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of something) happening or going to happ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e.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here’s a new film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 at the cinem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I’ve nothing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on 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tonight, so let’s go ou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We must get together some other time for a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809880"/>
            <a:ext cx="7086600" cy="838440"/>
          </a:xfrm>
          <a:prstGeom prst="wedgeRectCallout">
            <a:avLst>
              <a:gd name="adj1" fmla="val 15143"/>
              <a:gd name="adj2" fmla="val -14583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an informal conversa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 had a </a:t>
            </a:r>
            <a:r>
              <a:rPr b="1" i="1" lang="en-US" sz="4000" spc="-1" strike="noStrike">
                <a:solidFill>
                  <a:srgbClr val="ff66ff"/>
                </a:solidFill>
                <a:latin typeface="Times New Roman"/>
              </a:rPr>
              <a:t>chat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ith Mary about the movie last n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Lesson 89   Dialogue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 know how to use some words &amp; 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improve our telephoning sk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5. </a:t>
            </a:r>
            <a:r>
              <a:rPr b="1" lang="en-US" sz="4000" spc="-1" strike="noStrike" u="sng">
                <a:solidFill>
                  <a:srgbClr val="ff66ff"/>
                </a:solidFill>
                <a:uFillTx/>
                <a:latin typeface="Times New Roman"/>
              </a:rPr>
              <a:t>chat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---to talk in a friendl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r informal mann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fter supper, the neighbors ofte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tt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rrily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to say when telephon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2" name="TN_phone196" descr="phone19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90920"/>
            <a:ext cx="2209680" cy="2081160"/>
          </a:xfrm>
          <a:prstGeom prst="rect">
            <a:avLst/>
          </a:prstGeom>
          <a:ln w="0">
            <a:noFill/>
          </a:ln>
        </p:spPr>
      </p:pic>
      <p:pic>
        <p:nvPicPr>
          <p:cNvPr id="293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590920"/>
            <a:ext cx="2133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143000" y="1143000"/>
          <a:ext cx="6934320" cy="457200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oducing yourse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o speak to somebod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8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who the caller 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elling the caller that someone is not availab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Taking a messag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 Sans Serif"/>
                        </a:rPr>
                        <a:t>Asking the caller to wait on the line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4191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7620120" y="2133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1911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7620120" y="39625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4" action="ppaction://hlinksldjump"/>
          </p:cNvPr>
          <p:cNvSpPr/>
          <p:nvPr/>
        </p:nvSpPr>
        <p:spPr>
          <a:xfrm>
            <a:off x="4191120" y="53341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5" action="ppaction://hlinksldjump"/>
          </p:cNvPr>
          <p:cNvSpPr/>
          <p:nvPr/>
        </p:nvSpPr>
        <p:spPr>
          <a:xfrm>
            <a:off x="7696080" y="5334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BD00028_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3049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troducing yourself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This is Mr Smith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r Smith spea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y name is John Smit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greenphone,%20clip" descr=""/>
          <p:cNvPicPr/>
          <p:nvPr/>
        </p:nvPicPr>
        <p:blipFill>
          <a:blip r:embed="rId1"/>
          <a:stretch/>
        </p:blipFill>
        <p:spPr>
          <a:xfrm>
            <a:off x="6629400" y="4498920"/>
            <a:ext cx="11430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Asking to speak to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MS Sans Serif"/>
              </a:rPr>
              <a:t>somebody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Mr Smith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speak to Mr Smit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 would like to speak to Mr Smith, please.</a:t>
            </a:r>
            <a:r>
              <a:rPr b="0" lang="zh-CN" sz="3200" spc="-1" strike="noStrike">
                <a:solidFill>
                  <a:srgbClr val="0000ff"/>
                </a:solidFill>
                <a:latin typeface="MS Sans Serif"/>
                <a:ea typeface="MS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tele2,%20cli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724280"/>
            <a:ext cx="9907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Asking who the caller i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ho shall I say is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have your name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May I know who's speaking/ calling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TN_vibe" descr="vibe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elling the caller that someone is not availabl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'm sorry. Mr Smith is ..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busy on another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at a mee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... not in his off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TN_turqois2" descr="turqois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773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MS Sans Serif"/>
                <a:ea typeface="MS Sans Serif"/>
              </a:rPr>
              <a:t>Taking a message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Is there any message for Mr Smith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(Could, May) I take a message?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leave a message for Mr Smith?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j019867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00800" y="4343400"/>
            <a:ext cx="14479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S Sans Serif"/>
              </a:rPr>
              <a:t>Asking the caller to wait on the line 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an you hold on a mo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Could you please hold the li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S Sans Serif"/>
                <a:ea typeface="MS Sans Serif"/>
              </a:rPr>
              <a:t>Would you like to hold 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TN_tel02" descr="tel02.gif"/>
          <p:cNvPicPr/>
          <p:nvPr/>
        </p:nvPicPr>
        <p:blipFill>
          <a:blip r:embed="rId1"/>
          <a:stretch/>
        </p:blipFill>
        <p:spPr>
          <a:xfrm>
            <a:off x="6934320" y="4495680"/>
            <a:ext cx="112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qui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2" name="TN_phone196" descr="phone19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00200" y="2281320"/>
            <a:ext cx="1295280" cy="1220760"/>
          </a:xfrm>
          <a:prstGeom prst="rect">
            <a:avLst/>
          </a:prstGeom>
          <a:ln w="0">
            <a:noFill/>
          </a:ln>
        </p:spPr>
      </p:pic>
      <p:pic>
        <p:nvPicPr>
          <p:cNvPr id="323" name="TN_clip3" descr="clip3.jpg"/>
          <p:cNvPicPr/>
          <p:nvPr/>
        </p:nvPicPr>
        <p:blipFill>
          <a:blip r:embed="rId3"/>
          <a:stretch/>
        </p:blipFill>
        <p:spPr>
          <a:xfrm>
            <a:off x="3276720" y="3886200"/>
            <a:ext cx="129528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TN_phone99348" descr="phone99348.gif"/>
          <p:cNvPicPr/>
          <p:nvPr/>
        </p:nvPicPr>
        <p:blipFill>
          <a:blip r:embed="rId4"/>
          <a:stretch/>
        </p:blipFill>
        <p:spPr>
          <a:xfrm>
            <a:off x="6629400" y="3962520"/>
            <a:ext cx="1295280" cy="1133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68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rId5" action="ppaction://hlinksldjump"/>
          </p:cNvPr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N_phonesman465" descr="phonesman465.gif"/>
          <p:cNvPicPr/>
          <p:nvPr/>
        </p:nvPicPr>
        <p:blipFill>
          <a:blip r:embed="rId6"/>
          <a:stretch/>
        </p:blipFill>
        <p:spPr>
          <a:xfrm>
            <a:off x="5105520" y="2286000"/>
            <a:ext cx="1141200" cy="1173240"/>
          </a:xfrm>
          <a:prstGeom prst="rect">
            <a:avLst/>
          </a:prstGeom>
          <a:ln w="0">
            <a:noFill/>
          </a:ln>
        </p:spPr>
      </p:pic>
      <p:pic>
        <p:nvPicPr>
          <p:cNvPr id="335" name="greenphone,%20clip" descr=""/>
          <p:cNvPicPr/>
          <p:nvPr/>
        </p:nvPicPr>
        <p:blipFill>
          <a:blip r:embed="rId7"/>
          <a:stretch/>
        </p:blipFill>
        <p:spPr>
          <a:xfrm>
            <a:off x="3276720" y="2317680"/>
            <a:ext cx="1371600" cy="1187640"/>
          </a:xfrm>
          <a:prstGeom prst="rect">
            <a:avLst/>
          </a:prstGeom>
          <a:ln w="0">
            <a:noFill/>
          </a:ln>
        </p:spPr>
      </p:pic>
      <p:pic>
        <p:nvPicPr>
          <p:cNvPr id="336" name="tele1,%20clip" descr=""/>
          <p:cNvPicPr/>
          <p:nvPr/>
        </p:nvPicPr>
        <p:blipFill>
          <a:blip r:embed="rId8"/>
          <a:stretch/>
        </p:blipFill>
        <p:spPr>
          <a:xfrm>
            <a:off x="5029200" y="3962520"/>
            <a:ext cx="1295280" cy="1133280"/>
          </a:xfrm>
          <a:prstGeom prst="rect">
            <a:avLst/>
          </a:prstGeom>
          <a:ln w="0">
            <a:noFill/>
          </a:ln>
        </p:spPr>
      </p:pic>
      <p:pic>
        <p:nvPicPr>
          <p:cNvPr id="337" name="tele2,%20clip" descr=""/>
          <p:cNvPicPr/>
          <p:nvPr/>
        </p:nvPicPr>
        <p:blipFill>
          <a:blip r:embed="rId9"/>
          <a:stretch/>
        </p:blipFill>
        <p:spPr>
          <a:xfrm>
            <a:off x="6705720" y="228600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TN_vibe" descr="vibe.gif"/>
          <p:cNvPicPr/>
          <p:nvPr/>
        </p:nvPicPr>
        <p:blipFill>
          <a:blip r:embed="rId10"/>
          <a:stretch/>
        </p:blipFill>
        <p:spPr>
          <a:xfrm>
            <a:off x="1676520" y="396252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467480" y="5562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081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6" h="21600">
                <a:moveTo>
                  <a:pt x="1081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6" h="21600">
                <a:moveTo>
                  <a:pt x="8236" y="8224"/>
                </a:moveTo>
                <a:lnTo>
                  <a:pt x="12101" y="8224"/>
                </a:lnTo>
                <a:lnTo>
                  <a:pt x="12101" y="15221"/>
                </a:lnTo>
                <a:lnTo>
                  <a:pt x="13389" y="15221"/>
                </a:lnTo>
                <a:lnTo>
                  <a:pt x="13389" y="16144"/>
                </a:lnTo>
                <a:lnTo>
                  <a:pt x="8236" y="16144"/>
                </a:lnTo>
                <a:lnTo>
                  <a:pt x="8236" y="15221"/>
                </a:lnTo>
                <a:lnTo>
                  <a:pt x="9525" y="15221"/>
                </a:lnTo>
                <a:lnTo>
                  <a:pt x="9525" y="9129"/>
                </a:lnTo>
                <a:lnTo>
                  <a:pt x="8236" y="912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90760" y="4572000"/>
            <a:ext cx="373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al  </a:t>
            </a: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vt. &amp; 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dialling%203" descr=""/>
          <p:cNvPicPr/>
          <p:nvPr/>
        </p:nvPicPr>
        <p:blipFill>
          <a:blip r:embed="rId1"/>
          <a:stretch/>
        </p:blipFill>
        <p:spPr>
          <a:xfrm>
            <a:off x="4800600" y="1951200"/>
            <a:ext cx="2362320" cy="2179440"/>
          </a:xfrm>
          <a:prstGeom prst="rect">
            <a:avLst/>
          </a:prstGeom>
          <a:ln w="0">
            <a:noFill/>
          </a:ln>
        </p:spPr>
      </p:pic>
      <p:pic>
        <p:nvPicPr>
          <p:cNvPr id="181" name="Woman_dials" descr=""/>
          <p:cNvPicPr/>
          <p:nvPr/>
        </p:nvPicPr>
        <p:blipFill>
          <a:blip r:embed="rId2"/>
          <a:stretch/>
        </p:blipFill>
        <p:spPr>
          <a:xfrm>
            <a:off x="1365120" y="1946160"/>
            <a:ext cx="341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speak to Ms Smith, please?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Mary speak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Can I take a mess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says thi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Hold the line, pl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  The cal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  The oper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)  The person who is receiv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1523880" y="38862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 could get him to call you back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 few min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No, I prefer to hang 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 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 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1752480" y="31240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I'm afraid he's out of the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and won't be back for an hour or 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Well, could you get him to call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ack as soon as he gets 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1219320" y="30481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89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I speak to Ms Johnson, ple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Yes, I'll put you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No, I prefer to hang on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'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14479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ich is the most prope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nswe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5089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There's a lot of noise on the li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Could you speak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)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es, I'll put you through. 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b)  I'm afraid you seem to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wrong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)  Hang up and I'll call you ba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1523880" y="4724280"/>
            <a:ext cx="38124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swer on the first or second r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dentify yourself clear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e your friendly voice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k how you can hel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TN_blueline" descr="blu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029200"/>
            <a:ext cx="9907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asic points to kno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elephoning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 messages careful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pell and/or pronounce the   caller's name correc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Repeat the messa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lways be polite ---Smi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B_OPL198" descr=""/>
          <p:cNvPicPr/>
          <p:nvPr/>
        </p:nvPicPr>
        <p:blipFill>
          <a:blip r:embed="rId1"/>
          <a:stretch/>
        </p:blipFill>
        <p:spPr>
          <a:xfrm>
            <a:off x="6553080" y="3755880"/>
            <a:ext cx="17528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52680" y="480060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at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v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chat2" descr=""/>
          <p:cNvPicPr/>
          <p:nvPr/>
        </p:nvPicPr>
        <p:blipFill>
          <a:blip r:embed="rId1"/>
          <a:stretch/>
        </p:blipFill>
        <p:spPr>
          <a:xfrm>
            <a:off x="1247760" y="2057400"/>
            <a:ext cx="2533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419720" y="2133720"/>
            <a:ext cx="3504960" cy="2394000"/>
            <a:chOff x="4419720" y="2133720"/>
            <a:chExt cx="3504960" cy="2394000"/>
          </a:xfrm>
        </p:grpSpPr>
        <p:pic>
          <p:nvPicPr>
            <p:cNvPr id="186" name="chat%201" descr=""/>
            <p:cNvPicPr/>
            <p:nvPr/>
          </p:nvPicPr>
          <p:blipFill>
            <a:blip r:embed="rId2"/>
            <a:stretch/>
          </p:blipFill>
          <p:spPr>
            <a:xfrm>
              <a:off x="4419720" y="2133720"/>
              <a:ext cx="3504960" cy="23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562720" y="3048120"/>
              <a:ext cx="990360" cy="5331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ell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a word wi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old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uppo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h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have we learnt toda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29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have something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pressions to use when telepho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telephon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x.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Arial"/>
              </a:rPr>
              <a:t>,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123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Practise telephoning with your classmates in English tonight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81480" y="44956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toge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get%20together%203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3429000" cy="2684520"/>
          </a:xfrm>
          <a:prstGeom prst="rect">
            <a:avLst/>
          </a:prstGeom>
          <a:ln w="0">
            <a:noFill/>
          </a:ln>
        </p:spPr>
      </p:pic>
      <p:pic>
        <p:nvPicPr>
          <p:cNvPr id="191" name="get%20together5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10080" y="3352680"/>
            <a:ext cx="243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cell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600200" y="1946160"/>
            <a:ext cx="3048120" cy="4149720"/>
            <a:chOff x="1600200" y="1946160"/>
            <a:chExt cx="3048120" cy="4149720"/>
          </a:xfrm>
        </p:grpSpPr>
        <p:pic>
          <p:nvPicPr>
            <p:cNvPr id="195" name="excellent" descr=""/>
            <p:cNvPicPr/>
            <p:nvPr/>
          </p:nvPicPr>
          <p:blipFill>
            <a:blip r:embed="rId1"/>
            <a:stretch/>
          </p:blipFill>
          <p:spPr>
            <a:xfrm>
              <a:off x="1623960" y="1946160"/>
              <a:ext cx="2900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600200" y="5638680"/>
              <a:ext cx="3048120" cy="4572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Hello. Can I speak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Pippa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ere’s no Pippa 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This is 868607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: I’m sorry. I think I diale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rong nu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14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04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114800"/>
            <a:ext cx="609840" cy="585720"/>
          </a:xfrm>
          <a:prstGeom prst="rect">
            <a:avLst/>
          </a:prstGeom>
          <a:ln w="0">
            <a:noFill/>
          </a:ln>
        </p:spPr>
      </p:pic>
      <p:pic>
        <p:nvPicPr>
          <p:cNvPr id="205" name="TN_phone196" descr="phone196.gif"/>
          <p:cNvPicPr/>
          <p:nvPr/>
        </p:nvPicPr>
        <p:blipFill>
          <a:blip r:embed="rId5"/>
          <a:stretch/>
        </p:blipFill>
        <p:spPr>
          <a:xfrm>
            <a:off x="990720" y="2895480"/>
            <a:ext cx="6858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Hell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ello. Is that Bob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i, this is Steve. Is Pip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190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260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7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N_clip3" descr="clip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66688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8" name="TN_clip3" descr="clip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114800"/>
            <a:ext cx="609480" cy="581040"/>
          </a:xfrm>
          <a:prstGeom prst="rect">
            <a:avLst/>
          </a:prstGeom>
          <a:ln w="0">
            <a:noFill/>
          </a:ln>
        </p:spPr>
      </p:pic>
      <p:pic>
        <p:nvPicPr>
          <p:cNvPr id="229" name="TN_phone99348" descr="phone99348.gif"/>
          <p:cNvPicPr/>
          <p:nvPr/>
        </p:nvPicPr>
        <p:blipFill>
          <a:blip r:embed="rId5"/>
          <a:stretch/>
        </p:blipFill>
        <p:spPr>
          <a:xfrm>
            <a:off x="1143000" y="1981080"/>
            <a:ext cx="685800" cy="598680"/>
          </a:xfrm>
          <a:prstGeom prst="rect">
            <a:avLst/>
          </a:prstGeom>
          <a:ln w="0">
            <a:noFill/>
          </a:ln>
        </p:spPr>
      </p:pic>
      <p:pic>
        <p:nvPicPr>
          <p:cNvPr id="230" name="TN_phone99348" descr="phone99348.gif"/>
          <p:cNvPicPr/>
          <p:nvPr/>
        </p:nvPicPr>
        <p:blipFill>
          <a:blip r:embed="rId6"/>
          <a:stretch/>
        </p:blipFill>
        <p:spPr>
          <a:xfrm>
            <a:off x="1143000" y="3352680"/>
            <a:ext cx="685800" cy="598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4572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 in the blanks while liste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28:44Z</dcterms:modified>
  <cp:revision>98</cp:revision>
  <dc:subject/>
  <dc:title>Unit 19 A freedom fighter (continued)</dc:title>
</cp:coreProperties>
</file>