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50" end="5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B9C-AC54-4E3F-BBF5-D14BA257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D68-CFF5-47F0-9ABB-0D7A560C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80A-6AF5-4A29-B27A-F9699812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1BC-1CF6-4254-B034-D5634442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02E-5429-46A7-9A0D-ED5DE2E0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637-CAE8-4A29-AA66-7828D8A0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7A3-E61F-4385-9CCA-95CFFF06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987-8A5A-4874-9FF5-D1360C53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B13-DF0E-4581-B885-120D60E2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3F7-D665-4764-AF59-DA823054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986-CDEB-40F4-8874-80428C16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9E8-E988-4885-96A1-9D1B1FA8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4DD5-54AF-4400-AB82-A8A4A6EC44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pop%202.MPG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jazz%202.MPG" TargetMode="External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rock.mpg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   Unit 21 Music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B49-3AFC-4899-81D7-1ECC91EBC9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sb.) be familiar with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某人…对比较熟悉”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熟悉她的声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he ha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become familiar with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u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50800" y="3886200"/>
            <a:ext cx="599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am familiar wi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r vo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69B-AAF7-4065-ABCE-E3111D8B2D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e familiar to sb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对某人来说比较熟悉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r nam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i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very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familia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2670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am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very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 familiar 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r n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5EB-E1BC-475D-BC4A-4D22889BC6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7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…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ave some fair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quiet and peaceful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would prefer to do sth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宁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AAEA-28D5-4739-ACA0-9918A97A0F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 ---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oul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rath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stay here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 ho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-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He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would rather not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listen to jaz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7280" y="419112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’d rather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o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5D6-99EF-4E93-B7EF-DB77033BE0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 +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l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me the tru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d ra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had not me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3E8-53F4-43DE-AAD6-2977CFDC27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宁愿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而不愿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d rather hav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 red 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he green 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would rath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listen to o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an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alk himself</a:t>
            </a: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8E7-F96A-43D4-9E11-010B8B7070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.The student would rather ta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with her teache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than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with h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par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C9A-CC3F-4B67-B145-F2AAC7C561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would rather…tha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愿意坐火车旅行，不愿坐汽车。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2. I would rather travel 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than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3280" y="3581280"/>
            <a:ext cx="174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t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7960" y="4419720"/>
            <a:ext cx="15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by b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6AC-688C-4912-98BD-EC89A71F7B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therwise 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dv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9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therwis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we won’t be able to he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urselves tal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if not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否则、要不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792-3F75-48D7-AACC-511E610081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conj.    if not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否则、要不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Now I must go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 shall be 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the birthday part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穿上大衣，否则你会冷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2680" y="4648320"/>
            <a:ext cx="69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ar your coat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you’ll be co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51F-0552-40FB-A79A-F462BCFBD5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Unit 21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（一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get to know sth. about mus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221-0F18-4413-BCF2-571049D908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r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 must pay $ 100 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or el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pris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The book must be her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 el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have lost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D84-EB07-44B1-BA72-5465DC1870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Line 9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’d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m not to play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like one thing or person bett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noth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喜欢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3B5-8210-410D-8BC4-59B7CA0E90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sb.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愿意某人（不）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S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him to spen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l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ay ou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B29-AACE-4184-8E60-F9F429CD9B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sb.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更愿意某人（不）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不愿意你离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d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 you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 _ 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20080" y="4114800"/>
            <a:ext cx="255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not to le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E9E-4A9F-435C-9019-9E71BB2641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(not) to do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不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He offered to drive us home, b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to walk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he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preferred not to sta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DA6-D20B-4641-BF9B-C218BD13D4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prefer…t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比起后者来更喜欢前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1. I prefer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English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to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Japanese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ECF-18C8-441C-BD76-DBCF8464DD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efer…to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rue or Fal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prefers reading someth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atch TV at hom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he prefers reading someth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watching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TV at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68C-8D18-40EA-A904-157CFB184C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 (to do) sth. rather than (do) sth.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宁愿…而不愿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我喜欢牛肉，不喜欢猪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prefer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to rea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books rather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sit idl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4840" y="380988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prefer beef rather than p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7F0-B23C-4A5A-87BC-6E3BC32AC7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____ walk there ___ go by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,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prefer to, rather th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9E8-1574-431E-9D94-3CCD7D95BB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____ walk there ___ go by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,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prefer to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F19-8F3D-43EB-98EE-180DFEDD68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Choose the music nam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untry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lk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‘n’ 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1A7-C562-47E8-86E1-2893336F7F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le he was in the office 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red ____ something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no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o,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doing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o do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1A9-92E2-407D-939A-46CE62E1DA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hile he was in the office 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eferred ____ something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 no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o,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doing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o do, d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099-F710-445F-A237-0BD4B415E1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Rather than ___ on a crowd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s, he always prefers ___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icycle.  (NMET 9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ide,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ide, to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riding, ri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690-ACBD-4129-8CCB-E806C07FFB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Rather than ___ on a crowd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s, he always prefers ___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icycle.    (NMET 9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ide,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ride, to 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riding, ri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1D6-6899-4DFE-8FBD-306C030B20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This sentence structure ____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s familiar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is familia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3C9-A57D-4B25-A6A0-0144A25E94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This sentence structure ____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s familiar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is familia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3D9-3945-4E45-81A0-54469EEFB0B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I’d rather you ___ such a foo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did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do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3A5-3E41-403A-89C5-80F0BBF19FF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I’d rather you ___ such a foo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did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no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don’t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26B-B464-4E08-BCB5-D0A2B56340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boy ____ play ___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s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s, to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ould rather,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81F-4641-45CA-932B-24ECF285835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The boy ____ play ___ stu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efers, rath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prefers, to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would rather,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A67-204A-4592-98AB-0D778D8AEB1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 Choose the music nam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untry music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jazz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folk music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‘n’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728-26A8-479A-B089-F2572172CD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He can’t be ill ____ he would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E21-B463-4635-8D17-25BFF88109A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He can’t be ill ____ he wouldn’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o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8C2-BC40-4E90-BFBB-45E37D28424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I went there at once. __ I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missed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D95-4D8E-4823-BD90-6AF6AF585C6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I went there at once. __ I woul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missed 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Other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5DF-9B7F-4006-A874-9260DF7D6D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Many people write music for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v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All pop stars write so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mselv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Folk music has a long histo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5880" y="26668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962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91520" y="4648320"/>
            <a:ext cx="4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EDB-2B17-45FE-A945-6B9082DC592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n the old days without radio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V or  cinema, people loved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spected the music perform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ery much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Now, some musicians per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the streets for free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0384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8360" y="5334120"/>
            <a:ext cx="50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72C-7AC3-405F-B139-FB23A64D430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Folk music plays an importa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rt in African people’s lives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7. China makes the most film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world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8. Musicals are films with music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27432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11320" y="4267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0120" y="49528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B62-4FC8-4453-8D77-173704A1659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9. West Indians were brough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frica.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0. Jazz was born in 1980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1. Jazz was developed in the so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f the USA.  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4120" y="2819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4520" y="3505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4952880"/>
            <a:ext cx="5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747-B2C3-441E-898D-BDEECF0CF80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lassical music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country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music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rap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music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op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099-3E92-49B2-9EA9-070593FB7FD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835-5BAE-4682-B942-5FCF8C85A79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ow many singers are ther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band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乐队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ev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F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r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237-FBD1-4C25-B2B1-B2E0B35DCF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op music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流行音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odern music with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trong beat and not of la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terest, especially just fav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or a short time by younger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988-EDB5-44C0-A2A9-FE90181B3A5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AA4-D845-4276-A0F9-69C7D774555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music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爵士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usic originated by black Americans, usually with a strong beat and some free playing by each musician in the b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040-2700-4B8A-93F9-23C6EE62F4F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2B6-1135-45AA-8744-7EB45B96F41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formation About Mu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ock music —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摇滚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lso called rock and ro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 kind of modern music with stro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eat, played loudly on electric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struments, in which the sing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peats the same few simple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166-04D7-4AE9-BD79-9C70BA18305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. Word study— Page 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B. Exercise 2 — Page 1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A6B-7857-47B7-B4B8-F7D5E42F44B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ww.bjedu.gov.c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ttp://211.153.43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84F-2649-47C9-ACE8-01D8D359869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ow many singers are ther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band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乐队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Sev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F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Thr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D4C-BC9E-4D40-91E1-C1A9A69B5C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Choose the musical instru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jazz 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l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ian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axoph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gui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0E1-498B-4342-BAE1-E322625075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Choose the musical instrumen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ntioned in the dialog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jazz viol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l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pian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axophon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guit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B41-1A58-4883-A0D3-541E0B4401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amilia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Line 4, Page 49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me songs that everyone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’s familiar 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generally  known or seen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熟悉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70E-4F2F-4E5D-9C6C-F1A0B9F51B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4T01:29:00Z</dcterms:created>
  <dc:creator>BJ4HS</dc:creator>
  <dc:description/>
  <dc:language>en-US</dc:language>
  <cp:lastModifiedBy>Zhang Lingdi</cp:lastModifiedBy>
  <dcterms:modified xsi:type="dcterms:W3CDTF">2003-06-03T06:45:43Z</dcterms:modified>
  <cp:revision>107</cp:revision>
  <dc:subject/>
  <dc:title>Unit 21 Music （一）</dc:title>
</cp:coreProperties>
</file>