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50" end="5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C8BC-4F26-452A-B2D6-F9D6C3D31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2303-D808-4B2C-9886-2CD7E11B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F942-F31C-4F93-AF99-807874816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7DB7-2F2C-401C-BA0A-BEE2186D7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27FD-68F1-44DE-B474-E3524D4B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AC69-1CE5-4AFA-8408-AF82BDED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66E9-DE12-4AD0-B268-A175E8B6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CF47-1849-47A4-9363-B74815FA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FF97-521F-41DE-A528-23171E74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1EB1-E6A0-4763-9319-75678BD2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FC6D-1E24-47A4-B2D6-630E03BE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CC09-9857-4CF0-BEE3-75EF2C98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4B17-A819-40BA-A0C6-F593DC906E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file:///pop%202.MPG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file:///jazz%202.MPG" TargetMode="External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file:///rock.mpg" TargetMode="External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www.xcherc.net/" TargetMode="External"/><Relationship Id="rId2" Type="http://schemas.openxmlformats.org/officeDocument/2006/relationships/hyperlink" Target="http://www.xcherc.net/" TargetMode="External"/><Relationship Id="rId3" Type="http://schemas.openxmlformats.org/officeDocument/2006/relationships/hyperlink" Target="http://www.xcherc.net/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科  英语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题目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2B     Unit 21 Music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(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应播出时间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星期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三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9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讲课教师       俞平     北京四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7954-F089-4699-AE9C-270FC958BAD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(sb.) be familiar with…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某人…对比较熟悉”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我熟悉她的声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She has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become familiar with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ou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50800" y="3886200"/>
            <a:ext cx="599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am familiar with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r voi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9E6B-962A-4358-B75C-A99C1E6F2C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e familiar to sb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对某人来说比较熟悉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Your nam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is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very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familiar to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426708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am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very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 familiar with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your na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C8EB-D414-4B5A-BBE0-7A63E9C65F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ould rather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Line 7, Page 49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…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e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’d rathe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have some fair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quiet and peaceful musi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would prefer to do sth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宁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1F1D-B398-455C-A25E-F790430D98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uld ra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1. ---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Would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you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rather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stay here 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o hom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---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2. He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would rather not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listen to jazz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7280" y="419112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’d rather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o h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718E-2E9D-471E-9A25-1870AF41F3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ould rather +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宾语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I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’d rathe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you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ol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me the tru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I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’d rathe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I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had not met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h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yester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F484-721A-4778-8B4A-206214A52E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ould rather…than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宁愿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而不愿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宋体"/>
              </a:rPr>
              <a:t>1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’d rather hav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he red on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th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he green on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He would rather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listen to oth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an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alk himself</a:t>
            </a:r>
            <a:r>
              <a:rPr b="0" lang="zh-CN" sz="4000" spc="-1" strike="noStrike">
                <a:solidFill>
                  <a:srgbClr val="ffff00"/>
                </a:solidFill>
                <a:latin typeface="宋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97F6-2D68-4CBF-9EAF-240FD71F9E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uld rather…than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.The student would rather tal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with her teacher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than </a:t>
            </a: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with h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paren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FE16-AF6E-4EE6-A3C4-304864740B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would rather…than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我愿意坐火车旅行，不愿坐汽车。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2. I would rather travel 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than 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73280" y="3581280"/>
            <a:ext cx="174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by t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7960" y="4419720"/>
            <a:ext cx="152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by b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24DD-1A8F-4EC4-A6B2-1FEA04A34E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therwise  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adv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Line 9, Page 49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Otherwis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we won’t be able to hea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urselves tal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if not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否则、要不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2A70-280E-4FCD-86A3-C240FBEDD3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r 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conj.    if not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否则、要不然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Now I must go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o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I shall be l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or the birthday party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穿上大衣，否则你会冷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2680" y="4648320"/>
            <a:ext cx="694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ear your coat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o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you’ll be col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6EC2-FF70-4388-82B8-4B6D544C33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Unit 21 Music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（一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eaching Ai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To get to know sth. about musi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To learn some useful words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expression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EA1E-85EC-43DA-9E19-B61382289A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r el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 must pay $ 100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or els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o pris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2. The book must be here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or els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you have lost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AFF9-569E-4C41-BBAD-6F226D73A1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efer 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v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Line 9, Page 49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’d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refer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m not to play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like one thing or person better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anothe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更喜欢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宁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1B5E-B2A3-406D-9EFF-D251257B45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efer sb. (not) to do s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更愿意某人（不）做某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Sh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referred him to spen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al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day ou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8F58-DA05-46C7-AD42-6097CBB9C2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efer sb. (not) to do s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更愿意某人（不）做某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我不愿意你离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I’d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refer you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 _ 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20080" y="4114800"/>
            <a:ext cx="255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not to lea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F5BE-7BA4-4717-8B6E-04C525D89A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efer (not) to do s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不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宁愿做某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He offered to drive us home, bu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referred to walk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Sh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referred not to stay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CC3A-AECA-4D87-A527-C8A2C0F394B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prefer…t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比起后者来更喜欢前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1. I prefer 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English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to 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Japanese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CDAA-66E9-48CB-ACD7-32430E356C9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efer…to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rue or Fals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he prefers reading something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atch TV at hom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he prefers reading something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watching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TV at h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855D-B307-437A-AB69-9DB2424EBDD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efer (to do) sth. rather than (do) sth.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宁愿…而不愿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我喜欢牛肉，不喜欢猪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I prefer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o rea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books rather th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sit idl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4840" y="3809880"/>
            <a:ext cx="61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prefer beef rather than por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4A3B-D0E8-49CE-99AC-56C8CC1EEC4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I ____ walk there ___ go by b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prefer,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prefer, rather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prefer to, rather th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91BC-5869-45C2-8965-A7457DD3CFE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I ____ walk there ___ go by b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prefer,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prefer, rather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prefer to, rather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AF16-3D67-4BD2-9A8D-1A14FD80E2E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Choose the music nam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ntioned in the dialog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ountry music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jazz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olk music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ock ‘n’ ro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lassical music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3AE3-0532-4ACA-9973-55423DD9EE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ile he was in the office 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eferred ____ something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_ noth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do,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doing, do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to do, do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3B68-748B-4CFA-B60C-F20C54F9778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ile he was in the office 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eferred ____ something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_ noth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do,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doing, do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to do, do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CC62-3791-4C23-8BB6-27956EF63EC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Rather than ___ on a crowd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us, he always prefers ___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icycle.  (NMET 9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ride, r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ride, to r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riding, rid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EDEB-46E9-41DF-A236-F0E04E05131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Rather than ___ on a crowd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us, he always prefers ___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icycle.    (NMET 9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ride, r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ride, to r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riding, rid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6D34-6A5B-4223-97B3-5705C66F085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This sentence structure ____ 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is familiar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is familiar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would ra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9D63-B700-4ACA-85F6-468FA8E2A2E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This sentence structure ____ 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is familiar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is familiar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would ra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0411-52D8-4DDA-9FF2-2BFA7F6014E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 I’d rather you ___ such a fooli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didn’t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not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don’t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7F1B-0B97-43F0-99CB-B9CC1505802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 I’d rather you ___ such a fooli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A. didn’t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not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don’t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81F1-3E52-4AD9-B5B1-1988E67EF49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The boy ____ play ___ stud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prefers, rather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prefers, to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would rather,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BC9F-A38E-4E5F-9FD8-2730BC577B2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The boy ____ play ___ stud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prefers, rather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prefers, to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would rather,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80B5-05CE-4858-99B0-717C7BD038C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 Choose the music nam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ntioned in the dialog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ountry music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jazz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folk music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ock ‘n’ro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lassical music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p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8881-7C3F-41F3-B957-CEC2BD2D86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7. He can’t be ill ____ he wouldn’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ve c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otherw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el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B675-C6C5-440D-964D-218911B5828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7. He can’t be ill ____ he wouldn’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ve c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otherw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o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el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822F-DC92-48B7-8CE4-54D3754E246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8. I went there at once. __ I woul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ve missed 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I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Otherw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9016-9142-4F2E-8780-A3D69D2D25F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8. I went there at once. __ I woul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ve missed 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I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Otherw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46BD-B854-4A90-8A05-3814159C8CE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238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Many people write music for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iv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All pop stars write so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mselv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Folk music has a long histo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5880" y="26668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9625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91520" y="4648320"/>
            <a:ext cx="4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DF8E-01DD-4B49-89E0-755E53C8FE5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In the old days without radio,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V or  cinema, people loved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spected the music performe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very much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 Now, some musicians perfo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 the streets for free.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40384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8360" y="5334120"/>
            <a:ext cx="50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F6A6-BACE-4FD7-B1AF-9D68F0F6ED9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Folk music plays an importa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art in African people’s lives.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7. China makes the most films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world.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8. Musicals are films with music.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91520" y="274320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11320" y="4267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0120" y="495288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6520-8887-4BE2-8A9B-D59743728DE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9. West Indians were brought fr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frica.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0. Jazz was born in 1980.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1. Jazz was developed in the sou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f the USA.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4120" y="2819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4520" y="35053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4952880"/>
            <a:ext cx="5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0026-04F9-44E3-AE2C-E9DEE920CE3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formation About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lassical music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country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jazz music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rap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ock music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pop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BB15-0CEB-4CAF-9878-690C93B2E81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nformation About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E07C-6465-4E84-8333-C525885A8A0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How many singers are there 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band(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乐队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)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Sev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Fi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Thre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7CEA-972A-43FD-B9A0-E5A3FD8822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formation About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op music——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流行音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kind of modern music with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trong beat and not of las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terest, especially just fav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or a short time by younger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EF41-AB62-4B49-BFF1-866587BF38A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s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nformation  About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2BC8-A86D-4FC9-AE6C-01DFCC9F583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formation About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jazz music——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爵士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kind of music originated by black Americans, usually with a strong beat and some free playing by each musician in the b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29EB-1063-4D46-9525-1A0CF5A5AE3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s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nformation About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5FDA-F750-46FF-B811-84D5D4A6646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formation About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ock music ——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摇滚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lso called rock and ro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kind of modern music with stro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eat, played loudly on electric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struments, in which the sing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peats the same few simple wo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72BF-3168-4BDF-B7F8-6A9B3FBC078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必做作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. Word study— Page 5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B. Exercise 2 — Page 1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提高性作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完成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篇阅读理解（材料自选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3BF9-24DA-447D-A1F6-A33C718DA47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b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ww.bjedu.gov.c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xcherc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ttp://211.153.43.3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DAED-9B9E-4C4A-9D7B-9C9CAFEF9C6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How many singers are there 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band(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乐队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)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Sev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Fi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Thre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E7DF-E759-467D-9864-0E0CDC2A8B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Choose the musical instrumen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ntioned in the dialog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violin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jazz violin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l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iano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axophon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guit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4516-000D-4611-A2CF-DF97F2CF1F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Choose the musical instrumen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ntioned in the dialog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violin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jazz violin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l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piano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axophon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guit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462C-5055-4B18-8013-0416D42196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amiliar 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adj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Line 4, Page 49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ome songs that everyone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’s familiar with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,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generally  known or seen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熟悉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B888-4BDD-4C8D-8D3D-2F7CAE8097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4T01:29:00Z</dcterms:created>
  <dc:creator>BJ4HS</dc:creator>
  <dc:description/>
  <dc:language>en-US</dc:language>
  <cp:lastModifiedBy>Zhang Lingdi</cp:lastModifiedBy>
  <dcterms:modified xsi:type="dcterms:W3CDTF">2003-06-03T06:45:43Z</dcterms:modified>
  <cp:revision>107</cp:revision>
  <dc:subject/>
  <dc:title>Unit 21 Music （一）</dc:title>
</cp:coreProperties>
</file>