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47" end="5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465-B7E1-41C2-B1FF-30132040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145-C371-4331-BA98-4CCEC74D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759-C86F-4C4C-BC7C-0EEB8A92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154-D7E6-49AB-8448-B3C57E31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B36-E229-454C-BD5F-3505BE1D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682-2830-4B6A-84CE-BD7AC672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BA8-A900-4C5F-95B4-855D835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F18-2DB0-4D4B-9F43-CAF71CBD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CFF-7A09-40A5-A3F2-E8C3D210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980-6508-4B84-9CBE-7385014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FF4-FE8F-4993-8762-0657AF83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27C-DAFC-4BDA-A5A6-E7B3BCA4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882D-B481-492A-862D-8D19E9407D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01.r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E4E-AE1F-4C14-966E-BA427DEF78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5D0-015B-42FA-BF81-16D650BC24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ews of Dis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94A-748D-48E6-90D7-E530DAC1A6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in doing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做某事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2160" y="3352680"/>
            <a:ext cx="629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s may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have difficulty i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v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269-CE5C-4D9F-92FF-D9C0CEAFDD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with sth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在某方面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(much/great) difficulty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困难地，费劲地，吃力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轻易地，不费事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46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E54-0793-4349-AC33-E6DB4092FA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managed to calm h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great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’ll find the plac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ny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4960" y="2057400"/>
            <a:ext cx="6166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don’t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have much difficul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English gramm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C31-2C79-43FB-834D-CBAF8F01A5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3352680"/>
            <a:ext cx="736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is probable that one day we wi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end up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2CB-354E-40EC-A457-FC392F6239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278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59276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with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start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our dinn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ou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up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1080" y="25909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gi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590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art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183-24B2-4587-8EA1-1D0D236313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in /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的结局是…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成为…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thief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 up 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i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 up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93E-E883-480E-A6C9-183936F606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that something is true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7400" y="3352680"/>
            <a:ext cx="7224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eople …,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consi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g t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to b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up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DE7-A165-47B0-A64D-076B1CC394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…(as/ to be)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看作，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We a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ofessor Zh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anshan (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/to b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a great doc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ome scientis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controlled very s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EAC-4BB1-4EBB-A6FF-E28B265D56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know more about 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ver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EF0-DA11-49E4-8DDC-9072180D41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carefully about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考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n she sat down to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r posi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6000" y="4191120"/>
            <a:ext cx="6447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a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considering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ine when I go to colle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64C-671A-45E4-972C-AFBE57E8EE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2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all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称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240" y="3429000"/>
            <a:ext cx="789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ce, people would often be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ref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to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“deaf” or “blind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023-7463-4BB7-B5F9-7E487EBE25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ll his fellow studen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im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“the living Lei Feng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2360" y="4038480"/>
            <a:ext cx="633456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is referred to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“the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i Feng” by all his fe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udent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F30-F451-4CA6-8154-BC6F65CDE4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ook at for informati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查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参阅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can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is book no matter what information you nee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EFA-BE91-45B7-8B77-E9B70C9B55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be used to mean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指的是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y “Teacher” 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person who supplies us with knowled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414-3AE4-451D-98A9-3384DB106A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mention or speak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提到，谈到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2200" y="4191120"/>
            <a:ext cx="725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y sister often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refers t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in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1A3-54F9-40D1-8192-728CC0ADD0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a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又、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should provide an entrance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ff"/>
                </a:solidFill>
                <a:latin typeface="Times New Roman"/>
              </a:rPr>
              <a:t>as well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lifts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840" y="4724280"/>
            <a:ext cx="637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speak English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as well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r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921-D558-4349-9352-149125F257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也、还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can ride a horse. And she 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oo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well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5480" y="434340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know you like English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as w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56D-1136-43A9-99DE-3B734EA420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  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DF4-08F4-46CA-BE1F-DE719256BA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_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9C8-8078-454C-8BA4-BFC385143A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CB6-6CB4-4DC0-A432-496BE02360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041-6A76-48DA-8A0F-1281BB2DA2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58D-ABC1-423D-964D-CF3396E93C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62E-5853-415B-91FD-B7162D6B93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E4C-365E-445E-B62E-DC26841163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137-5CD3-4E1E-8B0A-A34F16F0A8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047-EC36-413C-807D-FA5F4B7155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D47-84ED-4525-A0A4-E6ED272FD5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14C-C83F-4973-BEE2-1EDD48B3A5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5C8-170E-4435-9064-227E6ED271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22F-3AD9-4CE6-B2BF-58805094A0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D75-3039-4E28-B020-A86848BC8A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ne 1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n a lecture hall of a un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England sits a profess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59A-ADFE-474A-BF2A-FBBE823F23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 professor sits in a lecture 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a university in Eng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42D-2E05-4D87-8EF3-48B977C13B4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4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Not only does he have to ty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t 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0D5-A324-4095-9EA9-25F4563A12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not only has to ty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9BC-044D-466D-812D-D4F51B6E21F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Line 3, Paragraph 3, Page 46)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t only will help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628-8B4B-4A30-A402-CE88C975D0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 only will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2F7-03C1-4664-933D-CEB73EC4243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句子的正常语序应该是主语在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谓语在其后。但是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99ff"/>
                </a:solidFill>
                <a:latin typeface="Times New Roman"/>
              </a:rPr>
              <a:t>由于语法、修辞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强调或句子结构上的需要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而把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的谓语放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样就构成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主、谓语顺序颠倒的句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种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就叫做</a:t>
            </a:r>
            <a:r>
              <a:rPr b="0" lang="zh-CN" sz="3200" spc="-1" strike="noStrike">
                <a:solidFill>
                  <a:srgbClr val="ff66ff"/>
                </a:solidFill>
                <a:latin typeface="宋体"/>
              </a:rPr>
              <a:t>倒装句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851-773A-4069-945A-6C02DF88C57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句子的全部谓语都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完全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只是部分谓语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也即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助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或情态动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分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EC6-1D98-4C82-9DE8-E44C53D6421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re comes the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ere goes the b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7EA-89E5-4AF2-AC57-9C3B98B6374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但如果主语是人称代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无需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e he comes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re it 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44E-5E47-47E7-AAED-3685B2D4003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EEE-A863-4B29-A8F8-FAD7ADB1B8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例句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in her own room can s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eel sa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C3D-C813-45AC-8E57-287F5686607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当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not only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副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介词短语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状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等结构位于句首时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需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部分倒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8C3-69F3-424A-987D-548E8B1CEA6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6, Paragraph 4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people will learn abo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 only when they go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same schools as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280-5355-465D-A08D-ABB0FCB95F8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when they go to the s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chools as people with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will young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 about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635-5C9B-4420-898E-0D4FC549EB0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nly with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1AA-6740-46DF-85F3-E4F321BB912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nly with hard wor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63B-7C70-4DCC-BF38-29773F63B91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4---Page 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ord Formation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2---Page 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1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B03-379F-4BFD-B423-C05B51CB37E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riting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xercise 3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EB2-CD7B-4889-86AE-2B50818FA12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http://211.153.43.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 www.bjedu.gov.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A45-635D-40B0-B85C-89AB675945F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EDD-38CA-4706-BE8B-8D2332B1F2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EDC-22A4-48FF-B327-F9C5E52F1C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08C-0AC8-417F-B4BB-BD9AEA14EA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885-D791-4F00-B980-3D3DA8CC6A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01:00:56Z</dcterms:created>
  <dc:creator>BJ4HS</dc:creator>
  <dc:description/>
  <dc:language>en-US</dc:language>
  <cp:lastModifiedBy>Zhang Lingdi</cp:lastModifiedBy>
  <dcterms:modified xsi:type="dcterms:W3CDTF">2003-06-03T06:42:55Z</dcterms:modified>
  <cp:revision>206</cp:revision>
  <dc:subject/>
  <dc:title>Reading Comprehension </dc:title>
</cp:coreProperties>
</file>