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47" end="5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8523-EDD1-4531-9BC2-F0E66F40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DCB2-305B-41B5-A7B7-7C8686B2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FC17-781C-4764-B625-98CCD324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F5D8-5227-4B02-AFEE-282676D2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4EC3-050A-4F9D-8F19-433E198B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E25B-5E76-4C8D-BB29-94BE5606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F534-41AB-4552-951E-20CB564B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DCCE-6F05-4CB4-9E1A-12C40A99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F184-AF4A-4004-82C5-9E299463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6BC8-1B6B-4A98-92C5-4650CB6E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B701-A538-4755-949B-647CE55A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0052-49E2-4EC6-AE55-44FBEE2A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B2F2-531B-4AD1-8412-064BC93545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001.rm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www.xcherc.net/" TargetMode="External"/><Relationship Id="rId2" Type="http://schemas.openxmlformats.org/officeDocument/2006/relationships/hyperlink" Target="http://www.xcherc.net/" TargetMode="External"/><Relationship Id="rId3" Type="http://schemas.openxmlformats.org/officeDocument/2006/relationships/hyperlink" Target="http://www.xcherc.net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题目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B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Unit 20  Disability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(B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应播出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二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    俞平     北京四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0313-CA98-48CF-B662-3A672FC72A0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graph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The number of people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disabilities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The situation(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处境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) of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with disabilities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The schools for the disabled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people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CA21-3053-47A5-A613-E57050A8EC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Vid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News of Dis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5F70-0AA7-45BB-B14E-D549351D10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ve difficulty in doing s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1, Page 46)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做某事有困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2160" y="3352680"/>
            <a:ext cx="6293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thers may </a:t>
            </a:r>
            <a:r>
              <a:rPr b="0" lang="en-US" sz="4000" spc="-1" strike="noStrike">
                <a:solidFill>
                  <a:srgbClr val="ff6699"/>
                </a:solidFill>
                <a:latin typeface="Times New Roman"/>
              </a:rPr>
              <a:t>have difficulty i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oving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4A0D-5285-4880-86D4-37AB3BDFF0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ve difficulty with sth.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在某方面有困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ith (much/great) difficulty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困难地，费劲地，吃力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轻易地，不费事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4267080"/>
            <a:ext cx="461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ithout any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78C3-9355-489E-8BFC-B69D027A99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 managed to calm her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great difficulty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You’ll find the place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with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any difficulty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4960" y="2057400"/>
            <a:ext cx="616680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don’t </a:t>
            </a: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have much difficult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with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English gramm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4641-473E-4E8D-9E79-245394F99D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nd up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结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1, Page 46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4440" y="3352680"/>
            <a:ext cx="7364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t is probable that one day we wil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99"/>
                </a:solidFill>
                <a:latin typeface="Times New Roman"/>
              </a:rPr>
              <a:t>end up with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a dis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9EEC-9E4D-441A-9382-BC0C78166F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32788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7592760" cy="33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nd up with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以…结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以…开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e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starte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our dinner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with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soup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ende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it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up with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fru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1080" y="2590920"/>
            <a:ext cx="23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egin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91120" y="25909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tart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5557-FA32-49D9-8E5E-5F4E02B55D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nd up in /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最后的结局是…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;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最后成为…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The thief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ended up i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pris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e will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end up as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presid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ome 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D774-7D97-4E8C-98A2-D3E83B3FAB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onsider 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v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1, Page 46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)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think that something is true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认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7400" y="3352680"/>
            <a:ext cx="72248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ome people …,</a:t>
            </a:r>
            <a:r>
              <a:rPr b="0" lang="en-US" sz="4000" spc="-1" strike="noStrike">
                <a:solidFill>
                  <a:srgbClr val="ff99ff"/>
                </a:solidFill>
                <a:latin typeface="Times New Roman"/>
              </a:rPr>
              <a:t>consid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g the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99ff"/>
                </a:solidFill>
                <a:latin typeface="Times New Roman"/>
              </a:rPr>
              <a:t>to b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stupi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0BEE-452D-41FC-801C-03212CE155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onsider…(as/ to be)…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把…看作，认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We all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consid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Professor Zh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anshan (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as/to b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) a great doct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Some scientists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consid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SA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ill be controlled very so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1E77-CE34-49AA-B610-8AB6937865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it 20  Dis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eaching Aims—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教学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To know more about disabiliti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To learn some useful words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xpress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To learn Grammar—Invers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BDED-7DF7-43BC-B84B-DD83D916D8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)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think carefully about sth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考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Then she sat down to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cons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er position(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处境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6000" y="4191120"/>
            <a:ext cx="6447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a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considering stud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edicine when I go to colle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2364-1375-4AD8-8B20-9305037070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fer to…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Paragraph 2, Page 46)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)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call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把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称作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40240" y="3429000"/>
            <a:ext cx="789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nce, people would often be </a:t>
            </a:r>
            <a:r>
              <a:rPr b="0" lang="en-US" sz="4000" spc="-1" strike="noStrike">
                <a:solidFill>
                  <a:srgbClr val="ff6699"/>
                </a:solidFill>
                <a:latin typeface="Times New Roman"/>
              </a:rPr>
              <a:t>ref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99"/>
                </a:solidFill>
                <a:latin typeface="Times New Roman"/>
              </a:rPr>
              <a:t>to as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“deaf” or “blind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A610-B7C5-4627-84AF-432075B4D6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fer to…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All his fellow students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refer t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im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as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“the living Lei Feng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2360" y="4038480"/>
            <a:ext cx="6334560" cy="26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e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is referred to as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“the liv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ei Feng” by all his fel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tudents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0F80-D142-4B17-B310-F8446C69E0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fer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)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look at for informatio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查阅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参阅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You can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refer t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his book no matter what information you need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CD32-4253-4FBE-A5E7-C39777D19C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fe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)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be used to mean somet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指的是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y “Teacher” we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refer t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he person who supplies us with knowled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2991-91DA-4898-94E0-D510135A6F6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fe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)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mention or speak ab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提到，谈到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22200" y="4191120"/>
            <a:ext cx="7253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y sister often </a:t>
            </a: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refers to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you in 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tt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929A-03A1-476D-A39F-E2D0826C53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s well as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又、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3, Page 46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e should provide an entrance …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99ff"/>
                </a:solidFill>
                <a:latin typeface="Times New Roman"/>
              </a:rPr>
              <a:t>as well as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lifts,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8840" y="4724280"/>
            <a:ext cx="637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can speak English </a:t>
            </a: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as well as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erm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C117-0087-430F-9923-6EA949CFB18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s well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也、还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he can ride a horse. And she c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hoot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as well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5480" y="4343400"/>
            <a:ext cx="674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know you like English </a:t>
            </a:r>
            <a:r>
              <a:rPr b="0" lang="en-US" sz="4000" spc="-1" strike="noStrike">
                <a:solidFill>
                  <a:srgbClr val="ff99ff"/>
                </a:solidFill>
                <a:latin typeface="Times New Roman"/>
              </a:rPr>
              <a:t>as wel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87FA-F6B5-469F-A4B5-9F63921B250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 had forgotten the date of th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ar, so I  _____ a history boo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referred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ended up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consid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A935-6124-4786-9FA3-ACFD5514ECA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 had forgotten the date of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ar, so I______ a history boo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A. referred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ended up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consid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A225-C238-432E-A4D8-CF188E8F8D2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ding Comprehens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ragraph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 It’s not right to look down up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eople with disabiliti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 One day we will end up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s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 Many people have a dis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19BB-A22A-470E-98A8-F03D9BAF56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’m going to Hong Kong and 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ister is going 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as well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as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in f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70E3-479B-4A17-B0C2-9021C2A16F3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’m going to Hong Kong and 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ister is going 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as well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as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in f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543D-9461-4317-959A-3F9203412C6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I can remember her e-mai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ddress 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without any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with much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have great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2525-B026-4DE0-8085-4FF78A2805D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I can remember her e-mai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ddress 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A. without any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with much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have great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79AB-3BCF-428F-8B94-4AC3A6570F2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It is important for you ____ f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as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b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as well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C604-2822-4B7E-99C2-4040FD01C45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It is important for you ____ f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as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b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as well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5C35-F6D8-4089-B2D4-2BA591CF603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The Carters usually _____ thei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upper _____ ice crea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end up,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end up,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end up,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1218-407C-4B2C-A270-7629D2A5486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The Carters usually _____ thei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upper ___ ice crea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A. end up,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end up,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end up,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1E4B-2075-4292-91DC-EB11043676F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He </a:t>
            </a:r>
            <a:r>
              <a:rPr b="0" lang="zh-CN" sz="4000" spc="-1" strike="noStrike" u="sng">
                <a:solidFill>
                  <a:srgbClr val="ffff00"/>
                </a:solidFill>
                <a:uFillTx/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her ideas to be practic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makes s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refers to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consi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2B92-B1AC-4607-8185-2F74E621CE6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He </a:t>
            </a:r>
            <a:r>
              <a:rPr b="0" lang="zh-CN" sz="4000" spc="-1" strike="noStrike" u="sng">
                <a:solidFill>
                  <a:srgbClr val="ffff00"/>
                </a:solidFill>
                <a:uFillTx/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her ideas to be practic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makes s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refers to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consi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7EA9-0AD3-402A-A35A-F565660E2FE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ad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ragraph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. It’s not right to look down up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people with disabiliti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 One day we will end up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s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 Many people have a dis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5DCB-1CFE-4AFC-A8C5-62BFF211D8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ine 1, Paragraph 1, Page 44)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n a lecture hall of a univers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 England sits a profess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EEA0-1E9E-4A64-BFEF-E12549BA0B4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A professor sits in a lecture h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f a university in Eng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E965-1300-4D5C-A675-F0CF219027A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Line 4, Paragraph 1, Page 44)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2. Not only does he have to typ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ut the answers on a computer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ut he also gets the compute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ranslate it into soun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D790-913C-4AA9-9893-D4BF3BE37E0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e not only has to type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answers on a computer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ut he also gets the compute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ranslate it into soun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4C79-DAA3-4196-88A8-79C6EAE9208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Line 3, Paragraph 3, Page 46)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ot only will help be given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eople to find jobs, but als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dical treatment will b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ovided for people who need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69BE-76C7-4852-891F-E46D9EE6F99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lp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not only will be given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eople to find jobs, but als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edical treatment will b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vided for people who need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7281-3140-4807-9C1D-EC9D3B71F3F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一个句子的正常语序应该是主语在前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谓语在其后。但是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ff99ff"/>
                </a:solidFill>
                <a:latin typeface="Times New Roman"/>
              </a:rPr>
              <a:t>由于语法、修辞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ff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99ff"/>
                </a:solidFill>
                <a:latin typeface="宋体"/>
              </a:rPr>
              <a:t>强调或句子结构上的需要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而把句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的谓语放在主语之前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这样就构成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主、谓语顺序颠倒的句子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这种句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就叫做</a:t>
            </a:r>
            <a:r>
              <a:rPr b="0" lang="zh-CN" sz="3200" spc="-1" strike="noStrike">
                <a:solidFill>
                  <a:srgbClr val="ff66ff"/>
                </a:solidFill>
                <a:latin typeface="宋体"/>
              </a:rPr>
              <a:t>倒装句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。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D655-7F84-4352-BBBA-CD58C5970BB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如果句子的全部谓语都在主语之前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这叫</a:t>
            </a: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完全倒装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如果只是部分谓语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也即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助动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或情态动词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在主语之前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这叫</a:t>
            </a: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分倒装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DA38-9F4C-4817-8C9E-EA902F543D6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当副词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there, here, up, down, in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out, then,  now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等位于句首时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如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主语是名词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则要全部倒装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;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Here comes the b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There goes the bel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7440-3C22-4F8B-9FC1-23172981680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当副词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there, here, up, down, in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out, then,  now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等位于句首时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如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主语是名词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则要全部倒装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但如果主语是人称代词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则无需倒装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Here he comes.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There it 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696B-1405-4D09-979D-4A8AEEE5EED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graph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 Most of the deaf have a bi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ar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 Most of the blind have a bi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igh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Disabilities are not total, in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67D3-207D-4A65-8C34-B848D83713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例句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nly in her own room can s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eel saf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166A-3B9F-4AA2-8E60-701972208A9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当</a:t>
            </a:r>
            <a:r>
              <a:rPr b="0" lang="zh-CN" sz="3600" spc="-1" strike="noStrike">
                <a:solidFill>
                  <a:srgbClr val="ff66ff"/>
                </a:solidFill>
                <a:latin typeface="Times New Roman"/>
              </a:rPr>
              <a:t>not only</a:t>
            </a: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ff66ff"/>
                </a:solidFill>
                <a:latin typeface="Times New Roman"/>
              </a:rPr>
              <a:t>only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+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副词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66ff"/>
                </a:solidFill>
                <a:latin typeface="Times New Roman"/>
              </a:rPr>
              <a:t>only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+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介词短语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66ff"/>
                </a:solidFill>
                <a:latin typeface="Times New Roman"/>
              </a:rPr>
              <a:t>only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+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状语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等结构位于句首时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需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部分倒装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。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5B3C-D310-4A4C-9507-D26C53F08FB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Line 6, Paragraph 4, Page 46)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Young people will learn abou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sability only when they go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same schools as people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sabiliti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7083-4124-4A6D-B2C4-449575392C1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nly when they go to the sam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chools as people with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disabilities will young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earn about dis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EA90-1794-4F61-9094-97011FC372A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_ can you expect to get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ay rise. (2000 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With hard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Only with hard wor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Although work h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B1D7-3BA5-4EBF-BF25-17A74B0F65F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_ can you expect to get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ay rise. (2000 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With hard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Only with hard work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Although work h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E1AD-48CB-4EB4-B925-0FE863781FC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必做作业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ractice 4---Page 4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Word Formation---Page 4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Exercise 2---Page 1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D. Exercise 1---Page 1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预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Unit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EA21-B12D-4588-B3D8-72FC5819E99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提高性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Writing---Page 4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Exercise 3---Page 1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完成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篇阅读理解（材料自选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选做作业——本单元的其它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3686-794F-4503-A374-D7C0759B795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xcherc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2. http://211.153.43.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3. www.bjedu.gov.c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77FE-798E-4C05-A3B2-517138C22A7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graph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 Most of the deaf have a bi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ar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 Most of the blind have a bi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igh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C. Disabilities are not total, in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ECA3-24B0-4722-BBF5-4E48B56F7C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graph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We must do all we can to mak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disabled people’s life easi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We must make sure the disab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eople can use our build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We must make the signs cl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nd easy to re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0F74-9A3B-4211-8AFA-CDCB1058C2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graph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. We must do all we can to mak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the disabled people’s life easi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 We must make sure the disab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eople can use our build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We must make the signs cl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nd easy to re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F43E-7CB1-4371-BBB0-2998FC4C86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graph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The number of people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disabilities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The situation(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处境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) of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ith disabilities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The schools for the disabled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people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00FB-66F1-4A9C-AF50-ED7C3A2668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01:00:56Z</dcterms:created>
  <dc:creator>BJ4HS</dc:creator>
  <dc:description/>
  <dc:language>en-US</dc:language>
  <cp:lastModifiedBy>Zhang Lingdi</cp:lastModifiedBy>
  <dcterms:modified xsi:type="dcterms:W3CDTF">2003-06-03T06:42:55Z</dcterms:modified>
  <cp:revision>206</cp:revision>
  <dc:subject/>
  <dc:title>Reading Comprehension </dc:title>
</cp:coreProperties>
</file>