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AEF-DCDD-4FBC-BC08-EF938916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EF3-C195-4FE3-A5A6-5FB63B7A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C6850-34DE-40C1-B3B1-025A5D83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7B764-DCE4-4779-B56F-80C85F41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E23E5-14BA-450F-8DDA-D18BDC99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61B32-7088-436B-9218-836065F9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47C63-7DB8-42C3-A7F5-B0C5BFF9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E61E4-2BF7-421C-950B-BDFBC598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9839D-E194-40B9-B161-6A1FE9AB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00445-F380-4E75-827C-A17869D9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EA3ED-A81A-46F5-AF6B-93CA6201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F0E01-9C98-407F-B869-414765D2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FB5-CBA1-4C94-9F61-9316F817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3DA1E-5027-4DD6-84BF-10B5C98D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F72C7-1E81-49EA-8548-99F96AEC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001C3-33AC-43DB-8585-E1381FBC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3FE26-4A12-4A22-AA4C-FDCE581C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ADDD8-026E-45B5-8BF4-5A03C9B1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9EC62-D0CA-45E3-925E-A6C31B3D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CE3EF-D454-4737-BFBC-A29E1753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8A158-BE84-495C-A9FD-F6C0A93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FAD42-14B2-4237-954B-CE6F5328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D33CA-3FB6-4757-BEAA-0B334697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C5B-6F80-4F47-9B12-A732C87F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9E92D-A424-4A0E-9C3C-BEB6CC5F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7BA14-02B1-4040-942A-C8696995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53CB6-E3D3-457C-A0F3-F894B2BB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AB9BD-ED68-4FE6-8EB8-78456B9F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25531-858F-45EB-AE94-01A7C889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1F2B4-E1F4-4D93-B44B-806A79A1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B08E1-6493-4D14-BB36-77B58AC6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6A0BA-7716-4EAE-B557-DCF1CC43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38C4C-7E26-435B-9C3D-57F0558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FA99A-97C4-4CC1-9D42-7B8402E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BECB-DF19-4CF4-B38F-AD17B1CF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10153-0C99-4173-A5A9-2E9A36D4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225C1-0D20-4916-9C85-EB248CA0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47141-AB79-4D87-90FE-A049A054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E61B0-4A37-41DD-B25E-70B621F1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8E684-E11E-4EB6-8B52-5A115C2B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31382-1FE9-4467-8EF2-A888B9D6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DE0C4-D9BB-44A7-A34B-E96F8B1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A4AB8-BEA7-4B34-A9A3-A88D44FE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31C24-2A76-4DD5-8160-D162349A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B25F9-6666-476D-A99C-EBD1912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27ED-153A-49B8-B542-6E7713AE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9F9AE-396E-4428-AC33-B4F0B51C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B250B-9789-4864-9670-72A08D98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3F751-61D6-45E3-A759-770E073D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FBBA6-DEC2-47E3-BF52-1C9C82F7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ECF4E-CD40-48C0-9FE0-8DDD7F2B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7A9AE-2E7E-4297-B9FD-973803E2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32E31-52D7-4BEE-80DE-B38F36B4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A556E-C1C9-4784-8A96-31A0DFE0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4F066-3B07-4D4B-95E2-A9A08C83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B7D31-644A-477A-A09B-9E32601B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BB86-84B8-48E5-8FDC-58437B7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8A0DA-575C-4201-907E-0EFD7F7C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2E025-ECA2-415B-A463-7B5FF131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A9DAC-A404-4E46-A27B-403AFF07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1D0111-E236-4B7E-8956-F69384E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4C2CF-CF2E-4A3E-BD2A-08978035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7AB46-013E-49A5-A708-7DEB4B26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15020-5D91-46E8-86FA-DBE469BC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4E6A0-2A49-409C-86FC-1FDE36B9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D993A-A00C-4EFE-9061-8A5D70C8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DCFC8-3703-4E84-A51A-0A3E9767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5DAA-7B9E-4F28-9880-0C23800C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31FD3-805F-4210-AD15-DF139EBD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751B4-5F18-40B1-8D72-A0A3FCAB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96F21-7EBE-4A78-BA44-01776618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F7326-ACA0-4415-B1B9-5C688503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4AE18-983D-4AE4-98E7-67B60EB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0DC37-EF2A-47FA-A851-BF58A393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98B86-9921-4C75-9977-BCCC194C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F9A59-16BC-44C0-823C-7487DFC6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F5416-C760-432E-96A6-4419C6C5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FB87A-4959-4534-8EA5-CBC02906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40B1-8780-48FB-8E25-886F8B47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91135-4B87-4F59-B8A2-03C1290D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B498D-5D4E-4782-82AD-7D34631E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59938-8441-4A34-838E-9F648BE6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86A6A-B4AB-4433-A90A-9B2ACB98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E1B75-1962-40B9-BF42-7FEE19AF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0F808-E99A-48F9-A928-BDF0930E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B8C2B-2BF1-46C2-9767-A54FCA44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A4EB4-6A05-4C54-966D-9D614357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A3C20-5E64-40E9-84E5-330FF000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13741D-5FD6-42D9-A001-19785D9F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0A24-03D5-466E-989D-30A01FC9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9DE94-9C50-457A-A4CE-97D91F69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25FD13-991F-4965-BC64-B48C6E14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A7A15-7256-44F7-A619-73903BB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81ECB-9A99-40D5-8C45-81CE40E7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1841D-BF35-43E8-B676-A1D90EBE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72BA6-8D96-41A8-B3F8-EA3BC2FE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FCDA5-ED83-43D7-B081-C6511C97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82404-D249-489F-837C-5681942F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5A53C-94E3-4B33-B67E-B197BF06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C61FD-5A4C-44B2-BCFD-E08BF821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AC70-D19F-4884-A8C1-8F9C9542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8C063-F661-4333-9D76-13C7413E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D9CD4-7D83-499F-B555-1A36724D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DFAA4-5F78-49DE-B60E-C5827688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55E-FD7E-418D-96AF-C5CC0E4B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CFE1-3ABC-405B-81D3-FB600E4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CAB3-716E-4A0D-A7BC-64A97164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33F8-1ED3-455B-8D56-DC1EF002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BE3B-AF02-49E2-BCB2-224786EB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C989-BA8B-40B1-AECA-CE7DEF60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503F4-515B-48A2-B974-028E8FF8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21F8-DB71-4AF5-A73C-79404E47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015A-E0C9-41E4-A45A-038A4144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B6AE-3FDB-41EF-B292-F3E5B5B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FAC1-923D-4501-9DA0-ED8DB2CB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532-19EE-49F7-B128-A31AAB2F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FEBB-2FE7-4F23-B02D-C78471B5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AEF1-E5B6-4990-9CBC-DF3780B3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B4F75-F6D6-46DF-B5E4-1FBC040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623F0-58E8-49FB-AC89-65C1FA00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7604-FE26-4BA1-896D-2A75A1DB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FE2D-CA89-4F35-B8C8-C07DA370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0815-2D2B-4C7A-A670-42F5CEB4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B7AD-E7E1-4D49-88DF-79FA8CCA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B4CE9-9E9A-4AAF-A0DB-AA6A592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5D8A-EE65-4B6B-81AF-F740D34D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3A0-63C6-47E4-8256-01C243FD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9AE0-625A-4232-AE40-B4F7850C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B5A8-F04B-4B0B-AB9E-F8080125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E6DDB-2673-4E0D-8A6B-A819198F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D29FC-4313-4020-9B2C-1925AA0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8CC5-100C-4105-B541-1313EE9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8ECA-62C4-491A-A094-37D00113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1101-86B9-4293-955F-25304FEF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E9A0-86C8-4369-B927-AA7CB898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9F72-0582-4B3B-8F29-9328817A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FC45-B879-4DB4-8830-8F915175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387-CD64-4060-B9EA-56696437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3C884-AB00-4100-83E5-DCD56964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22ED-B9CE-40D2-99DC-A04DEC16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949B-60C5-4236-8A6A-F27223D3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91BE7-6AF5-40DF-868B-F58084D7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9678-9ADF-4480-9082-15243565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C0559-4D06-40B0-8C82-6DC1EBA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E949-1DB8-491E-B269-E0ECE9F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A8C44-E312-4382-B923-5CE53749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FEDE-951C-4166-8F49-1E39B800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6B0B-DB2E-4D1A-BFD8-6241877E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000-3831-443A-9685-290CE4A2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B459-A04F-4158-8BE0-1E6A39FB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6D707-C5B2-4CE3-B390-84CF155E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876E3-2621-403F-BCEA-DA27AD2C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74C0F-9E21-43A8-BBB5-88B2FE0A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75BC8-24C3-4C4B-8194-E53BCC8B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A8650-DEDD-4B7D-88D2-AA6DC0A6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630D2-F686-4692-A9F0-FC95C525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86142-AB3C-49C4-9D2D-E71838B0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4FE10-D437-48E9-8F6A-135400D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96038-5C1A-42A9-8271-F827D6F2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0E2-174D-414D-923E-F59602C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35EEC-D932-4F31-A2D9-970D444B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5EDC6-19DA-4A3F-AF7E-FD2A15F7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28B44-BB7C-4B67-804E-2CF1BA7D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AAA53-05D6-4E2E-88F8-1C411B01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AE085-41AB-4BD5-8A20-E320E3C6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8CB77-DE23-4E9D-8335-9BA53811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29B64-6862-433D-B76E-E62A48C1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5F3B1-E7DC-4DA6-8852-F49D4EAB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2B599-F5AF-4E81-94A3-E2108E9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A4A17-2340-406A-9EFC-45210911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F4D-B557-4B62-BD47-C7E2DD2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D6485-1030-4F99-B75D-9F3E3C28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53810-43FE-415A-9813-7334A4E5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9B2D8-05B3-4990-A6E3-9B729F33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1FFB0-92F5-4463-A016-808FD8AD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668DB-06B6-4035-B425-641459A7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A8661-7660-4C17-A89B-BCA36A6A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0C773-FFB8-41BA-8374-3AD859CE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2D207-5FB8-442E-A563-28AB7620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F60BA-4D30-4D64-92BE-D5842139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9C19D-2346-4379-A393-6ED4FAD1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1F9-BF25-4525-BAE8-9A8FE18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CF562-3F1C-433F-8573-8632E42C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92072-F897-40E7-B3C6-658354E3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DC756-3CA3-4BDC-A0D3-1A9D6E76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FE1A3-3105-4F70-BC4C-80CC6B9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F3E0C-1754-4C9B-A292-EEE95BB2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C585-31DD-44B8-B391-945B1154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B4BD6-DBB0-4C8B-B37B-D57FB3FC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ADC7D-97B1-4216-A9ED-83591427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F326A-8044-49BF-87AA-CE644262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0561F-F17F-4CA4-B816-0B3131F5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5046-9D89-476C-8FF7-33C9D09619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0EEE-E57F-4E0A-9BA5-B6F587EBB96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BB2E-59B7-4E57-BD68-ACA9F3CD6B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9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F91F-3348-4EBA-BDED-312ED1E4CA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5C76-1FF6-4E10-B3C7-2E26FADA8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4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4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C5A-3327-4202-91AF-A8538496EB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3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DDD9-22E7-45D5-8943-03202BF7BD7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8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59E0-B721-4B59-92C3-D7A6530FDF1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7199-8A84-4A8D-B918-07AC7C4AC6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F2C0-9E64-4006-AFC6-B32641750A4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808A-30A1-45B0-BCB1-1B4E2B787A4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3305-99CE-4573-8EAE-45D6D65F31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DD1B-0A81-4EDE-ADD1-66693AD1FA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E2F2-9DF4-4530-974F-2959DD8ED9E5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5B15-00B8-45A3-BDA9-D1D1081DDAB5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63D7-130A-45DC-9627-0593CDB2CD1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826920" y="33336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c5900"/>
                </a:solidFill>
                <a:latin typeface="华文彩云"/>
                <a:ea typeface="华文彩云"/>
              </a:rPr>
              <a:t>Welcome to join us!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3405240" cy="422100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679320" y="0"/>
            <a:ext cx="3275280" cy="42926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116000" y="4797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4292640"/>
            <a:ext cx="8353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198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A young boy called Elliott who made friends with a creature from outer space and helped him find a way back home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392720" cy="36003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5219640" y="1052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692280"/>
            <a:ext cx="42480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Jurassic  Park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199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A park where a rich man keeps dinosaurs, some of whom, the  meat-eating ones, hunted children when hit by a stor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916360" cy="439236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4968720" cy="33066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"/>
          <a:stretch/>
        </p:blipFill>
        <p:spPr>
          <a:xfrm>
            <a:off x="3492360" y="3789360"/>
            <a:ext cx="50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3      Schindler’s Lis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8      Saving Private Rya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The cruelty of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Love and peace will win 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ivit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388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is h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do you think of hi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ecret of his succ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4649760" y="1847880"/>
            <a:ext cx="403704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3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A______ director, was born in 1946. When still a young boy, he started m_____ short films. At the age of 12, he made his first real films, using actors instead of toys. He wrote the s____ for the film himself. When he was 13, he won a p____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meric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Americ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y he didn’t realize his dream to go to the Academy was that he did badly in his studies. After studying English, he got a job at a film studio where 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ork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a short film which won him a job as the youngest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dire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world. Then h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care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b________. Many people who saw the film were afraid to swim in the sea when they remembered the s______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c____ from o____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h_____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c_____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201080" cy="56880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1476360" y="692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ed before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76360" y="544500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ill happen after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80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is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ighly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we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was Spielberg’s dream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have you learnt from reading about Spielber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ctivit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Dilige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Little chops can finally fell a great tre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William Shakespea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inal success often comes in the last five minutes.                 -------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difference between gifts and diligence cannot be told. It will remain unknown forever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-Beetho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y success does not lie in natural gift but in faithful devotion and practice.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Mei Lanfa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persevera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ecret of success is constancy of purpos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Chapli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ithout perseverance nobody can succeed.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  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 person should have a strong will, or he will achieve nothing.                 ------Madam Curi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fe is like an ocean: Only the strong-willed can reach the other shore.        ------Karl Mar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ccess is the combination of hope and struggle.                             ------English proverb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a reporter from CCTV. You are  going to have an interview with Steven Spielberg. Mak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going to invite Steven Spielberg to your chatroom. Hav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ay something about a dir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care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to his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179280" y="2157480"/>
            <a:ext cx="86407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uppose you are going to be a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m director. Say something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your future fil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 rot="388200">
            <a:off x="-1765440" y="476280"/>
            <a:ext cx="9685440" cy="560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Thanks for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     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joining us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1763640" y="537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ahoma"/>
              </a:rPr>
              <a:t>武进区湟里高级中学高一备课组   蒋秋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80283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0" y="189000"/>
            <a:ext cx="8569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Steven Spielberg</a:t>
            </a:r>
            <a:endParaRPr b="1" lang="en-US" sz="40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2219400" cy="29527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212868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40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childhood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yout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everal of his successful fil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ecret of his succes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4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born in America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Made his first real film using real 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on a prize for a short fil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6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fireligh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couldn’t he go to the Academy as a young m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id he study t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job did he ge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won him the youngest director in the worl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is you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6769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me some of his most successful fil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uccessful fil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311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30800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ffcc"/>
                </a:solidFill>
                <a:latin typeface="Tahoma"/>
              </a:rPr>
              <a:t>Jaw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1975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real blockbus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white shark attack swimmers who were spending their holidays in a village by the se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0:12:39Z</dcterms:created>
  <dc:creator> </dc:creator>
  <dc:description/>
  <dc:language>en-US</dc:language>
  <cp:lastModifiedBy> </cp:lastModifiedBy>
  <dcterms:modified xsi:type="dcterms:W3CDTF">2003-10-14T02:35:08Z</dcterms:modified>
  <cp:revision>25</cp:revision>
  <dc:subject/>
  <dc:title>幻灯片 1</dc:title>
</cp:coreProperties>
</file>