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47" end="5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A68-EC2F-4F8D-A8E3-E745637B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7CE-6047-41CD-B8EF-A5CB11BF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8DC-A2C6-4B8F-B845-86FE82F8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714-9A6D-4082-81F8-019266CD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5E7-BF59-4DF7-857A-40C6A425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86F-9DC3-48CE-A75E-17D17263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49C-5D43-4A6A-93D3-C4AB6BF4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74B-54B1-45F5-AB1B-C6B66791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F99-FBB3-4DD8-9D93-3D7D9F5E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B32-D0A5-4A8B-BE12-BD9D85CD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032-2A04-42C9-B253-A30B5E0C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31F-8ABC-4644-9F27-3ADA0024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0AFC-FA69-49C8-B4D2-EEB0C5E8A0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01.r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3DB-54B5-4968-B805-E7B3E10459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A3D-6E8D-48BE-A030-C72CD41D24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ews of Dis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C28-145A-4796-AC88-1955C3201A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in doing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做某事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2160" y="3352680"/>
            <a:ext cx="629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s may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have difficulty i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v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B39-9618-476A-A1A1-72BABFF9C8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with sth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在某方面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(much/great) difficulty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困难地，费劲地，吃力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轻易地，不费事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267080"/>
            <a:ext cx="46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485-8B4F-472A-B93D-FD56281DA0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managed to calm h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great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’ll find the plac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ny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4960" y="2057400"/>
            <a:ext cx="6166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don’t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have much difficul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English gramm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770-2F07-4965-A2EB-B4AB47674E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3352680"/>
            <a:ext cx="736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is probable that one day we wi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end up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6DF-A277-4F82-B80C-CBE9B8A505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278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59276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with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start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our dinn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ou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up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1080" y="259092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gi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590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art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592-2DD6-4565-8A4A-D9DE97DE50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in /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的结局是…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成为…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thief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 up 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i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 up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963-89A1-4030-A5D5-CF98043D96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that something is true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7400" y="3352680"/>
            <a:ext cx="7224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me people …,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consi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g t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to b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up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E31-3107-4355-B91D-83FFD621FF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…(as/ to be)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看作，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We a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ofessor Zh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anshan (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/to b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a great doct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ome scientis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controlled very s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75B-8073-4B4E-974A-BC5ABD2881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know more about 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ver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FD4-3A5C-46F9-909F-8245CEBC6D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carefully about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考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n she sat down to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r posi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6000" y="4191120"/>
            <a:ext cx="6447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a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considering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ine when I go to colle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389-8ED4-4B12-963B-EFDC338E84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2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all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称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240" y="3429000"/>
            <a:ext cx="789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ce, people would often be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ref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to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“deaf” or “blind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04B-F7F0-42AE-ADCF-01245215A6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ll his fellow studen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im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“the living Lei Feng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2360" y="4038480"/>
            <a:ext cx="633456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is referred to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“the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i Feng” by all his fe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udent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72B-CFD8-4256-9886-75E61A60BF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ook at for informati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查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参阅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can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is book no matter what information you nee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8CF-AD82-4C64-A1D4-92F181F605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be used to mean some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指的是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y “Teacher” 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person who supplies us with knowled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661-F8DA-484A-AA03-613E9DD4B4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mention or speak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提到，谈到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2200" y="4191120"/>
            <a:ext cx="7253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y sister often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refers to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in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CA6-7CF0-4727-9FCC-428996DBC9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a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又、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should provide an entrance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ff"/>
                </a:solidFill>
                <a:latin typeface="Times New Roman"/>
              </a:rPr>
              <a:t>as well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lifts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840" y="4724280"/>
            <a:ext cx="637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can speak English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as well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r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C80-330A-49A1-877D-B7C66B299F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也、还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can ride a horse. And she 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oo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well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5480" y="4343400"/>
            <a:ext cx="67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know you like English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as w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F15-5FFC-47F8-867A-6F2F82EE42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  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549-2822-44D4-8EBF-32CA9FB278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_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768-F4B3-4071-B8F9-7E18C84761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236-60A5-489B-98CD-B45F83B1B9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FFE-F36C-48AF-84B1-F02E515D5E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C9E-9E11-49EA-B957-5202DDE774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9E3-0EFC-43D2-8B61-AE2880613F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367-AD2B-45EE-ACD9-10ACDCCFE6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C38-201F-42A5-A5A3-E95952E5CC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C58-AC1F-4AE0-98A9-4C49EA10B33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388-00AE-493A-B7BE-A2BC65FE62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F7D-AEF1-424A-8811-7ECAA1EF9D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CE6-618A-4734-BF3F-958E1516EA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AE6-D5D1-49B2-AC80-2645627F30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190-6759-4CBA-9E89-A209420767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ne 1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n a lecture hall of a univers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England sits a profess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E66-CF64-4C93-AACC-CFF86D4875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 professor sits in a lecture 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a university in Eng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2BC-AB60-4541-A068-C42EC1ECAA2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4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Not only does he have to ty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t 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FDD-362B-4587-9D18-69373846998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not only has to ty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8C8-BAD4-4D38-9CEB-6ED1787C172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Line 3, Paragraph 3, Page 46)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t only will help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04E-A4F8-47C4-8CD1-843B92ED965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t only will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E9C-0519-4CB4-8C29-61D84E18698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句子的正常语序应该是主语在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谓语在其后。但是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99ff"/>
                </a:solidFill>
                <a:latin typeface="Times New Roman"/>
              </a:rPr>
              <a:t>由于语法、修辞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强调或句子结构上的需要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而把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的谓语放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样就构成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主、谓语顺序颠倒的句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种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就叫做</a:t>
            </a:r>
            <a:r>
              <a:rPr b="0" lang="zh-CN" sz="3200" spc="-1" strike="noStrike">
                <a:solidFill>
                  <a:srgbClr val="ff66ff"/>
                </a:solidFill>
                <a:latin typeface="宋体"/>
              </a:rPr>
              <a:t>倒装句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953-EE95-47B6-A4F0-280813C24BD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句子的全部谓语都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完全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只是部分谓语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也即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助动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或情态动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分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8C5-AA2A-4005-BDEB-0CA4A81AA24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re comes the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ere goes the b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468-DBBA-46D9-9A84-35A56203273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但如果主语是人称代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无需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e he comes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re it 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EA0-C4FD-4E27-8175-CF151959F79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5F7-F39C-46FC-9194-76D718618D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例句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in her own room can s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eel sa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EF4-75EB-4936-A9AE-613A9CB539A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当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not only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副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介词短语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状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等结构位于句首时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需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部分倒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19D-3626-4183-936F-5A05B36F388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6, Paragraph 4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people will learn abo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 only when they go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same schools as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6EC-6D55-4E0E-9A46-C442816D80E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when they go to the s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chools as people with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will young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 about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C0B-7446-4987-BB66-F8F12E9B3AF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nly with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AFC-EAA8-40AA-ABCD-552CD4A2DB6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nly with hard wor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6BC-DA8A-4A75-A482-C8A3E35DB13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4---Page 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ord Formation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2---Page 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1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032-AD0A-4EEE-B9D2-DEDF0420BCB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riting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xercise 3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38C-9684-4D02-BAF6-908D4F3A266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http://211.153.43.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 www.bjedu.gov.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B21-3270-48F8-B7C4-544957D4903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119-9A64-4273-95E3-4B6D99B5E1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67C-0F70-4B4C-BD85-F4B7C24770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F16-CA57-4EB7-A792-75B7A27B7B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BA4-9759-45C1-A883-772A8C554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01:00:56Z</dcterms:created>
  <dc:creator>BJ4HS</dc:creator>
  <dc:description/>
  <dc:language>en-US</dc:language>
  <cp:lastModifiedBy>Zhang Lingdi</cp:lastModifiedBy>
  <dcterms:modified xsi:type="dcterms:W3CDTF">2003-06-03T06:42:55Z</dcterms:modified>
  <cp:revision>206</cp:revision>
  <dc:subject/>
  <dc:title>Reading Comprehension </dc:title>
</cp:coreProperties>
</file>