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55A-E96C-4453-91A5-6C052E98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0AC-F666-4C85-BDCF-CD0C7B73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320-5345-4C3D-8520-EF97480E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E11-AB7E-441F-BC17-46F4120B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270-CD02-449E-8324-A50AC940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9F9-1B73-4454-9A12-0C804D33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C75-1F99-4FBA-8A5C-74D7924C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ACB-BC3D-4D50-A4E2-8FD3FE39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92D-3879-41EC-BCA2-85F167EF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491-5F93-4139-B4CA-852015C3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5BC-22AF-4478-8E56-E450FC26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2BE-364C-4235-9C05-ABEDB263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71D6-B0FF-4554-B2AA-959DA3FE3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143000"/>
            <a:ext cx="6477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6483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作者：孙玉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228600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《看图读拼音识字</a:t>
            </a:r>
            <a:r>
              <a:rPr b="1" lang="en-US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9</a:t>
            </a:r>
            <a:r>
              <a:rPr b="1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》教学课件</a:t>
            </a:r>
            <a:endParaRPr b="1" lang="en-US" sz="24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小学语文第一册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21211200">
            <a:off x="838080" y="83808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看图读拼音识字</a:t>
            </a:r>
            <a:r>
              <a:rPr b="1" i="1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59000" y="2209680"/>
            <a:ext cx="2343240" cy="3497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yp4" descr=""/>
          <p:cNvPicPr/>
          <p:nvPr/>
        </p:nvPicPr>
        <p:blipFill>
          <a:blip r:embed="rId1"/>
          <a:stretch/>
        </p:blipFill>
        <p:spPr>
          <a:xfrm>
            <a:off x="744480" y="3886200"/>
            <a:ext cx="169704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syp1" descr=""/>
          <p:cNvPicPr/>
          <p:nvPr/>
        </p:nvPicPr>
        <p:blipFill>
          <a:blip r:embed="rId2"/>
          <a:stretch/>
        </p:blipFill>
        <p:spPr>
          <a:xfrm>
            <a:off x="3314880" y="173160"/>
            <a:ext cx="5219640" cy="4287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yp2" descr=""/>
          <p:cNvPicPr/>
          <p:nvPr/>
        </p:nvPicPr>
        <p:blipFill>
          <a:blip r:embed="rId1"/>
          <a:stretch/>
        </p:blipFill>
        <p:spPr>
          <a:xfrm>
            <a:off x="685800" y="2403360"/>
            <a:ext cx="4419720" cy="3546720"/>
          </a:xfrm>
          <a:prstGeom prst="rect">
            <a:avLst/>
          </a:prstGeom>
          <a:ln w="0">
            <a:noFill/>
          </a:ln>
        </p:spPr>
      </p:pic>
      <p:pic>
        <p:nvPicPr>
          <p:cNvPr id="50" name="syp3" descr=""/>
          <p:cNvPicPr/>
          <p:nvPr/>
        </p:nvPicPr>
        <p:blipFill>
          <a:blip r:embed="rId2"/>
          <a:stretch/>
        </p:blipFill>
        <p:spPr>
          <a:xfrm>
            <a:off x="6523200" y="457200"/>
            <a:ext cx="1977840" cy="2362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20:00:11Z</dcterms:created>
  <dc:creator>4</dc:creator>
  <dc:description/>
  <dc:language>en-US</dc:language>
  <cp:lastModifiedBy>4</cp:lastModifiedBy>
  <dcterms:modified xsi:type="dcterms:W3CDTF">2000-01-21T01:47:27Z</dcterms:modified>
  <cp:revision>7</cp:revision>
  <dc:subject/>
  <dc:title>没有幻灯片标题</dc:title>
</cp:coreProperties>
</file>