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50" end="5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FA80-1E52-4604-9645-6ED8B9865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F814-E995-4FE6-B636-76F46266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0269-946A-4593-87FB-DEB8189A0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0377-59FE-45F2-839C-5DDE8F454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85A4-9A08-40DF-A9D1-6E2641D9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24D5-2B28-491C-9B51-AEDFF6BB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360A-0323-460C-AFC7-E188D57F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A867-E5D3-4ADF-87F8-46FB8A2B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DC4B-3EE1-44E9-9C2C-DF32F55F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1282-65DB-45A6-A2B4-B64C26E9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5EBE-283A-4E3A-A145-115A4988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D3AC-7472-4685-91B9-620024CC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0768-27AD-463B-8C2F-DE16E36756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file:///pop%202.MPG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file:///jazz%202.MPG" TargetMode="External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file:///rock.mpg" TargetMode="External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www.xcherc.net/" TargetMode="External"/><Relationship Id="rId2" Type="http://schemas.openxmlformats.org/officeDocument/2006/relationships/hyperlink" Target="http://www.xcherc.net/" TargetMode="External"/><Relationship Id="rId3" Type="http://schemas.openxmlformats.org/officeDocument/2006/relationships/hyperlink" Target="http://www.xcherc.net/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科  英语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题目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2B     Unit 21 Music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(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应播出时间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星期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三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9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讲课教师       俞平     北京四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447D-1665-412E-9397-F661F974C0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(sb.) be familiar with…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某人…对比较熟悉”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我熟悉她的声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She has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become familiar with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ou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50800" y="3886200"/>
            <a:ext cx="599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am familiar with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r voi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5747-60D0-4E9B-AA2F-7E3C770603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e familiar to sb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对某人来说比较熟悉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Your nam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is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very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familiar to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426708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am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very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 familiar with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your na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C0EC-90A6-411F-9670-22393AE44C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ould rather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Line 7, Page 49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…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e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’d rathe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have some fair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quiet and peaceful musi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would prefer to do sth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宁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737E-FF7D-4E20-950F-21D3CB0CDE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uld ra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1. ---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Would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you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rather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stay here 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o hom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---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2. He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would rather not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listen to jazz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7280" y="419112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’d rather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o h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104B-F5C1-4098-94F2-A0DA117CD0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ould rather +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宾语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’d rathe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you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ol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me the tru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’d rathe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I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had not met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h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yester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986A-3712-4E80-AA55-D5C3210110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ould rather…than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宁愿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而不愿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宋体"/>
              </a:rPr>
              <a:t>1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’d rather hav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he red on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th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he green on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He would rather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listen to oth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an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alk himself</a:t>
            </a:r>
            <a:r>
              <a:rPr b="0" lang="zh-CN" sz="4000" spc="-1" strike="noStrike">
                <a:solidFill>
                  <a:srgbClr val="ffff00"/>
                </a:solidFill>
                <a:latin typeface="宋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4001-6B38-4090-89B5-40351CF228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uld rather…than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.The student would rather tal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with her teacher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than </a:t>
            </a: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with h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paren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282E-9655-4893-A694-620B2E1020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would rather…than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我愿意坐火车旅行，不愿坐汽车。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2. I would rather travel 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than 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73280" y="3581280"/>
            <a:ext cx="174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by t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7960" y="4419720"/>
            <a:ext cx="152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by b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19D3-28E4-450F-95D6-81008FE97D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therwise  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adv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Line 9, Page 49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Otherwis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we won’t be able to hea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urselves tal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if not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否则、要不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81C0-845B-4F94-9859-F302ADD256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r 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conj.    if not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否则、要不然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Now I must go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o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I shall be l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or the birthday party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穿上大衣，否则你会冷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2680" y="4648320"/>
            <a:ext cx="694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ear your coat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o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you’ll be col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206B-BD45-490E-94AC-AAC830CDE4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Unit 21 Music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（一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eaching Ai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To get to know sth. about musi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To learn some useful words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expression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A519-034D-4B70-A0DA-DC8C153CF2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r el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 must pay $ 100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or els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o pris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2. The book must be here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or els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you have lost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8E05-B7E5-4AF5-BB44-FDE32D6542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efer 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v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Line 9, Page 49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’d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refer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m not to play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like one thing or person better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anothe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更喜欢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宁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E708-BECD-43B3-ADBB-C5AB1B8C0C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efer sb. (not) to do s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更愿意某人（不）做某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Sh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referred him to spen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al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day ou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B720-458E-4611-9A5B-63807E214E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efer sb. (not) to do s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更愿意某人（不）做某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我不愿意你离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’d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refer you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 _ 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20080" y="4114800"/>
            <a:ext cx="255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not to lea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798A-75DB-4E3E-8A61-ED26FECF52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efer (not) to do s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不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宁愿做某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He offered to drive us home, bu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referred to walk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Sh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referred not to stay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E6DC-1ED1-4E1E-B512-B04F8C5931F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prefer…t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比起后者来更喜欢前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1. I prefer 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English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to 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Japanese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F041-DFCA-4EC7-86AB-4F253A3C651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efer…to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rue or Fals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he prefers reading something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atch TV at hom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he prefers reading something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watching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TV at h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2E83-0E4B-4F57-AE5A-FE365C34533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efer (to do) sth. rather than (do) sth.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宁愿…而不愿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我喜欢牛肉，不喜欢猪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 prefer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o rea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books rather th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sit idl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4840" y="3809880"/>
            <a:ext cx="61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prefer beef rather than por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3887-4660-44EB-8D56-BEF9111C3F8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 ____ walk there ___ go by b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prefer,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prefer, rather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prefer to, rather th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37B9-87EF-4C78-A2E5-62F49FC4252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 ____ walk there ___ go by b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prefer,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prefer, rather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prefer to, rather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224A-ADAA-422D-9FFD-4652FB36E6E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Choose the music nam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ntioned in the dialog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ountry music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jazz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olk music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ock ‘n’ ro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lassical music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507F-85A5-4B09-9527-C405594265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ile he was in the office 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eferred ____ something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 noth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do,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doing, do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to do, do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49D2-2C79-472A-AB51-3657B706E83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ile he was in the office 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eferred ____ something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 noth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do,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doing, do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to do, do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2C7D-5BFC-4D4D-8B93-F14F03BA994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Rather than ___ on a crowd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us, he always prefers ___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icycle.  (NMET 9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ride, r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ride, to r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riding, rid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AAB3-84FC-4A1B-B9F8-ACB6EFC6148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Rather than ___ on a crowd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us, he always prefers ___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icycle.    (NMET 9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ride, r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ride, to r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riding, rid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E2D7-2C27-4C82-84B2-F623C661AB5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This sentence structure ____ 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is familiar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is familiar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would ra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1237-4150-416F-B940-28ADA18AB66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This sentence structure ____ 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is familiar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is familiar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would ra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4407-32F7-441D-B147-510F3E1A985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 I’d rather you ___ such a fooli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didn’t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not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don’t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D45C-3283-4180-8304-7F573E4D278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 I’d rather you ___ such a fooli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A. didn’t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not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don’t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7F60-F76A-4AEB-A445-02A851EE007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The boy ____ play ___ stud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prefers, rather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prefers, to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would rather,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B173-E9AD-4599-A233-2A3B88049E1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The boy ____ play ___ stud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prefers, rather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prefers, to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would rather,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43C3-1C9E-4466-BBD6-62421A8399A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 Choose the music nam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ntioned in the dialog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ountry music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jazz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folk music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ock ‘n’ro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lassical music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p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61D9-746C-424A-99F9-9BEF069DCB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7. He can’t be ill ____ he wouldn’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ve c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otherw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el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4F81-913E-497F-A1E2-342A5D545BD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7. He can’t be ill ____ he wouldn’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ve c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otherw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o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el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C830-F983-47F4-8A3D-872934A7A68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8. I went there at once. __ I woul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ve missed 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I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Otherw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479C-0632-43FB-A048-04791249F37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8. I went there at once. __ I woul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ve missed 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I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Otherw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C803-F77E-4839-99E2-FDFC3499842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238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Many people write music for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iv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All pop stars write so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mselv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Folk music has a long histo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5880" y="26668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9625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91520" y="4648320"/>
            <a:ext cx="4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5388-E58A-41ED-930C-1BD75E6A5C6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In the old days without radio,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V or  cinema, people loved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spected the music performe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very much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 Now, some musicians perf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 the streets for free.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40384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8360" y="5334120"/>
            <a:ext cx="50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E75E-2838-44BF-B892-7BBA092F027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Folk music plays an importa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art in African people’s lives.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7. China makes the most films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world.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8. Musicals are films with music.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91520" y="274320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11320" y="4267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0120" y="495288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7106-6EC9-4AA6-B7D4-17880F23E7F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9. West Indians were brought fr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frica.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0. Jazz was born in 1980.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1. Jazz was developed in the sou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f the USA.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4120" y="2819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4520" y="35053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4952880"/>
            <a:ext cx="5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80BA-028B-4108-B671-DC6EAEA9668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formation About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lassical music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country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jazz music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rap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ock music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pop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CC28-5822-4864-B773-5608AAFC095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nformation About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4C87-5A42-4CFD-8576-9BCA359F0C7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How many singers are there 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band(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乐队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)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Sev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Fi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Thre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99D9-1269-4D2D-A25C-B392D57F61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formation About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op music——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流行音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kind of modern music with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trong beat and not of las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terest, especially just fav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or a short time by younger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365C-F2BA-429A-B05B-A7D60A71475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s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nformation  About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4D6C-CCDD-462C-8E09-C46E325859C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formation About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jazz music——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爵士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kind of music originated by black Americans, usually with a strong beat and some free playing by each musician in the b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EDD5-660A-4846-8718-38B0A1DF8A7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s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nformation About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65E9-E4B1-4002-B08A-DED2F284611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formation About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ock music ——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摇滚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lso called rock and ro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kind of modern music with stro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eat, played loudly on electric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struments, in which the sing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peats the same few simple wo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2EB4-2B23-40A2-9E98-5744970FD79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必做作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. Word study— Page 5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B. Exercise 2 — Page 1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提高性作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完成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篇阅读理解（材料自选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DF25-C533-4361-B401-15AEEB718B1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b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ww.bjedu.gov.c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xcherc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ttp://211.153.43.3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A848-DB37-42E7-9342-C1A80C914E1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How many singers are there 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band(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乐队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)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Sev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Fi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Thre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9A0E-C7F0-444D-AF88-3C42D75E30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Choose the musical instrumen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ntioned in the dialog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violi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jazz violi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l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iano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axophon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guit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7D0E-BD7B-4133-87A9-DDE9D5FF4A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Choose the musical instrumen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ntioned in the dialog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violi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jazz violi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l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piano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axophon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guit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21D2-9705-4032-B7E8-08DF60C77D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amiliar 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adj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Line 4, Page 49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ome songs that everyone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’s familiar with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,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generally  known or seen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熟悉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7A56-7C96-4B18-881E-E850274B5E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4T01:29:00Z</dcterms:created>
  <dc:creator>BJ4HS</dc:creator>
  <dc:description/>
  <dc:language>en-US</dc:language>
  <cp:lastModifiedBy>Zhang Lingdi</cp:lastModifiedBy>
  <dcterms:modified xsi:type="dcterms:W3CDTF">2003-06-03T06:45:43Z</dcterms:modified>
  <cp:revision>107</cp:revision>
  <dc:subject/>
  <dc:title>Unit 21 Music （一）</dc:title>
</cp:coreProperties>
</file>