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47" end="5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04E-8382-4A63-9C4C-88E9F616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FB99-79BE-4B39-87B4-77790A8D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54D5-8E6A-4ABE-B9FB-CDC25EC5D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3CC-02D6-4C0F-A673-78F5C6854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A41-272E-418C-AFA4-D2BF01EC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80E5-7BA0-45EB-AF51-A420D9AB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5D2E-061C-4A48-9F22-CBD24E76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EAAD-0D02-4A81-ADF8-B94A5CED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9917-EE23-4B07-B0F2-A3332A9F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9F76-2A1A-4651-BEE8-12871CFD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8E5-FD66-4DBB-98B2-D2C8454C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6F3-2EFB-46F5-A345-28072BEC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16CD-B18F-4C25-AB89-1B75558DA9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001.rm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xcherc.net/" TargetMode="External"/><Relationship Id="rId2" Type="http://schemas.openxmlformats.org/officeDocument/2006/relationships/hyperlink" Target="http://www.xcherc.net/" TargetMode="External"/><Relationship Id="rId3" Type="http://schemas.openxmlformats.org/officeDocument/2006/relationships/hyperlink" Target="http://www.xcherc.net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学科  英语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题目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B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(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应播出时间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讲课教师       俞平     北京四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71F-FFB9-43CE-A93D-2E6F18016C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99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F7B-3982-4952-B587-AFF2AB36EC1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Vid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ews of Dis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36E6-4BA0-4AA4-9D82-5EBC32AE0D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in doing s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做某事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2160" y="3352680"/>
            <a:ext cx="629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hers may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have difficulty i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oving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18ED-1337-40E1-80FB-B309377173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ave difficulty with sth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在某方面有困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(much/great) difficulty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困难地，费劲地，吃力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轻易地，不费事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4267080"/>
            <a:ext cx="461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A07-042E-49E6-A4EB-F543DA8D2F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 managed to calm h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great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You’ll find the plac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ny difficulty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4960" y="2057400"/>
            <a:ext cx="616680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don’t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have much difficulty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English gramm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AB27-DF50-4B78-9F35-8EC60BFDC0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44440" y="3352680"/>
            <a:ext cx="7364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t is probable that one day we will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end up with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8EA-142E-4D96-A516-F58DB8C7F9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278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2057400"/>
            <a:ext cx="759276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with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结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以…开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start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our dinner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oup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i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up with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fru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1080" y="2590920"/>
            <a:ext cx="23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egin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91120" y="2590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tart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09E-9DD5-48C8-8E36-261C0F01F8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nd up in /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的结局是…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最后成为…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 thief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ed up i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is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wi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end up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esid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ome 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06C2-8347-4DA4-AF5C-306DDAA400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  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1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that something is true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7400" y="3352680"/>
            <a:ext cx="72248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ome people …,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consid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ng the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to be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stupi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A13-2D90-4C83-A0A3-C16B8AB301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onsider…(as/ to be)…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把…看作，认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We all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rofessor Zh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anshan (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/to be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a great doc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Some scientis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SA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ll be controlled very so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887C-894F-45D0-9668-17E2F90CFA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nit 20  Dis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eaching Aims—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教学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o know more about 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o learn some useful words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expressi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To learn Grammar—Invers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D6A-E08D-4CEC-8E0A-B216B87080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think carefully about sth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考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Then she sat down to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cons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r posi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6000" y="4191120"/>
            <a:ext cx="6447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am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considering study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ine when I go to colle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F83-CDAC-4A71-9C94-C91B832215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Paragraph 2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call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把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称作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40240" y="3429000"/>
            <a:ext cx="7898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nce, people would often be </a:t>
            </a: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ref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99"/>
                </a:solidFill>
                <a:latin typeface="Times New Roman"/>
              </a:rPr>
              <a:t>to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“deaf” or “blind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4A6C-33C0-4965-A8E7-7A218E7841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…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ll his fellow students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im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“the living Lei Feng”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2360" y="4038480"/>
            <a:ext cx="6334560" cy="26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H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is referred to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“the li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i Feng” by all his fell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tudents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08C-DECC-4839-86BF-BEBBDA1BA7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) 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look at for information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查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参阅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You can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is book no matter what information you need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5CDD-5AB0-4268-81B1-67C22CB875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be used to mean someth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指的是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y “Teacher” we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refer to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the person who supplies us with knowled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196-E625-4392-961F-DAB1483A82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ref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) </a:t>
            </a:r>
            <a:r>
              <a:rPr b="0" i="1" lang="zh-CN" sz="4000" spc="-1" strike="noStrike">
                <a:solidFill>
                  <a:srgbClr val="ffff00"/>
                </a:solidFill>
                <a:latin typeface="Times New Roman"/>
              </a:rPr>
              <a:t>mention or speak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提到，谈到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22200" y="4191120"/>
            <a:ext cx="7253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y sister often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refers to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you in 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ter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9E13-F5D7-4D91-8DA7-CB7CAF1B35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a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又、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(Paragraph 3, Page 46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e should provide an entrance …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99ff"/>
                </a:solidFill>
                <a:latin typeface="Times New Roman"/>
              </a:rPr>
              <a:t>as well as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lifts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8840" y="4724280"/>
            <a:ext cx="637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can speak English </a:t>
            </a:r>
            <a:r>
              <a:rPr b="0" lang="en-US" sz="4000" spc="-1" strike="noStrike">
                <a:solidFill>
                  <a:srgbClr val="ff66ff"/>
                </a:solidFill>
                <a:latin typeface="Times New Roman"/>
              </a:rPr>
              <a:t>as well a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Ger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7F69-8A93-4AC6-A35F-4FA9A2430E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Words and Express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s well  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也、还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e can ride a horse. And she ca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hoot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as well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5480" y="4343400"/>
            <a:ext cx="674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I know you like English </a:t>
            </a:r>
            <a:r>
              <a:rPr b="0" lang="en-US" sz="4000" spc="-1" strike="noStrike">
                <a:solidFill>
                  <a:srgbClr val="ff99ff"/>
                </a:solidFill>
                <a:latin typeface="Times New Roman"/>
              </a:rPr>
              <a:t>as w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6AC9-061C-4295-A735-BE8AC542C4E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  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36C-6184-4EF3-BA79-D2BCC3992F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 had forgotten the date of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ar, so I______ a history boo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referred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e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9797-3082-41EB-B996-4620090EBF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50C4-9C80-44BE-9918-B9F9C889A6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20DC-E62F-4C3F-BF25-307A75F1E63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I’m going to Hong Kong and 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ister is going _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in fa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3FFA-3D49-49E9-9CAC-E622AF20E60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0AF-15EF-4549-8EDA-4257D9F8AA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 I can remember her e-mai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ddress ___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without any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ith much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have great difficul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B5B8-69D2-4929-B0E7-3916CA07ED6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265-3640-4626-973C-1891C4012E3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4. It is important for you ____ fo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as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as well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021-75C4-4563-9684-4017F1C5AE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8DB5-4133-4208-9F4D-07165F2861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5. The Carters usually _____ thei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upper ___ ice c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A. end up,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nd up,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nd up,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CDC-93B7-4430-9FBD-7C93115602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B61F-F50C-4833-9DCA-B8B0F92F45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6. He 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her ideas to be practic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makes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refers to 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C. cons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537-0736-485F-97FA-BB5C742ACA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eading Comprehen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ragraph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It’s not right to look down up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people with disabilitie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One day we will end up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 Many people have a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996-249A-46AF-8859-45DD700388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ine 1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In a lecture hall of a universit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in England sits a profess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784-2A4C-40F6-A9DA-2BA38753C2B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A professor sits in a lecture h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f a university in Eng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8DB-6554-46AB-966A-19DF4E32EE9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4, Paragraph 1, Page 44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2. Not only does he have to ty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ut 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A8B-C962-431A-8BF6-75DDCA4473F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He not only has to ty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answers on a computer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ut he also gets the computer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ranslate it into sou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16A-E1CC-4B20-9571-17EE18CAC72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(Line 3, Paragraph 3, Page 46)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Not only will help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B353-0A82-4DAA-AFBF-F833FAB1FAF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ot only will be given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to find jobs, but als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dical treatment will b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vided for people who need i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54B6-04DD-48CC-A513-21A64ABE08C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一个句子的正常语序应该是主语在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谓语在其后。但是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99ff"/>
                </a:solidFill>
                <a:latin typeface="Times New Roman"/>
              </a:rPr>
              <a:t>由于语法、修辞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99ff"/>
                </a:solidFill>
                <a:latin typeface="宋体"/>
              </a:rPr>
              <a:t>强调或句子结构上的需要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而把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的谓语放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样就构成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主、谓语顺序颠倒的句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这种句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就叫做</a:t>
            </a:r>
            <a:r>
              <a:rPr b="0" lang="zh-CN" sz="3200" spc="-1" strike="noStrike">
                <a:solidFill>
                  <a:srgbClr val="ff66ff"/>
                </a:solidFill>
                <a:latin typeface="宋体"/>
              </a:rPr>
              <a:t>倒装句</a:t>
            </a:r>
            <a:r>
              <a:rPr b="0" lang="zh-CN" sz="32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BBB-9C2E-4574-98D0-EA2D70B5CCE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句子的全部谓语都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完全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如果只是部分谓语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也即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助动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或情态动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在主语之前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这叫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分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5EB-DB97-4073-9C04-B70C910FD08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 Here comes the bu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2. There goes the b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7A13-A3DE-4B5F-B578-70309AAF872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当副词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there, here, up, down, in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out, then,  now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等位于句首时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如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主语是名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要全部倒装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但如果主语是人称代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则无需倒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Here he comes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There it 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F90-ADEF-43AF-8EF4-537E62CC508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4467-C2E8-4E89-A998-7C1421F458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例句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in her own room can s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eel sa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C06B-BDDE-4CD2-A028-59690D5B926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当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not only</a:t>
            </a: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ff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副词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介词短语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ff66ff"/>
                </a:solidFill>
                <a:latin typeface="Times New Roman"/>
              </a:rPr>
              <a:t>only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+</a:t>
            </a:r>
            <a:r>
              <a:rPr b="0" lang="zh-CN" sz="2800" spc="-1" strike="noStrike">
                <a:solidFill>
                  <a:srgbClr val="ff66ff"/>
                </a:solidFill>
                <a:latin typeface="Times New Roman"/>
              </a:rPr>
              <a:t>状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等结构位于句首时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需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部分倒装</a:t>
            </a:r>
            <a:r>
              <a:rPr b="0" lang="zh-CN" sz="2800" spc="-1" strike="noStrike">
                <a:solidFill>
                  <a:srgbClr val="ffff00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7E12-2FD4-48CA-B4BA-337234D1D8D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Line 6, Paragraph 4, Page 46)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people will learn abou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y only when they go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the same schools as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isabilit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F80-7849-4EBD-BED3-0FF8719EC4E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倒装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Only when they go to the sam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schools as people with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will young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learn about disabil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4A18-C5D2-4657-B67A-DA1B77296FF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Only with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56E-1340-4684-9D56-D9BF75952883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自我检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_____ can you expect to get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ay rise. (2000 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ith hard 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9900"/>
                </a:solidFill>
                <a:latin typeface="Times New Roman"/>
              </a:rPr>
              <a:t>B. Only with hard work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Although work h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584-0AD9-471B-8371-152ADDB26C9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必做作业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Practice 4---Page 4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ord Formation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Exercise 2---Page 1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. Exercise 1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F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预习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Unit 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FCC9-AB83-47F6-BD5A-D22409A0308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提高性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riting---Page 4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Exercise 3---Page 1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完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篇阅读理解（材料自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选做作业——本单元的其它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E6EE-0312-401A-9AC5-4A84FAFB9BF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xcherc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. http://211.153.43.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. www.bjedu.gov.c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4D6-A358-4CD8-A641-EEEA88BE84A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. Most of the deaf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ar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Most of the blind have a bi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igh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C. Disabilities are not total, in fac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4E3-EBFC-4961-A2AA-C611E1FDD5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E6BC-46C7-43F8-B8B2-4A54B4C0D9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A. We must do all we can to m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the disabled people’s life easi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. We must make sure the disabl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eople can use our build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. We must make the signs cle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d easy to rea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865-3A9F-4D49-A64F-D4CAECD0F0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A. The number of people wi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B. The situation(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处境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) of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with disabilities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C. The schools for the disabled 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 people in Chi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E81-765A-4180-850A-B90E224E9C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01:00:56Z</dcterms:created>
  <dc:creator>BJ4HS</dc:creator>
  <dc:description/>
  <dc:language>en-US</dc:language>
  <cp:lastModifiedBy>Zhang Lingdi</cp:lastModifiedBy>
  <dcterms:modified xsi:type="dcterms:W3CDTF">2003-06-03T06:42:55Z</dcterms:modified>
  <cp:revision>206</cp:revision>
  <dc:subject/>
  <dc:title>Reading Comprehension </dc:title>
</cp:coreProperties>
</file>