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854A-D8DB-48EB-84B2-927A52037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88F9-5A56-4F02-B5AD-6F0C7D910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502A-7E4B-40C2-9DFA-B9B52FE91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016B-8FEA-4DA2-B326-576685986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D8A6-7C66-443C-90E8-75D284BD0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FEE5-DF8F-4915-AD75-A5085EB5C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0D2B-C6CC-4A35-80C3-B493F2F9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97FA-14B1-47A3-8CA8-09C9733FA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596F-9BDA-483A-805A-9AB12D674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A048-210F-4D1F-A77D-12581F1F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15B5-86C0-4AC3-BA76-ED663265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9E1D-104C-42B5-8E81-03233C42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D0B54-368B-43DE-AE14-DC3B924FCF5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33840" y="144792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猫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631200" y="5425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作者：老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73400" y="76212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九年义务教育小学九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3520" y="685800"/>
            <a:ext cx="824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猫的性格实在有些         。说它       吧，它有时候的确很乖。它会找个暖和的地方，成天睡大觉，无忧无虑，什么事也不过问。可是，它决定要出去玩玩，就会出走一天一夜，任凭谁怎么呼唤，它也不肯回来。说它        吧，的确是呀，要不怎么会一天一夜不回家呢？可是，它听到老鼠的一点响动，又是多么         。它闭息凝视，一连就是几个钟头，非把老鼠等出来不可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1" action="ppaction://hlinksldjump"/>
          </p:cNvPr>
          <p:cNvSpPr/>
          <p:nvPr/>
        </p:nvSpPr>
        <p:spPr>
          <a:xfrm>
            <a:off x="5105520" y="6858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古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2" action="ppaction://hlinksldjump"/>
          </p:cNvPr>
          <p:cNvSpPr/>
          <p:nvPr/>
        </p:nvSpPr>
        <p:spPr>
          <a:xfrm>
            <a:off x="7467480" y="6094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老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3" action="ppaction://hlinksldjump"/>
          </p:cNvPr>
          <p:cNvSpPr/>
          <p:nvPr/>
        </p:nvSpPr>
        <p:spPr>
          <a:xfrm>
            <a:off x="4648320" y="3429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贪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4" action="ppaction://hlinksldjump"/>
          </p:cNvPr>
          <p:cNvSpPr/>
          <p:nvPr/>
        </p:nvSpPr>
        <p:spPr>
          <a:xfrm>
            <a:off x="7467480" y="44640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尽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5" action="ppaction://hlinksldjump"/>
          </p:cNvPr>
          <p:cNvSpPr/>
          <p:nvPr/>
        </p:nvSpPr>
        <p:spPr>
          <a:xfrm>
            <a:off x="8381880" y="6400800"/>
            <a:ext cx="304920" cy="4572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457200"/>
              <a:gd name="textAreaBottom" fmla="*/ 437760 h 457200"/>
            </a:gdLst>
            <a:ahLst/>
            <a:rect l="textAreaLeft" t="textAreaTop" r="textAreaRight" b="textAreaBottom"/>
            <a:pathLst>
              <a:path w="21600" h="32375">
                <a:moveTo>
                  <a:pt x="0" y="0"/>
                </a:moveTo>
                <a:lnTo>
                  <a:pt x="21600" y="0"/>
                </a:lnTo>
                <a:lnTo>
                  <a:pt x="21600" y="32375"/>
                </a:lnTo>
                <a:lnTo>
                  <a:pt x="0" y="32375"/>
                </a:lnTo>
                <a:close/>
              </a:path>
              <a:path fill="lightenLess" w="21600" h="323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75">
                <a:moveTo>
                  <a:pt x="21600" y="0"/>
                </a:moveTo>
                <a:lnTo>
                  <a:pt x="21600" y="32375"/>
                </a:lnTo>
                <a:lnTo>
                  <a:pt x="20200" y="30975"/>
                </a:lnTo>
                <a:lnTo>
                  <a:pt x="20200" y="1400"/>
                </a:lnTo>
                <a:close/>
              </a:path>
              <a:path fill="darkenLess" w="21600" h="32375">
                <a:moveTo>
                  <a:pt x="21600" y="32375"/>
                </a:moveTo>
                <a:lnTo>
                  <a:pt x="0" y="32375"/>
                </a:lnTo>
                <a:lnTo>
                  <a:pt x="1400" y="30975"/>
                </a:lnTo>
                <a:lnTo>
                  <a:pt x="20200" y="30975"/>
                </a:lnTo>
                <a:close/>
              </a:path>
              <a:path fill="lighten" w="21600" h="32375">
                <a:moveTo>
                  <a:pt x="0" y="32375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75"/>
                </a:lnTo>
                <a:close/>
              </a:path>
              <a:path fill="darken" w="21600" h="32375">
                <a:moveTo>
                  <a:pt x="10800" y="9224"/>
                </a:moveTo>
                <a:lnTo>
                  <a:pt x="13376" y="11835"/>
                </a:lnTo>
                <a:lnTo>
                  <a:pt x="13376" y="10095"/>
                </a:lnTo>
                <a:lnTo>
                  <a:pt x="15152" y="10095"/>
                </a:lnTo>
                <a:lnTo>
                  <a:pt x="15152" y="13611"/>
                </a:lnTo>
                <a:lnTo>
                  <a:pt x="17763" y="16187"/>
                </a:lnTo>
                <a:lnTo>
                  <a:pt x="16109" y="16187"/>
                </a:lnTo>
                <a:lnTo>
                  <a:pt x="16109" y="23377"/>
                </a:lnTo>
                <a:lnTo>
                  <a:pt x="5491" y="23377"/>
                </a:lnTo>
                <a:lnTo>
                  <a:pt x="5491" y="16187"/>
                </a:lnTo>
                <a:lnTo>
                  <a:pt x="3837" y="16187"/>
                </a:lnTo>
                <a:close/>
              </a:path>
              <a:path fill="darkenLess" w="21600" h="32375">
                <a:moveTo>
                  <a:pt x="13376" y="11835"/>
                </a:moveTo>
                <a:lnTo>
                  <a:pt x="13376" y="10095"/>
                </a:lnTo>
                <a:lnTo>
                  <a:pt x="15152" y="10095"/>
                </a:lnTo>
                <a:lnTo>
                  <a:pt x="15152" y="13611"/>
                </a:lnTo>
                <a:close/>
              </a:path>
              <a:path fill="darkenLess" w="21600" h="32375">
                <a:moveTo>
                  <a:pt x="9877" y="19686"/>
                </a:moveTo>
                <a:lnTo>
                  <a:pt x="11723" y="19686"/>
                </a:lnTo>
                <a:lnTo>
                  <a:pt x="11723" y="23377"/>
                </a:lnTo>
                <a:lnTo>
                  <a:pt x="16109" y="23377"/>
                </a:lnTo>
                <a:lnTo>
                  <a:pt x="16109" y="16187"/>
                </a:lnTo>
                <a:lnTo>
                  <a:pt x="5491" y="16187"/>
                </a:lnTo>
                <a:lnTo>
                  <a:pt x="5491" y="23377"/>
                </a:lnTo>
                <a:lnTo>
                  <a:pt x="9877" y="2337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6094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它要是高兴，能比谁都温柔可亲：用身子蹭你的腿，把脖儿伸出来要求给抓痒。或是在你写作的时候，跳上桌来，在稿纸上踩印几朵小梅花。它还会丰富多腔地叫唤，长短不同，粗细各异，变化多端。在不叫的时候，它还会咕噜咕噜地给自己解闷。这可都凭它的高兴。它若是不高兴啊，无论谁说多少好话，它一声也不出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rId1" action="ppaction://hlinksldjump"/>
          </p:cNvPr>
          <p:cNvSpPr/>
          <p:nvPr/>
        </p:nvSpPr>
        <p:spPr>
          <a:xfrm>
            <a:off x="8534520" y="65530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286680" y="593640"/>
            <a:ext cx="25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温柔可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871880" y="5486400"/>
            <a:ext cx="274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一声也不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758240" y="392040"/>
            <a:ext cx="310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猫既老实又贪玩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19480" y="152388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既贪玩又尽职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68040" y="24526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既温柔可亲又一声不出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3576600"/>
            <a:ext cx="4506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既胆小又勇猛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01640" y="4191120"/>
            <a:ext cx="14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…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043880" y="5181480"/>
            <a:ext cx="47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猫的性格实在有些古怪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172200" y="542592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猫1.jpg%20复制" descr=""/>
          <p:cNvPicPr/>
          <p:nvPr/>
        </p:nvPicPr>
        <p:blipFill>
          <a:blip r:embed="rId1"/>
          <a:stretch/>
        </p:blipFill>
        <p:spPr>
          <a:xfrm>
            <a:off x="1922400" y="228600"/>
            <a:ext cx="52354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050840" y="782640"/>
            <a:ext cx="77122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你见了，绝不会责打它们，它们是那么生气勃勃，天真可爱！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465160" y="4800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994440" y="6497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6400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89480" y="6040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32280" y="6192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05720" y="2057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15000" y="2057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96080" y="2057400"/>
            <a:ext cx="15264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990720"/>
            <a:ext cx="86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猫既</a:t>
            </a:r>
            <a:r>
              <a:rPr b="1" lang="zh-CN" sz="80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zh-CN" sz="8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又</a:t>
            </a:r>
            <a:r>
              <a:rPr b="1" lang="zh-CN" sz="80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zh-CN" sz="8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它的性格实在有些古怪。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467480" y="65530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10800" y="7437"/>
                </a:moveTo>
                <a:lnTo>
                  <a:pt x="13376" y="10048"/>
                </a:lnTo>
                <a:lnTo>
                  <a:pt x="13376" y="8307"/>
                </a:lnTo>
                <a:lnTo>
                  <a:pt x="15152" y="8307"/>
                </a:lnTo>
                <a:lnTo>
                  <a:pt x="15152" y="11824"/>
                </a:lnTo>
                <a:lnTo>
                  <a:pt x="17763" y="14400"/>
                </a:lnTo>
                <a:lnTo>
                  <a:pt x="16109" y="14400"/>
                </a:lnTo>
                <a:lnTo>
                  <a:pt x="16109" y="21589"/>
                </a:lnTo>
                <a:lnTo>
                  <a:pt x="5491" y="21589"/>
                </a:lnTo>
                <a:lnTo>
                  <a:pt x="5491" y="14400"/>
                </a:lnTo>
                <a:lnTo>
                  <a:pt x="3837" y="14400"/>
                </a:lnTo>
                <a:close/>
              </a:path>
              <a:path fill="darkenLess" w="21600" h="28800">
                <a:moveTo>
                  <a:pt x="13376" y="10048"/>
                </a:moveTo>
                <a:lnTo>
                  <a:pt x="13376" y="8307"/>
                </a:lnTo>
                <a:lnTo>
                  <a:pt x="15152" y="8307"/>
                </a:lnTo>
                <a:lnTo>
                  <a:pt x="15152" y="11824"/>
                </a:lnTo>
                <a:close/>
              </a:path>
              <a:path fill="darkenLess" w="21600" h="28800">
                <a:moveTo>
                  <a:pt x="9877" y="17899"/>
                </a:moveTo>
                <a:lnTo>
                  <a:pt x="11723" y="17899"/>
                </a:lnTo>
                <a:lnTo>
                  <a:pt x="11723" y="21589"/>
                </a:lnTo>
                <a:lnTo>
                  <a:pt x="16109" y="21589"/>
                </a:lnTo>
                <a:lnTo>
                  <a:pt x="16109" y="14400"/>
                </a:lnTo>
                <a:lnTo>
                  <a:pt x="5491" y="14400"/>
                </a:lnTo>
                <a:lnTo>
                  <a:pt x="5491" y="21589"/>
                </a:lnTo>
                <a:lnTo>
                  <a:pt x="9877" y="215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1" action="ppaction://hlinksldjump"/>
          </p:cNvPr>
          <p:cNvSpPr/>
          <p:nvPr/>
        </p:nvSpPr>
        <p:spPr>
          <a:xfrm>
            <a:off x="8153280" y="65530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10800" y="7437"/>
                </a:moveTo>
                <a:lnTo>
                  <a:pt x="13376" y="10048"/>
                </a:lnTo>
                <a:lnTo>
                  <a:pt x="13376" y="8307"/>
                </a:lnTo>
                <a:lnTo>
                  <a:pt x="15152" y="8307"/>
                </a:lnTo>
                <a:lnTo>
                  <a:pt x="15152" y="11824"/>
                </a:lnTo>
                <a:lnTo>
                  <a:pt x="17763" y="14400"/>
                </a:lnTo>
                <a:lnTo>
                  <a:pt x="16109" y="14400"/>
                </a:lnTo>
                <a:lnTo>
                  <a:pt x="16109" y="21589"/>
                </a:lnTo>
                <a:lnTo>
                  <a:pt x="5491" y="21589"/>
                </a:lnTo>
                <a:lnTo>
                  <a:pt x="5491" y="14400"/>
                </a:lnTo>
                <a:lnTo>
                  <a:pt x="3837" y="14400"/>
                </a:lnTo>
                <a:close/>
              </a:path>
              <a:path fill="darkenLess" w="21600" h="28800">
                <a:moveTo>
                  <a:pt x="13376" y="10048"/>
                </a:moveTo>
                <a:lnTo>
                  <a:pt x="13376" y="8307"/>
                </a:lnTo>
                <a:lnTo>
                  <a:pt x="15152" y="8307"/>
                </a:lnTo>
                <a:lnTo>
                  <a:pt x="15152" y="11824"/>
                </a:lnTo>
                <a:close/>
              </a:path>
              <a:path fill="darkenLess" w="21600" h="28800">
                <a:moveTo>
                  <a:pt x="9877" y="17899"/>
                </a:moveTo>
                <a:lnTo>
                  <a:pt x="11723" y="17899"/>
                </a:lnTo>
                <a:lnTo>
                  <a:pt x="11723" y="21589"/>
                </a:lnTo>
                <a:lnTo>
                  <a:pt x="16109" y="21589"/>
                </a:lnTo>
                <a:lnTo>
                  <a:pt x="16109" y="14400"/>
                </a:lnTo>
                <a:lnTo>
                  <a:pt x="5491" y="14400"/>
                </a:lnTo>
                <a:lnTo>
                  <a:pt x="5491" y="21589"/>
                </a:lnTo>
                <a:lnTo>
                  <a:pt x="9877" y="215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2" action="ppaction://hlinksldjump"/>
          </p:cNvPr>
          <p:cNvSpPr/>
          <p:nvPr/>
        </p:nvSpPr>
        <p:spPr>
          <a:xfrm>
            <a:off x="8763120" y="65530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10800" y="7437"/>
                </a:moveTo>
                <a:lnTo>
                  <a:pt x="13376" y="10048"/>
                </a:lnTo>
                <a:lnTo>
                  <a:pt x="13376" y="8307"/>
                </a:lnTo>
                <a:lnTo>
                  <a:pt x="15152" y="8307"/>
                </a:lnTo>
                <a:lnTo>
                  <a:pt x="15152" y="11824"/>
                </a:lnTo>
                <a:lnTo>
                  <a:pt x="17763" y="14400"/>
                </a:lnTo>
                <a:lnTo>
                  <a:pt x="16109" y="14400"/>
                </a:lnTo>
                <a:lnTo>
                  <a:pt x="16109" y="21589"/>
                </a:lnTo>
                <a:lnTo>
                  <a:pt x="5491" y="21589"/>
                </a:lnTo>
                <a:lnTo>
                  <a:pt x="5491" y="14400"/>
                </a:lnTo>
                <a:lnTo>
                  <a:pt x="3837" y="14400"/>
                </a:lnTo>
                <a:close/>
              </a:path>
              <a:path fill="darkenLess" w="21600" h="28800">
                <a:moveTo>
                  <a:pt x="13376" y="10048"/>
                </a:moveTo>
                <a:lnTo>
                  <a:pt x="13376" y="8307"/>
                </a:lnTo>
                <a:lnTo>
                  <a:pt x="15152" y="8307"/>
                </a:lnTo>
                <a:lnTo>
                  <a:pt x="15152" y="11824"/>
                </a:lnTo>
                <a:close/>
              </a:path>
              <a:path fill="darkenLess" w="21600" h="28800">
                <a:moveTo>
                  <a:pt x="9877" y="17899"/>
                </a:moveTo>
                <a:lnTo>
                  <a:pt x="11723" y="17899"/>
                </a:lnTo>
                <a:lnTo>
                  <a:pt x="11723" y="21589"/>
                </a:lnTo>
                <a:lnTo>
                  <a:pt x="16109" y="21589"/>
                </a:lnTo>
                <a:lnTo>
                  <a:pt x="16109" y="14400"/>
                </a:lnTo>
                <a:lnTo>
                  <a:pt x="5491" y="14400"/>
                </a:lnTo>
                <a:lnTo>
                  <a:pt x="5491" y="21589"/>
                </a:lnTo>
                <a:lnTo>
                  <a:pt x="9877" y="215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685800"/>
            <a:ext cx="82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猫的性格实在有些古怪 。说它       吧，它有时候的确很乖。它会找个暖和的地方，成天睡大觉，无忧无虑，什么事也不过问。可是，它决定要出去玩玩，就会出走一天一夜，任凭谁怎么呼唤，它也不肯回来。说它        吧，的确是呀，要不怎么会一天一夜不回家呢？可是，它听到老鼠的一点响动，又是多么         。它闭息凝视，一连就是几个钟头，非把老鼠等出来不可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" action="ppaction://hlinksldjump"/>
          </p:cNvPr>
          <p:cNvSpPr/>
          <p:nvPr/>
        </p:nvSpPr>
        <p:spPr>
          <a:xfrm>
            <a:off x="7467480" y="6094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老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2" action="ppaction://hlinksldjump"/>
          </p:cNvPr>
          <p:cNvSpPr/>
          <p:nvPr/>
        </p:nvSpPr>
        <p:spPr>
          <a:xfrm>
            <a:off x="4648320" y="33973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贪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467480" y="44640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尽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685800"/>
            <a:ext cx="824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猫的性格实在有些         。说它       吧，它有时候的确很乖。它会找个暖和的地方，成天睡大觉，无忧无虑，什么事也不过问。可是，它决定要出去玩玩，就会出走一天一夜，任凭谁怎么呼唤，它也不肯回来。说它        吧，的确是呀，要不怎么会一天一夜不回家呢？可是，它听到老鼠的一点响动，又是多么         。它闭息凝视，一连就是几个钟头，非把老鼠等出来不可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" action="ppaction://hlinksldjump"/>
          </p:cNvPr>
          <p:cNvSpPr/>
          <p:nvPr/>
        </p:nvSpPr>
        <p:spPr>
          <a:xfrm>
            <a:off x="5105520" y="6858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古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2" action="ppaction://hlinksldjump"/>
          </p:cNvPr>
          <p:cNvSpPr/>
          <p:nvPr/>
        </p:nvSpPr>
        <p:spPr>
          <a:xfrm>
            <a:off x="7467480" y="6094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老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648320" y="33973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贪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467480" y="44640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尽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685800"/>
            <a:ext cx="824544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ea typeface="黑体"/>
                <a:hlinkClick r:id="rId1" action="ppaction://hlinksldjump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猫的性格实在有些         。说它       吧，它有时候的确很乖。它会找个暖和的地方，成天睡大觉，无忧无虑，什么事也不过问。可是，它决定要出去玩玩，就会出走一天一夜，任凭谁怎么呼唤，它也不肯回来。说它        吧，的确是呀，要不怎么会一天一夜不回家呢？可是，它听到老鼠的一点响动，又是多么         。它闭息凝视，一连就是几个钟头，非把老鼠等出来不可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2" action="ppaction://hlinksldjump"/>
          </p:cNvPr>
          <p:cNvSpPr/>
          <p:nvPr/>
        </p:nvSpPr>
        <p:spPr>
          <a:xfrm>
            <a:off x="5105520" y="6541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古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467480" y="6094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老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48320" y="33973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贪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467480" y="44640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尽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33520" y="685800"/>
            <a:ext cx="824544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ea typeface="黑体"/>
                <a:hlinkClick r:id="rId1" action="ppaction://hlinksldjump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猫的性格实在有些         。说它       吧，它有时候的确很乖。它会找个暖和的地方，成天睡大觉，无忧无虑，什么事也不过问。可是，它决定要出去玩玩，就会出走一天一夜，任凭谁怎么呼唤，它也不肯回来。说它        吧，的确是呀，要不怎么会一天一夜不回家呢？可是，它听到老鼠的一点响动，又是多么         。它闭息凝视，一连就是几个钟头，非把老鼠等出来不可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" action="ppaction://hlinksldjump"/>
          </p:cNvPr>
          <p:cNvSpPr/>
          <p:nvPr/>
        </p:nvSpPr>
        <p:spPr>
          <a:xfrm>
            <a:off x="5105520" y="6541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古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6094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老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3973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贪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467480" y="44640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尽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33520" y="685800"/>
            <a:ext cx="824544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ea typeface="黑体"/>
                <a:hlinkClick r:id="rId1" action="ppaction://hlinksldjump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猫的性格实在有些         。说它       吧，它有时候的确很乖。它会找个暖和的地方，成天睡大觉，无忧无虑，什么事也不过问。可是，它决定要出去玩玩，就会出走一天一夜，任凭谁怎么呼唤，它也不肯回来。说它        吧，的确是呀，要不怎么会一天一夜不回家呢？可是，它听到老鼠的一点响动，又是多么         。它闭息凝视，一连就是几个钟头，非把老鼠等出来不可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2" action="ppaction://hlinksldjump"/>
          </p:cNvPr>
          <p:cNvSpPr/>
          <p:nvPr/>
        </p:nvSpPr>
        <p:spPr>
          <a:xfrm>
            <a:off x="5105520" y="6541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古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3" action="ppaction://hlinksldjump"/>
          </p:cNvPr>
          <p:cNvSpPr/>
          <p:nvPr/>
        </p:nvSpPr>
        <p:spPr>
          <a:xfrm>
            <a:off x="7467480" y="6094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老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4" action="ppaction://hlinksldjump"/>
          </p:cNvPr>
          <p:cNvSpPr/>
          <p:nvPr/>
        </p:nvSpPr>
        <p:spPr>
          <a:xfrm>
            <a:off x="4648320" y="33973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贪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467480" y="44640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尽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33520" y="685800"/>
            <a:ext cx="824544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ea typeface="黑体"/>
                <a:hlinkClick r:id="rId1" action="ppaction://hlinksldjump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猫的性格实在有些         。说它       吧，它有时候的确很乖。它会找个暖和的地方，成天睡大觉，无忧无虑，什么事也不过问。可是，它决定要出去玩玩，就会出走一天一夜，任凭谁怎么呼唤，它也不肯回来。说它        吧，的确是呀，要不怎么会一天一夜不回家呢？可是，它听到老鼠的一点响动，又是多么         。它闭息凝视，一连就是几个钟头，非把老鼠等出来不可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2" action="ppaction://hlinksldjump"/>
          </p:cNvPr>
          <p:cNvSpPr/>
          <p:nvPr/>
        </p:nvSpPr>
        <p:spPr>
          <a:xfrm>
            <a:off x="5105520" y="6541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古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3" action="ppaction://hlinksldjump"/>
          </p:cNvPr>
          <p:cNvSpPr/>
          <p:nvPr/>
        </p:nvSpPr>
        <p:spPr>
          <a:xfrm>
            <a:off x="7467480" y="6094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老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48320" y="33973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贪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4" action="ppaction://hlinksldjump"/>
          </p:cNvPr>
          <p:cNvSpPr/>
          <p:nvPr/>
        </p:nvSpPr>
        <p:spPr>
          <a:xfrm>
            <a:off x="7467480" y="44640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尽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33520" y="685800"/>
            <a:ext cx="824544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ea typeface="黑体"/>
                <a:hlinkClick r:id="rId1" action="ppaction://hlinksldjump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猫的性格实在有些         。说它       吧，它有时候的确很乖。它会找个暖和的地方，成天睡大觉，无忧无虑，什么事也不过问。可是，它决定要出去玩玩，就会出走一天一夜，任凭谁怎么呼唤，它也不肯回来。说它        吧，的确是呀，要不怎么会一天一夜不回家呢？可是，它听到老鼠的一点响动，又是多么         。它闭息凝视，一连就是几个钟头，非把老鼠等出来不可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2" action="ppaction://hlinksldjump"/>
          </p:cNvPr>
          <p:cNvSpPr/>
          <p:nvPr/>
        </p:nvSpPr>
        <p:spPr>
          <a:xfrm>
            <a:off x="5105520" y="6541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古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467480" y="6094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老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3" action="ppaction://hlinksldjump"/>
          </p:cNvPr>
          <p:cNvSpPr/>
          <p:nvPr/>
        </p:nvSpPr>
        <p:spPr>
          <a:xfrm>
            <a:off x="4648320" y="33973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贪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4" action="ppaction://hlinksldjump"/>
          </p:cNvPr>
          <p:cNvSpPr/>
          <p:nvPr/>
        </p:nvSpPr>
        <p:spPr>
          <a:xfrm>
            <a:off x="7467480" y="44640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尽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08:01:26Z</dcterms:created>
  <dc:creator>lxh</dc:creator>
  <dc:description/>
  <dc:language>en-US</dc:language>
  <cp:lastModifiedBy>heyixiao</cp:lastModifiedBy>
  <dcterms:modified xsi:type="dcterms:W3CDTF">2003-12-04T07:29:36Z</dcterms:modified>
  <cp:revision>78</cp:revision>
  <dc:subject/>
  <dc:title>PowerPoint 演示文稿</dc:title>
</cp:coreProperties>
</file>