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0DE-841C-42EF-B3C7-9EBB9197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36F-FD3B-4694-B49B-C8953893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4757-3B18-403A-ACAD-CCC8B5651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89D1-1E6D-480D-AE74-E27BF4A1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7BE1-5564-4756-A721-E4B925E2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D948-457B-483B-871D-83E0CC30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B0A9-91D8-4206-A7C6-1E0B4E64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DDAE-A5A8-4BAC-9EBF-6928119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E098-6EE6-45DB-A2C9-A8F4FB2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50A2-269F-4A52-BDCC-EC6D1E4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4260-9630-4BDF-A166-796FA77D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31E-139D-4F4E-89B1-3C2C88E4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FE97-918F-4775-A751-8C6EA3E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A27E-F1F2-4B71-BF41-F201A3E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DAE1-0D0C-417F-AFC9-BC969CC2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EECE-67BD-481D-8421-A1B90828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8B94-254F-48CF-AB56-0C6C80C1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6AD-B9FC-4C48-BDD4-9747D5FD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580-6A55-458D-9F94-710BA14D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B7D8-5203-45AB-9A27-F5B07A3C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6A3-3520-40C6-BC97-6B198144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B22-5212-475F-B481-E0A9B57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1C1-D2A3-46FE-8D6A-0FF09A8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C95E-E405-4E9A-897C-8F94F09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895B-C5AB-4938-9B76-80C8819CC4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2CE7-EE20-44BA-B021-F42BEEACBB2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slide" Target="slide42.xm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8.xml"/><Relationship Id="rId3" Type="http://schemas.openxmlformats.org/officeDocument/2006/relationships/slide" Target="slide57.xml"/><Relationship Id="rId4" Type="http://schemas.openxmlformats.org/officeDocument/2006/relationships/slide" Target="slide61.xml"/><Relationship Id="rId5" Type="http://schemas.openxmlformats.org/officeDocument/2006/relationships/slide" Target="slide59.xml"/><Relationship Id="rId6" Type="http://schemas.openxmlformats.org/officeDocument/2006/relationships/slide" Target="slide50.xml"/><Relationship Id="rId7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16000" y="274284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李  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Unit 23 (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下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)</a:t>
            </a:r>
            <a:br>
              <a:rPr sz="4400"/>
            </a:b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Lesson 91 Mobile ph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t the following in correc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57400" y="1676160"/>
            <a:ext cx="6019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nokia3210_mainpage_s1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85" name="m3" descr=""/>
          <p:cNvPicPr/>
          <p:nvPr/>
        </p:nvPicPr>
        <p:blipFill>
          <a:blip r:embed="rId2"/>
          <a:stretch/>
        </p:blipFill>
        <p:spPr>
          <a:xfrm>
            <a:off x="1219320" y="289548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86" name="images4" descr=""/>
          <p:cNvPicPr/>
          <p:nvPr/>
        </p:nvPicPr>
        <p:blipFill>
          <a:blip r:embed="rId3"/>
          <a:stretch/>
        </p:blipFill>
        <p:spPr>
          <a:xfrm>
            <a:off x="1219320" y="1676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209680" y="2971800"/>
            <a:ext cx="55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43434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019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ordless phone can be useful within certain dis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nokia3210_mainpage_s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" cy="990720"/>
          </a:xfrm>
          <a:prstGeom prst="rect">
            <a:avLst/>
          </a:prstGeom>
          <a:ln w="0">
            <a:noFill/>
          </a:ln>
        </p:spPr>
      </p:pic>
      <p:pic>
        <p:nvPicPr>
          <p:cNvPr id="192" name="m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709560" cy="965160"/>
          </a:xfrm>
          <a:prstGeom prst="rect">
            <a:avLst/>
          </a:prstGeom>
          <a:ln w="0">
            <a:noFill/>
          </a:ln>
        </p:spPr>
      </p:pic>
      <p:pic>
        <p:nvPicPr>
          <p:cNvPr id="193" name="images4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641160" cy="768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33720" y="411480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The new model can recognize your voi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1676520"/>
            <a:ext cx="5562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You can take a mobile phone with you wherever you 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 can take it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wherev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go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657600"/>
            <a:ext cx="3657600" cy="990720"/>
          </a:xfrm>
          <a:prstGeom prst="wedgeRectCallout">
            <a:avLst>
              <a:gd name="adj1" fmla="val 52560"/>
              <a:gd name="adj2" fmla="val -16955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e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found people friendly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rever/ 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will find h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r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/ wher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he may b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is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t is, I don’t want to see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en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e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 come here , it rai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75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还可以引导名词性从句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39625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581280"/>
            <a:ext cx="914400" cy="8384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428640" y="3580920"/>
            <a:ext cx="1143000" cy="7621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on’t keep him waiting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do /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no matter w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you d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thing that) he did was righ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him or her,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ho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wa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rite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(anyone who) you wan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64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has the same result,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/ no matter whic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ay you do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You should wea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whicheve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ress(any dress that) suits you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Lesson 91 Mobile 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95480" y="2057400"/>
            <a:ext cx="4273560" cy="3733920"/>
            <a:chOff x="2895480" y="2057400"/>
            <a:chExt cx="4273560" cy="3733920"/>
          </a:xfrm>
        </p:grpSpPr>
        <p:pic>
          <p:nvPicPr>
            <p:cNvPr id="150" name="mob,p,%20pic" descr=""/>
            <p:cNvPicPr/>
            <p:nvPr/>
          </p:nvPicPr>
          <p:blipFill>
            <a:blip r:embed="rId1"/>
            <a:stretch/>
          </p:blipFill>
          <p:spPr>
            <a:xfrm>
              <a:off x="5568840" y="4038480"/>
              <a:ext cx="160020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mob,p5" descr=""/>
            <p:cNvPicPr/>
            <p:nvPr/>
          </p:nvPicPr>
          <p:blipFill>
            <a:blip r:embed="rId2"/>
            <a:stretch/>
          </p:blipFill>
          <p:spPr>
            <a:xfrm>
              <a:off x="2901960" y="4038480"/>
              <a:ext cx="1600200" cy="175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m2" descr=""/>
            <p:cNvPicPr/>
            <p:nvPr/>
          </p:nvPicPr>
          <p:blipFill>
            <a:blip r:embed="rId3"/>
            <a:stretch/>
          </p:blipFill>
          <p:spPr>
            <a:xfrm>
              <a:off x="2895480" y="2057400"/>
              <a:ext cx="1622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mob,%20p4" descr=""/>
            <p:cNvPicPr/>
            <p:nvPr/>
          </p:nvPicPr>
          <p:blipFill>
            <a:blip r:embed="rId4"/>
            <a:stretch/>
          </p:blipFill>
          <p:spPr>
            <a:xfrm>
              <a:off x="5568840" y="205740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主语或宾语从句时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这时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hatever, whoever, which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与其它的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-ever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引导状语从句时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         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ever                     no matter wh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495288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352320" y="2895120"/>
            <a:ext cx="1143000" cy="838800"/>
            <a:chOff x="3352320" y="2895120"/>
            <a:chExt cx="1143000" cy="838800"/>
          </a:xfrm>
        </p:grpSpPr>
        <p:sp>
          <p:nvSpPr>
            <p:cNvPr id="220" name=""/>
            <p:cNvSpPr/>
            <p:nvPr/>
          </p:nvSpPr>
          <p:spPr>
            <a:xfrm flipH="1">
              <a:off x="3429000" y="2895480"/>
              <a:ext cx="914400" cy="83844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352320" y="2895120"/>
              <a:ext cx="1143000" cy="762120"/>
            </a:xfrm>
            <a:prstGeom prst="line">
              <a:avLst/>
            </a:prstGeom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124080" y="3276720"/>
            <a:ext cx="160020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 In other words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can walk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0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3733920"/>
            <a:ext cx="3657600" cy="990360"/>
          </a:xfrm>
          <a:prstGeom prst="wedgeRectCallout">
            <a:avLst>
              <a:gd name="adj1" fmla="val 13106"/>
              <a:gd name="adj2" fmla="val -1721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is the same by saying; that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kind of phone is cordless  --- 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in other word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, it has no cords or wir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I want to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remi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you that we’ve got a meeting next Monday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65 Line 2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962520"/>
            <a:ext cx="4343400" cy="990360"/>
          </a:xfrm>
          <a:prstGeom prst="wedgeRectCallout">
            <a:avLst>
              <a:gd name="adj1" fmla="val -16666"/>
              <a:gd name="adj2" fmla="val -19262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tell or cause (someone) to re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’ve forgotten his name --- will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66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o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rite to Mum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sight of the clock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reminded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tha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I was la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One question is how much money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is due 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be paid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 Practice 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4114800"/>
            <a:ext cx="4952880" cy="1066680"/>
          </a:xfrm>
          <a:prstGeom prst="wedgeRectCallout">
            <a:avLst>
              <a:gd name="adj1" fmla="val -4388"/>
              <a:gd name="adj2" fmla="val -14836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expected/ supposed ( to happen or arriv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Mr Smith i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give the lecture twice tomorrow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Cf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 accident was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due to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because of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careless drivin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13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The problem is how much we should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harg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e new mobile phone.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Practice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4191120"/>
            <a:ext cx="4038480" cy="609480"/>
          </a:xfrm>
          <a:prstGeom prst="wedgeRectCallout">
            <a:avLst>
              <a:gd name="adj1" fmla="val 9944"/>
              <a:gd name="adj2" fmla="val -23073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ask in pa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y tried to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me $80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or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 room for a nigh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was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d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with stealing the jewels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1. have a general idea of mobile telephon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2. know how to use some words and expression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13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charge  (v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sk in pay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accus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控告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指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take in and store electric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I often have to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charge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the phone batte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harge  (n.)---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price asked or pai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phone will be repaired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free of charge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f it goes wrong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1___    I said, he would disagre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2___     you go, I go to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will discuss it with you ___3___ you li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74320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at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3352680"/>
            <a:ext cx="18288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r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3886200"/>
            <a:ext cx="2133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 “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-ev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4___      hard the task may be, we’ll try to finish it i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___5___       book you borrow, you must return it within a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3048120"/>
            <a:ext cx="1828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267080"/>
            <a:ext cx="20574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 will do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wis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on’t lose heart,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atever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you 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5334120"/>
            <a:ext cx="2971800" cy="609480"/>
          </a:xfrm>
          <a:prstGeom prst="wedgeRectCallout">
            <a:avLst>
              <a:gd name="adj1" fmla="val 43962"/>
              <a:gd name="adj2" fmla="val -1388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</a:t>
            </a:r>
            <a:r>
              <a:rPr b="1" lang="zh-CN" sz="32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nts to see me, tell him I’m bus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o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makes mistakes must correct them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3733920"/>
            <a:ext cx="2971800" cy="609480"/>
          </a:xfrm>
          <a:prstGeom prst="wedgeRectCallout">
            <a:avLst>
              <a:gd name="adj1" fmla="val -77833"/>
              <a:gd name="adj2" fmla="val -7343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Which “-ever”  = “no matter wh-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You can tak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whichever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oom you pref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It will take 3 hours,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</a:rPr>
              <a:t> whichever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y you do i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4876920"/>
            <a:ext cx="3276360" cy="609480"/>
          </a:xfrm>
          <a:prstGeom prst="wedgeRectCallout">
            <a:avLst>
              <a:gd name="adj1" fmla="val -240"/>
              <a:gd name="adj2" fmla="val -8463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matter 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1___     I must call him up before no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picture reminded me ___2___ the days in Par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29200" y="2971800"/>
            <a:ext cx="12952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038480"/>
            <a:ext cx="838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675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“of”, “that”, “to” or “/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f I forget, please remind ___3___ 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ease remind me ___4___  answer that let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2895480"/>
            <a:ext cx="9144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3962520"/>
            <a:ext cx="7621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er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42640" y="38862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woman teacher. I just need a mobile phone to call  my friends or receive calls from them. I don’t want to spend too much time on the ph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j0198594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278" name="nokia%208210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29528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samsung" descr=""/>
          <p:cNvPicPr/>
          <p:nvPr/>
        </p:nvPicPr>
        <p:blipFill>
          <a:blip r:embed="rId3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5320" y="47242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bile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mobile%20library%202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281952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mobile%20library%205" descr=""/>
          <p:cNvPicPr/>
          <p:nvPr/>
        </p:nvPicPr>
        <p:blipFill>
          <a:blip r:embed="rId2"/>
          <a:stretch/>
        </p:blipFill>
        <p:spPr>
          <a:xfrm>
            <a:off x="5257800" y="2273400"/>
            <a:ext cx="3022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lp him decide which to buy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18960" y="36576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empus Sans ITC"/>
              </a:rPr>
              <a:t>I’m a young man. I like all fashionable things. I often chat with my friends on the phone or on line. I  hope to be loved by th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nokia%2082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1752480"/>
            <a:ext cx="1438200" cy="1752840"/>
          </a:xfrm>
          <a:prstGeom prst="rect">
            <a:avLst/>
          </a:prstGeom>
          <a:ln w="0">
            <a:noFill/>
          </a:ln>
        </p:spPr>
      </p:pic>
      <p:pic>
        <p:nvPicPr>
          <p:cNvPr id="283" name="j028569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1549440" cy="1827360"/>
          </a:xfrm>
          <a:prstGeom prst="rect">
            <a:avLst/>
          </a:prstGeom>
          <a:ln w="0">
            <a:noFill/>
          </a:ln>
        </p:spPr>
      </p:pic>
      <p:pic>
        <p:nvPicPr>
          <p:cNvPr id="284" name="samsung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00200"/>
            <a:ext cx="1309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Nokia 8210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ashionable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Voice dialing for up to 8 nam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SMS and picture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lock, alarm cloc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nokia%208210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84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  <a:ea typeface="Arial"/>
              </a:rPr>
              <a:t>Samsung SGH-V2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621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Arial"/>
              </a:rPr>
              <a:t>Phon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Built-in digital came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100 picture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Colour  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Free flash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500+ SIM phonebook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igh speed on l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samsung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4956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sung SGH-V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j0285696" descr=""/>
          <p:cNvPicPr/>
          <p:nvPr/>
        </p:nvPicPr>
        <p:blipFill>
          <a:blip r:embed="rId1"/>
          <a:stretch/>
        </p:blipFill>
        <p:spPr>
          <a:xfrm>
            <a:off x="1330200" y="1946160"/>
            <a:ext cx="3489480" cy="4114800"/>
          </a:xfrm>
          <a:prstGeom prst="rect">
            <a:avLst/>
          </a:prstGeom>
          <a:ln w="0">
            <a:noFill/>
          </a:ln>
        </p:spPr>
      </p:pic>
      <p:pic>
        <p:nvPicPr>
          <p:cNvPr id="294" name="samsung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21556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724280" y="1143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kia 82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j019859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809880" cy="2889360"/>
          </a:xfrm>
          <a:prstGeom prst="rect">
            <a:avLst/>
          </a:prstGeom>
          <a:ln w="0">
            <a:noFill/>
          </a:ln>
        </p:spPr>
      </p:pic>
      <p:pic>
        <p:nvPicPr>
          <p:cNvPr id="298" name="nokia%208210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25988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 The baby was f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frequentl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1  I have lived in a small house whose door opened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directly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onto the stre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2  It is quite useful to have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redire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th your telephone</a:t>
            </a:r>
            <a:r>
              <a:rPr b="0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1    … but I had n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o go back for a rainco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2    We are making efforts to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strengthe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relationship between the two s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4 Ex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1    She does very well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st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and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2    The change from water to ice is not a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chemical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ha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. 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need for the experi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2.  Th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u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money we can collect for special edu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3.  The problem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the electrical signals get weaker and weaker as they travel along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4. This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must get support from the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rdless,%20Samsung%20SGH-V205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3326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mobile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ular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cell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hand 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5.  One question i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e use glass pipes to send light signals instead of metal wir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6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How man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untries will take part in the next Asian Games is not yet kn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7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ich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company will take up the project must be decided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8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ill go to see the sick and the injured is very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9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r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top secret document was kept was not known till the revolution star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0.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eth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both of them should be hired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Homework checking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P125 Ex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11. 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Whose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English is the best can be judged by tes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Compare the two sentenc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had won the priz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The news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黑体"/>
              </a:rPr>
              <a:t>that he told me yesterd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 was tr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05320" y="4419720"/>
            <a:ext cx="3276360" cy="609480"/>
          </a:xfrm>
          <a:prstGeom prst="wedgeRectCallout">
            <a:avLst>
              <a:gd name="adj1" fmla="val -1402"/>
              <a:gd name="adj2" fmla="val -12161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2743200"/>
            <a:ext cx="3276720" cy="609480"/>
          </a:xfrm>
          <a:prstGeom prst="wedgeRectCallout">
            <a:avLst>
              <a:gd name="adj1" fmla="val -240"/>
              <a:gd name="adj2" fmla="val -10677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1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4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>
            <a:hlinkClick r:id="rId5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>
            <a:hlinkClick r:id="rId6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362320" y="4495680"/>
            <a:ext cx="5029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mart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smart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2438640" cy="21668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smart%20student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1573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742840" y="2133360"/>
            <a:ext cx="4419720" cy="2514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e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e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Lesson 91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26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性从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at is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y he decided to buy a mobile 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cc66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o made the long distance call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not importa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c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that we lack enough phon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eeds to be conside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need to think about 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what we should say to the call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2133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take it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whereve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wiser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a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grow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895480" y="1676520"/>
            <a:ext cx="4267440" cy="4114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… 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l the be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word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ee of cha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the whole uni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1 &amp;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t on line and try to search a new mobile phone model which has more attractive features than Samsung V205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bile phone picture collec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mob,%20p4" descr=""/>
          <p:cNvPicPr/>
          <p:nvPr/>
        </p:nvPicPr>
        <p:blipFill>
          <a:blip r:embed="rId1"/>
          <a:stretch/>
        </p:blipFill>
        <p:spPr>
          <a:xfrm>
            <a:off x="2209680" y="2120760"/>
            <a:ext cx="1913040" cy="1806840"/>
          </a:xfrm>
          <a:prstGeom prst="rect">
            <a:avLst/>
          </a:prstGeom>
          <a:ln w="0">
            <a:noFill/>
          </a:ln>
        </p:spPr>
      </p:pic>
      <p:pic>
        <p:nvPicPr>
          <p:cNvPr id="360" name="mob,p,%20pic" descr=""/>
          <p:cNvPicPr/>
          <p:nvPr/>
        </p:nvPicPr>
        <p:blipFill>
          <a:blip r:embed="rId2"/>
          <a:stretch/>
        </p:blipFill>
        <p:spPr>
          <a:xfrm>
            <a:off x="5181480" y="2044800"/>
            <a:ext cx="1905120" cy="1841400"/>
          </a:xfrm>
          <a:prstGeom prst="rect">
            <a:avLst/>
          </a:prstGeom>
          <a:ln w="0">
            <a:noFill/>
          </a:ln>
        </p:spPr>
      </p:pic>
      <p:pic>
        <p:nvPicPr>
          <p:cNvPr id="361" name="m2" descr=""/>
          <p:cNvPicPr/>
          <p:nvPr/>
        </p:nvPicPr>
        <p:blipFill>
          <a:blip r:embed="rId3"/>
          <a:stretch/>
        </p:blipFill>
        <p:spPr>
          <a:xfrm>
            <a:off x="2286000" y="4038480"/>
            <a:ext cx="1832040" cy="1981440"/>
          </a:xfrm>
          <a:prstGeom prst="rect">
            <a:avLst/>
          </a:prstGeom>
          <a:ln w="0">
            <a:noFill/>
          </a:ln>
        </p:spPr>
      </p:pic>
      <p:pic>
        <p:nvPicPr>
          <p:cNvPr id="362" name="mob,p5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4" name="cordless,%20Samsung%20SGH-V205" descr=""/>
          <p:cNvPicPr/>
          <p:nvPr/>
        </p:nvPicPr>
        <p:blipFill>
          <a:blip r:embed="rId1"/>
          <a:stretch/>
        </p:blipFill>
        <p:spPr>
          <a:xfrm>
            <a:off x="541008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65" name="Nokia%207210" descr=""/>
          <p:cNvPicPr/>
          <p:nvPr/>
        </p:nvPicPr>
        <p:blipFill>
          <a:blip r:embed="rId2"/>
          <a:stretch/>
        </p:blipFill>
        <p:spPr>
          <a:xfrm>
            <a:off x="5715000" y="1752480"/>
            <a:ext cx="1189080" cy="1981440"/>
          </a:xfrm>
          <a:prstGeom prst="rect">
            <a:avLst/>
          </a:prstGeom>
          <a:ln w="0">
            <a:noFill/>
          </a:ln>
        </p:spPr>
      </p:pic>
      <p:pic>
        <p:nvPicPr>
          <p:cNvPr id="366" name="m3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1457280" cy="1981080"/>
          </a:xfrm>
          <a:prstGeom prst="rect">
            <a:avLst/>
          </a:prstGeom>
          <a:ln w="0">
            <a:noFill/>
          </a:ln>
        </p:spPr>
      </p:pic>
      <p:pic>
        <p:nvPicPr>
          <p:cNvPr id="367" name="nokia3210_mainpage_s1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bile 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69" name="mobile2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370" name="motorola2" descr=""/>
          <p:cNvPicPr/>
          <p:nvPr/>
        </p:nvPicPr>
        <p:blipFill>
          <a:blip r:embed="rId2"/>
          <a:stretch/>
        </p:blipFill>
        <p:spPr>
          <a:xfrm>
            <a:off x="2362320" y="4038480"/>
            <a:ext cx="194472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motorola1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968480" cy="1981440"/>
          </a:xfrm>
          <a:prstGeom prst="rect">
            <a:avLst/>
          </a:prstGeom>
          <a:ln w="0">
            <a:noFill/>
          </a:ln>
        </p:spPr>
      </p:pic>
      <p:pic>
        <p:nvPicPr>
          <p:cNvPr id="372" name="mobile1" descr=""/>
          <p:cNvPicPr/>
          <p:nvPr/>
        </p:nvPicPr>
        <p:blipFill>
          <a:blip r:embed="rId4"/>
          <a:stretch/>
        </p:blipFill>
        <p:spPr>
          <a:xfrm>
            <a:off x="5257800" y="1752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57040" y="43434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cord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69" name="cordless%20phone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1752840" cy="1981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95680" y="43434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rdless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4920" y="4572000"/>
            <a:ext cx="3581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j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distance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1601640" cy="2514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distance%201" descr=""/>
          <p:cNvPicPr/>
          <p:nvPr/>
        </p:nvPicPr>
        <p:blipFill>
          <a:blip r:embed="rId2"/>
          <a:stretch/>
        </p:blipFill>
        <p:spPr>
          <a:xfrm>
            <a:off x="4876920" y="1940040"/>
            <a:ext cx="2514600" cy="2315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867280" y="266688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ance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52320" y="4343040"/>
            <a:ext cx="3783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announce" descr=""/>
          <p:cNvPicPr/>
          <p:nvPr/>
        </p:nvPicPr>
        <p:blipFill>
          <a:blip r:embed="rId1"/>
          <a:stretch/>
        </p:blipFill>
        <p:spPr>
          <a:xfrm>
            <a:off x="4167360" y="1752480"/>
            <a:ext cx="1730160" cy="2514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480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ouncement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Lisa</cp:lastModifiedBy>
  <dcterms:modified xsi:type="dcterms:W3CDTF">2003-06-12T17:11:52Z</dcterms:modified>
  <cp:revision>109</cp:revision>
  <dc:subject/>
  <dc:title>Unit 19 A freedom fighter (continued)</dc:title>
</cp:coreProperties>
</file>