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829-D6D7-49FA-B6B2-50D9DBFC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185-4C0E-466C-B0AA-ACA219BF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63A-0C55-403D-A2EF-F715CDD1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3DDB-B2DE-4A56-9345-E811274E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A63-FDAC-491E-BC36-08A6DBBC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D785-5485-4D5B-A6C3-4B7E81A5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F6C-513C-4697-9E86-E82D030E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1F60-BFB6-4666-8DD0-628F73A9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E01-36AE-4817-9594-A40359E6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A23-9040-4E22-9461-FE3B2E56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D1F-FE83-4CF8-9686-9B960EEF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9D4-E9A4-41E5-957E-38E8FCDB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5A05-2229-46CC-9B22-9DF465E14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143000"/>
            <a:ext cx="64771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46483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作者：孙玉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228600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《看图读拼音识字</a:t>
            </a:r>
            <a:r>
              <a:rPr b="1" lang="en-US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9</a:t>
            </a:r>
            <a:r>
              <a:rPr b="1" lang="zh-CN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》教学课件</a:t>
            </a:r>
            <a:endParaRPr b="1" lang="en-US" sz="2400" spc="1" strike="noStrike">
              <a:ln w="936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小学语文第一册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rot="21211200">
            <a:off x="838080" y="838080"/>
            <a:ext cx="67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隶书"/>
                <a:ea typeface="隶书"/>
              </a:rPr>
              <a:t>看图读拼音识字</a:t>
            </a:r>
            <a:r>
              <a:rPr b="1" i="1" lang="zh-CN" sz="6600" spc="-1" strike="noStrike">
                <a:solidFill>
                  <a:srgbClr val="0000ff"/>
                </a:solidFill>
                <a:latin typeface="隶书"/>
                <a:ea typeface="隶书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59000" y="2209680"/>
            <a:ext cx="2343240" cy="3497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yp4" descr=""/>
          <p:cNvPicPr/>
          <p:nvPr/>
        </p:nvPicPr>
        <p:blipFill>
          <a:blip r:embed="rId1"/>
          <a:stretch/>
        </p:blipFill>
        <p:spPr>
          <a:xfrm>
            <a:off x="744480" y="3886200"/>
            <a:ext cx="1697040" cy="2438280"/>
          </a:xfrm>
          <a:prstGeom prst="rect">
            <a:avLst/>
          </a:prstGeom>
          <a:ln w="0">
            <a:noFill/>
          </a:ln>
        </p:spPr>
      </p:pic>
      <p:pic>
        <p:nvPicPr>
          <p:cNvPr id="48" name="syp1" descr=""/>
          <p:cNvPicPr/>
          <p:nvPr/>
        </p:nvPicPr>
        <p:blipFill>
          <a:blip r:embed="rId2"/>
          <a:stretch/>
        </p:blipFill>
        <p:spPr>
          <a:xfrm>
            <a:off x="3314880" y="173160"/>
            <a:ext cx="5219640" cy="4287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yp2" descr=""/>
          <p:cNvPicPr/>
          <p:nvPr/>
        </p:nvPicPr>
        <p:blipFill>
          <a:blip r:embed="rId1"/>
          <a:stretch/>
        </p:blipFill>
        <p:spPr>
          <a:xfrm>
            <a:off x="685800" y="2403360"/>
            <a:ext cx="4419720" cy="3546720"/>
          </a:xfrm>
          <a:prstGeom prst="rect">
            <a:avLst/>
          </a:prstGeom>
          <a:ln w="0">
            <a:noFill/>
          </a:ln>
        </p:spPr>
      </p:pic>
      <p:pic>
        <p:nvPicPr>
          <p:cNvPr id="50" name="syp3" descr=""/>
          <p:cNvPicPr/>
          <p:nvPr/>
        </p:nvPicPr>
        <p:blipFill>
          <a:blip r:embed="rId2"/>
          <a:stretch/>
        </p:blipFill>
        <p:spPr>
          <a:xfrm>
            <a:off x="6523200" y="457200"/>
            <a:ext cx="1977840" cy="2362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3T20:00:11Z</dcterms:created>
  <dc:creator>4</dc:creator>
  <dc:description/>
  <dc:language>en-US</dc:language>
  <cp:lastModifiedBy>4</cp:lastModifiedBy>
  <dcterms:modified xsi:type="dcterms:W3CDTF">2000-01-21T01:47:27Z</dcterms:modified>
  <cp:revision>7</cp:revision>
  <dc:subject/>
  <dc:title>没有幻灯片标题</dc:title>
</cp:coreProperties>
</file>