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8.png" ContentType="image/png"/>
  <Override PartName="/ppt/media/image14.jpeg" ContentType="image/jpeg"/>
  <Override PartName="/ppt/media/image18.png" ContentType="image/png"/>
  <Override PartName="/ppt/media/image15.jpeg" ContentType="image/jpe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ECD1-8075-47E5-8F35-E520E1F2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AEAA-D47F-43DB-B42B-B43D47772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77F667-30B7-4B1B-BE07-B4338B8D0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88C6A-B416-472E-9423-C2413FE71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6D594D-0840-4E26-B4E8-3291E0C4F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9B0C0E-6C05-4D36-958C-3363F573D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A13529-3644-412E-B10D-3D6FAC7C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8C8B8E-5BF4-4524-8840-FAE3E2E6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9AEF4-E648-470B-9162-5562D049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742F4-8AE7-44E0-86F5-A10A71920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3FC95-01DF-4644-9F18-0993E4430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3E6FD3-53F4-498E-AA70-F13F64963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D918-DB21-4EDF-A8B4-A9D030607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D6A76-2447-4497-B349-9F4EF84B2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0C047-D274-433E-90C8-30A751BA1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034FC9-35BA-45FC-A48E-1B0A6CAB3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7D5F6B-2140-45BE-97B9-042694303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3A9E1-CE31-4805-BCB9-AEA20DD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0405CE-FCF6-470C-B0AA-9FFEA0B7E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B7AF48-8486-440C-91EA-1D81DF3A5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EDAD3DD-D8B5-45C2-88F2-55BAFFB47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7343BF-87D2-4DE0-86E8-C2350FCF6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948F2-55C0-4A6F-B9D6-D0772FE9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A7CB-9B0E-4E5D-9E2E-7DA752B99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2BCEB3-E0CE-4063-8535-9ADB4E78C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352BE6F-4D83-443C-A990-14EE18D20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D2A36D-CD26-4902-BA75-A7E82FBA2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60218B-ED9A-44F5-B6CD-D9815E58D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654A41-0D15-4D34-A02B-1DAF015A4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E8D637-C79A-4B3D-9A6D-F97948B5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749667-F3CF-4AA2-9DCC-71645C1E4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97A2A1-820C-4540-A770-F7977944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95616F-ECDF-4095-8B2B-8274C4EB7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7C5D62-0FD2-4D17-86B8-E0C24CC96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BB82-E48D-4292-9D8F-83C40EF70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7997C0-C927-4189-B891-54883A18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F66152-9A0B-44E8-8717-00109A18F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4EDF14-6DED-4686-B622-48ACA5777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4529D3-8382-4B77-A7C4-141F2526B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077687-98D8-4113-A1D9-81489FE8F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176FA5-02FC-4A82-BB69-831A6084D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8E0BB-2342-4603-9D64-B41AF6B57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A539D-257A-436C-8EFC-89DE6FDE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2E77C5-3962-471A-A4BF-8C32CF688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35F1D6-A22C-47E5-9244-FB27F3619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0CE1-091F-44DF-9F4F-32E6C63C4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343001-3DB5-46F5-AC3D-0EEBC2452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F42F1F-1D34-4796-B1B2-6F84AD97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5C6165-2FD1-4528-B20A-23FAE3517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FC8645-F9C2-44C3-8D02-A9FA154A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1C2FFB-9445-433F-B6AB-F8BE536E7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2B2579-FF9E-474F-9B6D-02BE8CC15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65BF05-1CAF-4800-AB12-897C14319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1C1DB6-0CC7-448D-9E06-5DE019BB2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EF249B-4CEA-44DB-B6DC-B2D3DEEF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D0F15C-C80A-4514-9E1B-E71C9F169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0423-B280-4EF4-9C12-FB3EE2BC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A1105B-96C3-4C4E-96EE-548BB634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391721-7033-48EB-BFBF-4E1A8B70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ECCA10-AFED-4285-BE26-D2257E2B0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BAC225-3BAE-4CDB-A5EE-D059EEE6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EDE4BCE-7FDC-4704-A35F-B08479612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AD632-F405-4DEF-8640-8A13E8E15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EB9C87-98D1-4EB8-AEE6-3BAD2150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9153B9-2D26-462F-B044-B6E58FEAD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539FE0-0A95-4D67-A3EF-1F873B281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8C2D74-2BF9-4A40-A744-2C7E85E0E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A3E4F-615D-44FE-9AC0-6B9D6045C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EAAD74-1141-4B4A-9290-2E6A2E46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1FB0EA-A887-4B4A-8071-50CFC28C7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B3B9CA2-B00F-4A86-876E-94A8ABD6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151470-3840-4701-A975-A7BD58F3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D2EAD0-9B89-40D0-8FCD-AD793CED9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9EF30B-F0B5-433E-B070-C8CB5FC4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85F6C9-9FE5-47D0-B6BE-C6CDE32A1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A67173-AD3C-4C63-B4C4-18AC273CD4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CB47211-DCBF-446C-A5B8-71C6EB46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252BD-A825-4AA7-8905-2FE439ECE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16D80-D689-4C83-AB61-6CBC83D81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EEA7DEE-9C26-47C2-A5FA-403B0C247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6709EDF-F3C5-4ECE-B20F-76925DEA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BFEBC2-AEBA-4929-A2F9-848F3A030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68B547-8DD3-4FF3-88F3-219FCACAD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9241A06-3CA6-4F53-AD9E-1A885FFC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6BC1EA-DF2B-4541-8577-38B0C2AB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55325E-2133-4F8A-9D03-34C9717D3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6B99D7-3A22-4D70-9F1F-26797AE86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CEDF2D-803F-463F-9111-23820EF59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00F1CE-2B84-4B19-B658-09C808E78F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6B14-B171-496C-8B36-E37BC2B6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7E5A7D-B68B-4387-9BD9-B709E2DF1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9BF541-58C7-444F-A12B-41812989F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162D43-57B5-423A-958B-D81AFCF0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EC803F-D283-4729-96B5-1D962DB7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7A0FEA-F9E3-4F80-953B-2D97E7946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B0D65C-CA62-43AC-8515-A0B377655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9EC14D-9892-44A6-B6E9-B1ACC2859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5E40E6-D4BE-4CDC-B45D-CE562DE58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209B30-1528-4F7B-B71A-A02F151A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7E53E3-F012-4216-8986-C7E992404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2634-A2D5-47A3-8E78-6C84D3C1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848703-472A-4942-BBAD-C710756A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78A613-9EF6-4350-A4D1-E65B97A8E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C512F6-651E-4C03-BB0E-C6A3431A0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177-188B-4DDF-9F90-800DDE855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DCDE1-620A-43A9-81C2-C3C47040F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C4F8E-F8D3-4D22-BF3B-2531E6214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7308-E03E-4820-9D33-298AD566D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D5259-D67D-4E43-B31B-3609826EF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4C6D-1BCC-4766-BAA4-DDE63A5B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39E7F7-9B59-4C44-8470-8D6AA237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F0BA8-1F64-4361-8252-7C4DFCDBE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A7C5B-D0B3-4F6C-8503-B3914C659D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0F825-01C2-4751-AB43-3D8E08285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78043D-C8F8-4F41-A8DF-CF2E4A55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0CD6E-5302-47A8-BFA3-8ED82D4D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0B16D-565E-42BD-925A-8FB20D106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21F859-1901-468F-9A83-4072143F6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23D87E-921F-4FA8-AC02-0037FC929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C3FA6-E6FC-4D66-8F5E-22FD029FF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4A077-99D5-4723-8FDA-D271AEC5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32098-EECF-4872-9E3E-53A54D43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6207E4-D6EE-4F3A-97EF-20F97F8BF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B0DEFF-E8C3-4AC1-B33A-05ECDEF03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C9E254-B4ED-4886-BE6E-7A1084B7A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898480-F332-48F6-BAEA-5C08DED04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C351-059E-43D4-8064-E7B7FF885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63B07-EFD9-4125-A64E-D63E2C8DE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0FE1C4-BE81-469C-8586-266859FF6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560049-1611-4C1E-AED8-F9937F0CD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31EDE-9B87-40BD-8F3D-6452333BC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38316-3998-4C53-B6D9-0F2A91CD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E67FB0-17AF-449A-8AF4-3D672F80B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A85329-7132-4A38-BCC4-99E39D36D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553F0A-E553-4A69-8205-DE189F4CD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535E5-CD45-4CD1-B577-A3419A6B2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2A6C28-A57B-4CDA-AF34-83221CCAD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778B-E6FD-48E6-BCE6-983791C3D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AB37EF-CBDC-4ACA-8B3F-91ECA9B3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D8C81B-1C27-4B06-9A03-317952FAB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8BA9E8-E6C9-4768-8894-A9A52568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3744B2-7806-4802-952E-72E9EF1A0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EDA442-6437-4E82-BC0C-0C0D1106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2EE84D-2286-4B2F-9720-BB2FD528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B97B4C-9726-47CB-8E09-1DA068FF0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052E3C-FD48-4568-8A3A-ECFC3EA595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EAF2F-E4CD-4D83-8B7A-90AAE6D6C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45723-C30E-4953-80EA-9F7DD7A70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473F-1E93-4E9B-8EE3-ACAE69E01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243D25-85CA-4187-8B6C-913BBA5F9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BC6B46-7CFA-4C0C-9947-1216B3C1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13D6B3F-F566-4C4C-B96A-C876D2F44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7BBF425-3072-4E22-815E-869FFE2C6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8BBF3C-3D2B-47C7-BAD5-D2F7D2CEB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177B49D-66C1-489E-99D7-DC8498766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5CE287B-564E-42DC-BC18-6B92A7482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5D42AE-61C9-46FE-AEB2-3418AD7B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E345AA-DD89-49AC-966F-6F641F72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A5D0E2-CB06-48AF-878A-7DE2C3265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1C8A-DEDE-4F74-94B8-DD51B514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EA56CAC-3AA8-4A17-94C3-2A06999E1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523C00-A147-43BA-B27B-7AEA64381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E42EC99-E26A-4A31-BF36-3B478369A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DCC238-B099-410C-A2AE-A43BB9009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1E960A0-3AC6-4C85-B848-BE0E2FC36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E27BE7-20E0-4583-9814-6AE7F7100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153283-D860-4F42-8C03-7B6CB558A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10800B1-47EC-4B03-8306-2578A3DCE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442EDFA-2465-43F2-BD5D-56046A55F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5DF5AA6-AAC0-4096-BA3F-D5114781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CFD7-1FE5-4003-A8CD-A2B542855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7B8EFD4-BCEA-4F03-AE13-610BE5621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DB6AA7E-7B8D-4E57-915C-2D94965B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6DC653E-BA23-459F-8EAB-5297B3AD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3D9DC23-7E5F-43AD-8AA8-381F2A732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9F84AAB-0561-4032-9B14-72BFBA59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6396F5-3B88-401E-BF65-E25C9F4B1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B565BC-02A7-428A-9BC2-585E3937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77002B-ABAE-4B8C-A4FD-279438F7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FA937B-DA00-424A-A6FB-3FBBDD025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AFB533-3988-44B8-8CC8-7DCAE289D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FEA0-9B35-4AFB-8E17-AAE1672E4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15101B-BFCC-40CC-93B0-E66F4346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24A4E-A1EE-4A43-B99D-93EE4C1A7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71D29F-6C3C-4E5F-8A4A-B2AFC8AB5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D00713-9983-42F7-AF9C-CEE019BFB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B3B155-30C4-4214-BD76-19FC586B9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0C9351-8766-4470-954F-3BF86AB45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8E3FC3-928F-42E5-B2E3-F92B208A8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21635-0629-4707-B2EF-23D9723819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F4685E-5CD2-41FB-9E99-7481C0BA8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46DD4E-D856-4D41-B986-852FDC629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C6B3-7670-4FD6-9C5A-90BDF55E76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C5189-5981-4E56-AFBE-3BB882A389E8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480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83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484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grpSp>
        <p:nvGrpSpPr>
          <p:cNvPr id="489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490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93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494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</p:grpSp>
      <p:sp>
        <p:nvSpPr>
          <p:cNvPr id="499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3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95618-BE87-4B42-A13B-73FFC5331DD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7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598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664B9-2D1F-47D2-A518-74293C6B23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37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38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39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D58A-EBB2-4880-BBC4-13E7E280261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40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41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42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8162E-3ABA-45A1-9F0C-870242969D1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7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738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2450-BD67-471B-9293-8FC7A20F49E7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785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791" name="PlaceHolder 1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AEB62-C5D4-4A44-92A6-05653095C308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78527-B31E-4C7C-818B-D6DB6F699C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A80ED-C1E7-4985-88DB-5C3486688BBA}" type="slidenum">
              <a:rPr b="0" lang="zh-CN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13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grpSp>
          <p:nvGrpSpPr>
            <p:cNvPr id="13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13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</p:grpSp>
        <p:sp>
          <p:nvSpPr>
            <p:cNvPr id="13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dt" idx="10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ftr" idx="11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sldNum" idx="12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01A81-FCB0-4278-ACBF-1BC7BFF42AC2}" type="slidenum">
              <a:rPr b="0" lang="zh-CN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C201-B9E9-40F5-860C-FE55BF38CC6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6C54D-0931-4C2B-9E28-D4EFBDECB03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26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sldNum" idx="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BE5D1-1D2A-4F8C-BFEB-3965CC908E14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dt" idx="2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4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325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6FA0C-A56A-4534-84C0-F110319B4BE9}" type="slidenum">
              <a:rPr b="0" lang="zh-CN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 type="dt" idx="25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 type="ftr" idx="26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 type="sldNum" idx="27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1664-77B8-4973-B62A-50573DE86B24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96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grpSp>
          <p:nvGrpSpPr>
            <p:cNvPr id="405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406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09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13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8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19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21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22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423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426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27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7a77"/>
                  </a:solidFill>
                  <a:latin typeface="Arial"/>
                </a:endParaRPr>
              </a:p>
            </p:txBody>
          </p:sp>
          <p:grpSp>
            <p:nvGrpSpPr>
              <p:cNvPr id="428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9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0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1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3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  <p:sp>
              <p:nvSpPr>
                <p:cNvPr id="436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7a77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437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8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4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4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8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832" name=""/>
          <p:cNvSpPr/>
          <p:nvPr/>
        </p:nvSpPr>
        <p:spPr>
          <a:xfrm>
            <a:off x="826920" y="333360"/>
            <a:ext cx="777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dc5900"/>
                </a:solidFill>
                <a:latin typeface="华文彩云"/>
                <a:ea typeface="华文彩云"/>
              </a:rPr>
              <a:t>Welcome to join us!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9" name="" descr=""/>
          <p:cNvPicPr/>
          <p:nvPr/>
        </p:nvPicPr>
        <p:blipFill>
          <a:blip r:embed="rId1"/>
          <a:stretch/>
        </p:blipFill>
        <p:spPr>
          <a:xfrm>
            <a:off x="4859280" y="0"/>
            <a:ext cx="3405240" cy="4221000"/>
          </a:xfrm>
          <a:prstGeom prst="rect">
            <a:avLst/>
          </a:prstGeom>
          <a:ln w="0">
            <a:noFill/>
          </a:ln>
        </p:spPr>
      </p:pic>
      <p:pic>
        <p:nvPicPr>
          <p:cNvPr id="850" name="" descr=""/>
          <p:cNvPicPr/>
          <p:nvPr/>
        </p:nvPicPr>
        <p:blipFill>
          <a:blip r:embed="rId2"/>
          <a:stretch/>
        </p:blipFill>
        <p:spPr>
          <a:xfrm>
            <a:off x="679320" y="0"/>
            <a:ext cx="3275280" cy="4292640"/>
          </a:xfrm>
          <a:prstGeom prst="rect">
            <a:avLst/>
          </a:prstGeom>
          <a:ln w="0">
            <a:noFill/>
          </a:ln>
        </p:spPr>
      </p:pic>
      <p:sp>
        <p:nvSpPr>
          <p:cNvPr id="851" name=""/>
          <p:cNvSpPr/>
          <p:nvPr/>
        </p:nvSpPr>
        <p:spPr>
          <a:xfrm>
            <a:off x="1116000" y="4797360"/>
            <a:ext cx="633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2" name=""/>
          <p:cNvSpPr/>
          <p:nvPr/>
        </p:nvSpPr>
        <p:spPr>
          <a:xfrm>
            <a:off x="539640" y="4292640"/>
            <a:ext cx="8353440" cy="21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1982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ahoma"/>
              </a:rPr>
              <a:t>A young boy called Elliott who made friends with a creature from outer space and helped him find a way back home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0" y="1197000"/>
            <a:ext cx="4392720" cy="360036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5219640" y="1052640"/>
            <a:ext cx="331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4427640" y="692280"/>
            <a:ext cx="4248000" cy="52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Jurassic  Park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1993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a77"/>
                </a:solidFill>
                <a:latin typeface="Tahoma"/>
              </a:rPr>
              <a:t>A park where a rich man keeps dinosaurs, some of whom, the  meat-eating ones, hunted children when hit by a storm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2916360" cy="4392360"/>
          </a:xfrm>
          <a:prstGeom prst="rect">
            <a:avLst/>
          </a:prstGeom>
          <a:ln w="0">
            <a:noFill/>
          </a:ln>
        </p:spPr>
      </p:pic>
      <p:pic>
        <p:nvPicPr>
          <p:cNvPr id="857" name="" descr=""/>
          <p:cNvPicPr/>
          <p:nvPr/>
        </p:nvPicPr>
        <p:blipFill>
          <a:blip r:embed="rId2"/>
          <a:stretch/>
        </p:blipFill>
        <p:spPr>
          <a:xfrm>
            <a:off x="3564000" y="333360"/>
            <a:ext cx="4968720" cy="3306600"/>
          </a:xfrm>
          <a:prstGeom prst="rect">
            <a:avLst/>
          </a:prstGeom>
          <a:ln w="0">
            <a:noFill/>
          </a:ln>
        </p:spPr>
      </p:pic>
      <p:pic>
        <p:nvPicPr>
          <p:cNvPr id="858" name="" descr=""/>
          <p:cNvPicPr/>
          <p:nvPr/>
        </p:nvPicPr>
        <p:blipFill>
          <a:blip r:embed="rId3"/>
          <a:stretch/>
        </p:blipFill>
        <p:spPr>
          <a:xfrm>
            <a:off x="3492360" y="3789360"/>
            <a:ext cx="504036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/>
          </p:nvPr>
        </p:nvSpPr>
        <p:spPr>
          <a:xfrm>
            <a:off x="395280" y="549360"/>
            <a:ext cx="81374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3      Schindler’s List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1998      Saving Private Ryan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The cruelty of wa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ahoma"/>
              </a:rPr>
              <a:t>Love and peace will win ov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1" dur="2000"/>
                                        <p:tgtEl>
                                          <p:spTgt spid="8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8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1" dur="2000"/>
                                        <p:tgtEl>
                                          <p:spTgt spid="8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6" dur="2000"/>
                                        <p:tgtEl>
                                          <p:spTgt spid="8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Activitie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394920" y="1412640"/>
            <a:ext cx="38876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is h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do you think of him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1100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secret of his succe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1"/>
          <a:stretch/>
        </p:blipFill>
        <p:spPr>
          <a:xfrm>
            <a:off x="4649760" y="1847880"/>
            <a:ext cx="4037040" cy="38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mph" presetID="2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2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3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4" dur="500" autoRev="1" fill="hold"/>
                                        <p:tgtEl>
                                          <p:spTgt spid="8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8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09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0)"/>
                                      </p:to>
                                    </p:set>
                                    <p:set>
                                      <p:cBhvr>
                                        <p:cTn id="210" dur="500" fill="hold"/>
                                        <p:tgtEl>
                                          <p:spTgt spid="8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/>
          </p:nvPr>
        </p:nvSpPr>
        <p:spPr>
          <a:xfrm>
            <a:off x="9144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A______ director, was born in 1946. When still a young boy, he started m_____ short films. At the age of 12, he made his first real films, using actors instead of toys. He wrote the s____ for the film himself. When he was 13, he won a p____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America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r______ why he didn’t realize his dream to go to the Academy was that he did badly in his studies. After studying English, he got a job at a film studio where he w____ on a short film which won him a job as the youngest d______ in the world. Then his c_____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/>
          </p:nvPr>
        </p:nvSpPr>
        <p:spPr>
          <a:xfrm>
            <a:off x="468360" y="1196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teven Spielberg, the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amous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American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irector, was born in 1946. When still a young boy, he started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making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short films. At the age of 12, he made his first real films, using actors instead of toys. He wrote 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scripts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the film himself. When he was 13, he won a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prize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for a short film. He made a film called “Firelight”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reason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why he didn’t realize his dream to go to the Academy was that he did badly in his studies. After studying English, he got a job at a film studio where he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worked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on a short film which won him a job as the youngest </a:t>
            </a:r>
            <a:r>
              <a:rPr b="0" lang="en-US" sz="2800" spc="-1" strike="noStrike" u="sng">
                <a:solidFill>
                  <a:srgbClr val="ffb800"/>
                </a:solidFill>
                <a:uFillTx/>
                <a:latin typeface="Comic Sans MS"/>
              </a:rPr>
              <a:t>directo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in the world. Then his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Comic Sans MS"/>
              </a:rPr>
              <a:t>career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took off.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title"/>
          </p:nvPr>
        </p:nvSpPr>
        <p:spPr>
          <a:xfrm>
            <a:off x="3240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/>
          </p:nvPr>
        </p:nvSpPr>
        <p:spPr>
          <a:xfrm>
            <a:off x="324000" y="188640"/>
            <a:ext cx="842472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b________. Many people who saw the film were afraid to swim in the sea when they remembered the s______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c____ from o____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h_____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c_____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are h______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o____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3" name="" descr=""/>
          <p:cNvPicPr/>
          <p:nvPr/>
        </p:nvPicPr>
        <p:blipFill>
          <a:blip r:embed="rId2"/>
          <a:stretch/>
        </p:blipFill>
        <p:spPr>
          <a:xfrm>
            <a:off x="900000" y="620640"/>
            <a:ext cx="7201080" cy="5688000"/>
          </a:xfrm>
          <a:prstGeom prst="rect">
            <a:avLst/>
          </a:prstGeom>
          <a:ln w="0">
            <a:noFill/>
          </a:ln>
        </p:spPr>
      </p:pic>
      <p:sp>
        <p:nvSpPr>
          <p:cNvPr id="834" name=""/>
          <p:cNvSpPr/>
          <p:nvPr/>
        </p:nvSpPr>
        <p:spPr>
          <a:xfrm>
            <a:off x="1476360" y="69228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happened before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476360" y="5445000"/>
            <a:ext cx="648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will happen after this scene?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11680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3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3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/>
          </p:nvPr>
        </p:nvSpPr>
        <p:spPr>
          <a:xfrm>
            <a:off x="-360" y="189000"/>
            <a:ext cx="838836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aw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a rea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blockbus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Many people who saw the film were afraid to swim in the sea when they remembered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scen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n which people were eaten by the shark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E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is about a young boy called Elliott helping a small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eature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from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uter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space to find his way back home. The most exciting in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Jurassic park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was when the children ar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unted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by meat-eating dinosaurs. </a:t>
            </a:r>
            <a:r>
              <a:rPr b="0" i="1" lang="zh-CN" sz="2800" spc="-1" strike="noStrike">
                <a:solidFill>
                  <a:srgbClr val="000000"/>
                </a:solidFill>
                <a:latin typeface="Comic Sans MS"/>
              </a:rPr>
              <a:t>Schindle’s list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are about t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cruelty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of war over which love and peace wi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teven Spielberg is 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highly</a:t>
            </a:r>
            <a:r>
              <a:rPr b="0" lang="zh-CN" sz="2800" spc="-1" strike="noStrike">
                <a:solidFill>
                  <a:srgbClr val="ff0000"/>
                </a:solidFill>
                <a:latin typeface="Comic Sans MS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successful. And he 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Comic Sans MS"/>
              </a:rPr>
              <a:t>owes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his success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and happiness to his family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was Spielberg’s dream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</a:rPr>
              <a:t>What have you learnt from reading about Spielberg?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activities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6" dur="2000" fill="hold"/>
                                        <p:tgtEl>
                                          <p:spTgt spid="8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indefinite"/>
                                        <p:tgtEl>
                                          <p:spTgt spid="8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Dilige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Little chops can finally fell a great tre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William Shakespeare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Final success often comes in the last five minutes.                 -------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The difference between gifts and diligence cannot be told. It will remain unknown forever.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-Beethove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My success does not lie in natural gift but in faithful devotion and practice.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                                  </a:t>
            </a:r>
            <a:r>
              <a:rPr b="0" lang="zh-CN" sz="3200" spc="-1" strike="noStrike">
                <a:solidFill>
                  <a:srgbClr val="0033cc"/>
                </a:solidFill>
                <a:latin typeface="Arial"/>
              </a:rPr>
              <a:t>------Mei Lanfang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540640" cy="70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572"/>
                </a:solidFill>
                <a:latin typeface="Arial"/>
              </a:rPr>
              <a:t>perseverance</a:t>
            </a:r>
            <a:endParaRPr b="0" lang="en-US" sz="40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e secret of success is constancy of purpose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Chapli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Without perseverance nobody can succeed.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                                              </a:t>
            </a: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------  Isaac Newton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A person should have a strong will, or he will achieve nothing.                 ------Madam Curia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Life is like an ocean: Only the strong-willed can reach the other shore.        ------Karl Marx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uccess is the combination of hope and struggle.                             ------English proverb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/>
          </p:nvPr>
        </p:nvSpPr>
        <p:spPr>
          <a:xfrm>
            <a:off x="539640" y="1197000"/>
            <a:ext cx="79200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a reporter from CCTV. You are  going to have an interview with Steven Spielberg. Mak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mic Sans MS"/>
              </a:rPr>
              <a:t>You are going to invite Steven Spielberg to your chatroom. Have a dialogue with hi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Say something about a directo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24000" y="2060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caree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is fil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11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key to his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/>
          </p:nvPr>
        </p:nvSpPr>
        <p:spPr>
          <a:xfrm>
            <a:off x="179280" y="2157480"/>
            <a:ext cx="8640720" cy="30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Suppose you are going to be a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film director. Say something 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about your future film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 rot="388200">
            <a:off x="-1765440" y="476280"/>
            <a:ext cx="9685440" cy="560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Thanks for 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         </a:t>
            </a:r>
            <a:r>
              <a:rPr b="0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CommercialScript BT"/>
              </a:rPr>
              <a:t>joining us!</a:t>
            </a:r>
            <a:endParaRPr b="0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CommercialScript BT"/>
              <a:ea typeface="CommercialScript BT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884" name=""/>
          <p:cNvSpPr/>
          <p:nvPr/>
        </p:nvSpPr>
        <p:spPr>
          <a:xfrm>
            <a:off x="1763640" y="5373720"/>
            <a:ext cx="705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Tahoma"/>
              </a:rPr>
              <a:t>武进区湟里高级中学高一备课组   蒋秋霞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6" dur="180283" fill="hold"/>
                                        <p:tgtEl>
                                          <p:spTgt spid="8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0" y="189000"/>
            <a:ext cx="8569440" cy="30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 </a:t>
            </a:r>
            <a:r>
              <a:rPr b="1" lang="en-US" sz="4000" spc="1" strike="noStrike">
                <a:ln w="12600">
                  <a:solidFill>
                    <a:srgbClr val="00ffff"/>
                  </a:solidFill>
                  <a:miter/>
                </a:ln>
                <a:solidFill>
                  <a:srgbClr val="ffffff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Steven Spielberg</a:t>
            </a:r>
            <a:endParaRPr b="1" lang="en-US" sz="4000" spc="1" strike="noStrike">
              <a:ln w="12600">
                <a:solidFill>
                  <a:srgbClr val="00ffff"/>
                </a:solidFill>
                <a:miter/>
              </a:ln>
              <a:solidFill>
                <a:srgbClr val="ffffff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1547640" y="3284640"/>
            <a:ext cx="2219400" cy="2952720"/>
          </a:xfrm>
          <a:prstGeom prst="rect">
            <a:avLst/>
          </a:prstGeom>
          <a:ln w="0">
            <a:noFill/>
          </a:ln>
        </p:spPr>
      </p:pic>
      <p:pic>
        <p:nvPicPr>
          <p:cNvPr id="838" name="" descr=""/>
          <p:cNvPicPr/>
          <p:nvPr/>
        </p:nvPicPr>
        <p:blipFill>
          <a:blip r:embed="rId2"/>
          <a:stretch/>
        </p:blipFill>
        <p:spPr>
          <a:xfrm>
            <a:off x="5292720" y="3213000"/>
            <a:ext cx="2128680" cy="2935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7" dur="2000" fill="hold"/>
                                        <p:tgtEl>
                                          <p:spTgt spid="8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8" dur="20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/>
          </p:nvPr>
        </p:nvSpPr>
        <p:spPr>
          <a:xfrm>
            <a:off x="0" y="1844280"/>
            <a:ext cx="9144000" cy="45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childhood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His youth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Several of his successful film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The secret of his success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tivit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8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8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8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/>
          </p:nvPr>
        </p:nvSpPr>
        <p:spPr>
          <a:xfrm>
            <a:off x="0" y="-360"/>
            <a:ext cx="9144000" cy="591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46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born in American</a:t>
            </a:r>
            <a:r>
              <a:rPr b="0" lang="zh-CN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8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Made his first real film using real acto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59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zh-CN" sz="3200" spc="-1" strike="noStrike">
                <a:solidFill>
                  <a:srgbClr val="ffffff"/>
                </a:solidFill>
                <a:latin typeface="Tahoma"/>
              </a:rPr>
              <a:t>Won a prize for a short fil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1962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zh-CN" sz="3600" spc="-1" strike="noStrike">
                <a:solidFill>
                  <a:srgbClr val="ffffff"/>
                </a:solidFill>
                <a:latin typeface="Tahoma"/>
              </a:rPr>
              <a:t>firelight”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0" dur="500"/>
                                        <p:tgtEl>
                                          <p:spTgt spid="8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8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8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8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/>
          </p:nvPr>
        </p:nvSpPr>
        <p:spPr>
          <a:xfrm>
            <a:off x="0" y="1197000"/>
            <a:ext cx="9144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couldn’t he go to the Academy as a young ma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did he study the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job did he get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ich won him the youngest director in the world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His youth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9" dur="2000"/>
                                        <p:tgtEl>
                                          <p:spTgt spid="8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9" dur="2000"/>
                                        <p:tgtEl>
                                          <p:spTgt spid="8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/>
          </p:nvPr>
        </p:nvSpPr>
        <p:spPr>
          <a:xfrm>
            <a:off x="755280" y="1628280"/>
            <a:ext cx="676908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Name some of his most successful films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Successful film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846" name="" descr=""/>
          <p:cNvPicPr/>
          <p:nvPr/>
        </p:nvPicPr>
        <p:blipFill>
          <a:blip r:embed="rId1"/>
          <a:stretch/>
        </p:blipFill>
        <p:spPr>
          <a:xfrm>
            <a:off x="971640" y="1268280"/>
            <a:ext cx="631188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4" dur="130800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846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846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9" dur="1" fill="hold"/>
                                        <p:tgtEl>
                                          <p:spTgt spid="8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300" spc="-1" strike="noStrike">
                <a:solidFill>
                  <a:srgbClr val="ffffcc"/>
                </a:solidFill>
                <a:latin typeface="Tahoma"/>
              </a:rPr>
              <a:t>Jaws</a:t>
            </a:r>
            <a:endParaRPr b="0" lang="en-US" sz="63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1975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real blockbuster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ahoma"/>
              </a:rPr>
              <a:t>A white shark attack swimmers who were spending their holidays in a village by the sea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2T10:12:39Z</dcterms:created>
  <dc:creator> </dc:creator>
  <dc:description/>
  <dc:language>en-US</dc:language>
  <cp:lastModifiedBy> </cp:lastModifiedBy>
  <dcterms:modified xsi:type="dcterms:W3CDTF">2003-10-14T02:35:08Z</dcterms:modified>
  <cp:revision>25</cp:revision>
  <dc:subject/>
  <dc:title>幻灯片 1</dc:title>
</cp:coreProperties>
</file>