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525-F490-48E8-9627-9BC88679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3A8-3F5D-4C05-B660-7FF2A9E0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31C24-2321-489C-B4E6-E14B19DC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0AF0C-8BF1-4C46-9F8C-FDE60351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B385C-F886-4FC4-A7B9-2D301B40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15543-E906-47AC-92B3-CA2177B3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3A60A-9681-48F1-BD31-83C2AC01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5A43D-C214-42A4-A9A2-43E3811C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71461-3E72-4C57-8329-07599EF1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85763-5407-48B1-9DAC-334680FB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32222-5F68-488F-B402-E268BA53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BA0BC-8364-4E3C-914D-1D5022DC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FEE-6292-4D6D-8958-40B71CA6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04A07-0897-430D-82B4-3FDBC70E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611E9-30A4-4E94-8367-4836192E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5E78C-0BDF-4B28-A36F-B7D70C64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414B9-FEF8-4CB8-B50B-41F2D403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8F583-4FFD-4064-8281-B41A8290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2D7ED-AFA0-4116-AF30-8B02191A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BF3A6-B667-43B6-BD5F-4F372A5E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FA3EE-15C5-4787-AFA5-1FFACA03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8F145-4564-47F0-BF29-D8CF29B3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FB506-30EC-4CD0-830C-18420DBD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3057-4E5C-418F-9987-0ED07165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79762-AF8B-4BE1-8323-1DD547D6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36BA9-BB5F-49C2-9753-57BA8984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DCCED-5130-4C05-9F25-F3700D8C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77E2B-A25A-479C-A8EB-69E67265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14E93-E806-49CD-907C-5062CAA0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69E7C-8B79-4B2B-82C9-1B7D50F6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94E93-9537-41AB-AB00-037E3AF1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4A787-258D-4CBB-BD1A-D4700FAF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D29B8-7C2F-4F39-A3CC-D3E88B4A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8DDA1-0D3E-4F6B-8E52-D31BCBD3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C6AA-B88A-41FC-872D-E5B5C2A8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0F81E-7002-40D2-98BC-14C54164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079C6-671C-4E8E-9E8B-91A890E0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D4CEE-73CF-4A6E-AA87-A2255ADC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606F5-D4E7-41AC-9F09-2677AE5C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C8606-FA57-4EED-A5A5-15F99DAC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B6F46-E1DC-4FAB-9A6F-E1DB9996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FD5CD-B494-47A8-B89C-20096EEA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4AB38-1B85-4B4D-8651-4ADFB765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FC628-12E3-4F36-838B-3E8854C7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F2574-684D-4C93-A854-3FB54D8E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4C00-CEE2-4593-A667-0B60B7E0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809C4-65D2-4F7E-833D-DBB3DB8E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145DB-1AE9-44B7-A7D0-98F2C352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D4476-ABF8-4CBE-A599-AEC40CDA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9AEA0-56D4-47CE-9C5D-E39F3BE7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915A8-76E8-4DA4-AF13-3A85FFA3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24F04-46CC-4761-BD32-CF1F41CC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02B4F-41B5-44BE-A081-F4C7DABA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F767AA-57EF-4816-BFA2-1E5DE791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C48221-E46B-4FA3-B0C4-FB1A326D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5BB55A-CD93-46F7-83FD-34285369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5C9E-8DE1-4437-A1B5-52CBFE65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49245-4A5B-4671-B930-20E84466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233C9-96D1-40B6-B037-3BFF8507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F0E476-F7EB-4CCE-9EAB-95DD8C5A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ACB29-3E2B-435A-BAF1-2E390CE8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EFC13-86AF-4DAF-A86A-378279F6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ACC72C-969E-4D85-8BD1-4BA452D6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D0777-FBEC-42A5-8B48-36556BAE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7E6461-B403-4B77-860F-D2B7E636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EEA927-5E12-48B4-8F54-E0F7D0B4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7634CB-8E7F-4B91-A106-96AA5D2F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0F2D-CC31-4791-998A-758B4C1C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A5493B-496E-411A-9D3E-3144CE31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DAE271-ED40-42B0-A781-DE24A669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B8C086-2B2D-4EF0-87F0-ACBDDA2B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6C919-FAED-4075-A268-AE158069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913D3-98E9-4514-B8F1-E8D3ABA0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6FD03E-4708-4121-A0DF-91D6744B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7121F7-23B4-4C76-BF5A-52DDB00E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CAA6F6-0C3B-4BAC-ADCF-257BE55A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563724-5D58-4AF5-AE7F-95A9E0D2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499F92-6D7A-4402-9F9D-4E01B814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E93D-E686-4BBF-94C5-2954CE39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B90ECA-C195-4CD8-A0CD-CA6A443B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3E2F28-A8BA-418F-8B8B-2B0D8750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145BB6-B171-4004-AA4C-9936DDF3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D06394-D0F5-473A-B192-CFE0BABD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13AAB2-2318-4721-9D93-D2F1D291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9491D1-C4DA-4D86-95A6-E3A606C5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931AC5-B4DD-418A-A98D-CAD98AC2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6D8C15-72F5-4C78-8932-2EF31932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FAF377-7CFF-4187-A6EE-F9FB69E2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68DAE0-8DD9-4B80-9546-C6ECBC89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1915-F7D6-4545-9441-21574941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AF888C-5CD5-41DC-B3E8-1F0F9C0F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220B6F-4590-40AD-887C-987044C6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E0DBE9-5C92-47FE-B447-D669DFAF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D892F8-5252-4275-BCB6-D44C1B90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1E880A-107D-4669-978E-B524A7D9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B2AAD7-E04F-4497-BD64-554419FF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AEA7E6-62D8-40DE-912E-79D6813A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6DBB04-5DA8-45F0-8B03-77B11D9E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61BFD8-18D2-4569-9086-F1562042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3F512E-5543-4810-B317-682720E1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8F6F-FC87-4CAE-87AA-52E6236B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79ED0C-754F-40DD-87DB-05290AE2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8EE45C-AD59-4A39-B756-4A58C8FB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AB6D32-D0CE-43C9-ABF6-2693CFAE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133F-29F2-497B-A9D6-60A8D7E1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801A-CD9E-4A53-B077-7F915D91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9090-14ED-4E2C-98F8-4AF4DF55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7EE0-7092-4F1D-B920-62480523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AD7F-B3F0-4008-89CC-FA91121E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F8B2-59F8-4E7F-8764-260FC74B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DB923-B773-476D-9F73-5DEEEC05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4B04B-E3AC-4BF4-B13F-0E2000C7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A6FF0-6A99-4DCA-88E1-7DB18EB9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A2F3B-73DA-42EF-AB1A-8F6DCBD8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BB20D-48E9-46A6-B3BD-73D71EA7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275B-9DEE-4BE3-9CD1-B7C9C719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B533F-1F31-4F48-AB29-5C576B17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13EC0-D383-4BE0-9C2F-C66684F1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6C17A-5CD1-4E20-9477-ECAFDB91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DF4CC-5863-4D6A-9DDA-4605F42D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17C9B-6FD3-42AC-8074-E36AB84F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26650-496A-42D3-9BEA-7155922E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2E3C6-4FE5-40F9-8584-07794603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443A8-2B7C-4173-8998-DA14DC0B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8D02A-FD5B-41A3-8629-52F79A4A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E5FB3-1523-4B63-BA16-A8F31AD1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F8D-2D62-4261-B10E-8C9E6507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CED64-7EF2-41A1-BBDF-8AEE533F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828BE-F8E8-4B42-BA81-300BBF18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BC5CB-D0AC-46C2-8D16-C8B1A6FC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9338E-C9CF-4591-B8D7-A7D7F56B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297F0-B145-4B8D-8324-76D585C3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3B04C-D704-4AB7-BC55-ECD30A3A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049B1-0338-49D7-8CE8-8B6B8192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97CDD-1539-4946-8BD3-05AB523C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4B603-C135-4C1D-B550-69952FA1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3DC33-0DEE-4AFF-B0FC-C1F32944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095-9579-41BA-A63A-E9CF73FC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DA798-6675-4337-96F6-FE25FC3B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36A87-5F50-4FB3-BA68-B95C1662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C3CDC-0204-409A-8F23-0FA7DE07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CE9AB-0AAA-422C-8F07-61BEDF70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AAE34-37D5-48D9-96D3-6F10AA9C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76194-7B6F-4694-A3E6-1A72A9B5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AB23C-8FE8-4033-BEB9-85FAA918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F8DC1-ACB0-4947-B9B8-86A96532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08BC4-5D97-44A4-A959-BAAE28B4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D054C-6DD0-4349-8E93-67E81AA9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3A4-5A8E-4193-8EE4-A08BA613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DAEED-EBB3-49E4-A56E-6A1ACAA0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A79FE8-8ACF-4C1C-9F3B-D470D5E6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9AE44E-4C85-4913-8AB3-9AD989A1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4552C6-1ED5-47A6-84F7-76CEE217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460BC1-C0E5-4EC4-B424-076998FA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5D36D3-9A74-44E1-9AF5-0860420C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6B73DF-EED3-4CF7-82C8-E4020249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15BC35-F2C0-4419-8566-DC6D062A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E480C-D84C-4E6F-A77F-4760E8E5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451600-2808-4A72-BD9C-76456D69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9426-B405-435E-A86A-29B153A1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A8AB18-D3F5-47F5-95A2-6F3427B5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38461-0E34-43D3-9EE2-1900ED17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3D5535-6AE1-48F6-993C-79C6DC41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47A3E4-8938-4A2D-BF62-44675B62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3173EA-4CC0-41CC-9C91-30EDDBA6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1D53EF-19C8-4073-84FE-21E48EF9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C6914C-A079-4908-8B5A-7B8FAD44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D19FA0-5AC8-4072-98F0-734DB01E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7C44E4-92AF-4855-8477-A482633E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EA22C5-B4F8-4246-ADE1-A189F17C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4F3-46D7-4169-8FAD-F0036365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E02D90-6773-4C21-B45D-73B607C5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54AA18-AE6D-4B05-80B8-9146D833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EE7DCB-7320-4753-AD15-64276814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8C4E88-9205-4A1E-A065-7292D1E2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3BDCF4-0DED-4BB0-9182-E9D93269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6502D-852A-43BF-8DA0-64502547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4EBFA-E38C-4551-ADBB-5E1B43E6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CEF95-50E9-4FB8-9E01-82F92CE4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31DD0-9A41-4932-A9D3-70DF66D3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ADE4E-8B61-4EF1-B9EC-34B06C96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5FF2-456D-4F0D-9CC5-A0E40FF3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2F5A1-798A-490B-A713-03ABFE17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92672-7341-4FD5-B6C8-D42577EA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080A1-55FA-43BC-A173-AE32CCC6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01449-35E9-47DD-B6FE-AA297370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57ADC-EF40-485A-8202-9D1FDB24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37C54-4576-4D0B-8DA4-16314B61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0276D-EBDC-4B21-B559-9B339A58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F36F9-8BD1-4FFD-B8FC-CDAAE9D1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7C57E-14B5-4A48-BEFB-F7A78B6D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B4CEE-D31E-4E5F-A8BB-C030D14A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1AA7-5853-4579-A067-C253CBA486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8DF4-88E4-46DF-A59B-FD1908E6051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8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9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9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49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3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9741-CFA1-4037-81C6-02F1310B00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9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BDF5-9099-48C9-A509-5562901394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3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3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3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FEC9-F034-42D8-ACF2-D5B6E43144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dt" idx="4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4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sldNum" idx="4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8392-5993-428B-A0D5-8C4EC7326B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738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08E2-F687-4C5C-82F7-8B0FC604A91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785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91" name="PlaceHolder 1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1D98-A5F4-4315-9FD7-8DFD534728E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6109-7ABE-4B8A-8AFC-A8453B92BD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FA51-AD80-495C-9AC1-25BE139CAB2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EB5D-0C4B-42DA-8A75-1A36B828D18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94B1-5AC2-4F3A-ADDE-C7044FED75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9CB4-3337-46B9-9CC6-CBC29E12EE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ECAC-B771-4136-AA36-9E5853D6A00C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2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8024-9B73-4B0A-9BBE-16049472B56C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914C-951D-4F61-86BB-27260626092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2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826920" y="333360"/>
            <a:ext cx="777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c5900"/>
                </a:solidFill>
                <a:latin typeface="华文彩云"/>
                <a:ea typeface="华文彩云"/>
              </a:rPr>
              <a:t>Welcome to join us!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3405240" cy="422100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679320" y="0"/>
            <a:ext cx="3275280" cy="429264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1116000" y="4797360"/>
            <a:ext cx="63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9640" y="4292640"/>
            <a:ext cx="835344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ahoma"/>
              </a:rPr>
              <a:t>198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ahoma"/>
              </a:rPr>
              <a:t>A young boy called Elliott who made friends with a creature from outer space and helped him find a way back home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392720" cy="360036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5219640" y="105264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427640" y="692280"/>
            <a:ext cx="424800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Jurassic  Park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1993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A park where a rich man keeps dinosaurs, some of whom, the  meat-eating ones, hunted children when hit by a stor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916360" cy="439236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2"/>
          <a:stretch/>
        </p:blipFill>
        <p:spPr>
          <a:xfrm>
            <a:off x="3564000" y="333360"/>
            <a:ext cx="4968720" cy="33066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3"/>
          <a:stretch/>
        </p:blipFill>
        <p:spPr>
          <a:xfrm>
            <a:off x="3492360" y="3789360"/>
            <a:ext cx="5040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1993      Schindler’s Lis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1998      Saving Private Rya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The cruelty of w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Love and peace will win o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ctiviti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388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o is h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do you think of hi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ecret of his succ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4649760" y="1847880"/>
            <a:ext cx="403704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500" autoRev="1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3" dur="500" autoRev="1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4" dur="500" autoRev="1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9144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n Spielberg, th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A______ director, was born in 1946. When still a young boy, he started m_____ short films. At the age of 12, he made his first real films, using actors instead of toys. He wrote the s____ for the film himself. When he was 13, he won a p____ for a short film. He made a film called “Firelight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______ why he didn’t realize his dream to go to the Academy was that he did badly in his studies. After studying English, he got a job at a film studio where he w____ on a short film which won him a job as the youngest d______ in the world. Then his c_____ took off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n Spielberg, th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merica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rector, was born in 1946. When still a young boy, he start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mak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ort films. At the age of 12, he made his first real films, using actors instead of toys. He wrote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crip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the film himself. When he was 13, he won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priz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a short film. He made a film called “Firelight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______ why he didn’t realize his dream to go to the Academy was that he did badly in his studies. After studying English, he got a job at a film studio where he w____ on a short film which won him a job as the youngest d______ in the world. Then his c_____ took off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n Spielberg, th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</a:t>
            </a:r>
            <a:r>
              <a:rPr b="0" lang="en-US" sz="2800" spc="-1" strike="noStrike" u="sng">
                <a:solidFill>
                  <a:srgbClr val="ffb800"/>
                </a:solidFill>
                <a:uFillTx/>
                <a:latin typeface="Comic Sans MS"/>
              </a:rPr>
              <a:t>Americ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rector, was born in 1946. When still a young boy, he start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mak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ort films. At the age of 12, he made his first real films, using actors instead of toys. He wrote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crip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the film himself. When he was 13, he won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priz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a short film. He made a film called “Firelight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reas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y he didn’t realize his dream to go to the Academy was that he did badly in his studies. After studying English, he got a job at a film studio where 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ork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a short film which won him a job as the youngest </a:t>
            </a:r>
            <a:r>
              <a:rPr b="0" lang="en-US" sz="2800" spc="-1" strike="noStrike" u="sng">
                <a:solidFill>
                  <a:srgbClr val="ffb800"/>
                </a:solidFill>
                <a:uFillTx/>
                <a:latin typeface="Comic Sans MS"/>
              </a:rPr>
              <a:t>direc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the world. Then h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care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ok off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aw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a real b________. Many people who saw the film were afraid to swim in the sea when they remembered the s______ in which people were eaten by the shark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s about a young boy called Elliott helping a small c____ from o____ space to find his way back home. The most exciting in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urassic par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when the children are h_____ by meat-eating dinosaurs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Schindle’s lis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are about the c_____ of war over which love and peace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teven Spielberg are h______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uccessful. And he o____ his success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nd happiness to his fam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388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aw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a rea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blockbus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Many people who saw the film were afraid to swim in the sea when they remembered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scen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n which people were eaten by the shark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s about a young boy called Elliott helping a smal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eatur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ou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space to find his way back home. The most exciting in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urassic par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when the children ar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hunted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by meat-eating dinosaurs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Schindle’s lis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are about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uelty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of war over which love and peace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teven Spielberg are h______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uccessful. And he o____ his success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nd happiness to his fam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201080" cy="568800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1476360" y="692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happened before this scene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476360" y="544500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ill happen after this scene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680" fill="hold"/>
                                        <p:tgtEl>
                                          <p:spTgt spid="8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3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3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388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aw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a rea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blockbus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Many people who saw the film were afraid to swim in the sea when they remembered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scen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n which people were eaten by the shark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s about a young boy called Elliott helping a smal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eatur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ou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space to find his way back home. The most exciting in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urassic par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when the children ar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hunted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by meat-eating dinosaurs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Schindle’s lis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are about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uelty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of war over which love and peace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teven Spielberg is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highly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uccessful. And 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owe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his success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nd happiness to his fam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was Spielberg’s dream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have you learnt from reading about Spielber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ctiviti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indefinite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406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Diligence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Little chops can finally fell a great tre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William Shakespea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Final success often comes in the last five minutes.                 -------Isaac Newt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 difference between gifts and diligence cannot be told. It will remain unknown forever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-Beethove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y success does not lie in natural gift but in faithful devotion and practice.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Mei Lanfa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perseverance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secret of success is constancy of purpos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-----Chapli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ithout perseverance nobody can succeed.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-----  Isaac Newt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 person should have a strong will, or he will achieve nothing.                 ------Madam Curi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ife is like an ocean: Only the strong-willed can reach the other shore.        ------Karl Marx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uccess is the combination of hope and struggle.                             ------English proverb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You are a reporter from CCTV. You are  going to have an interview with Steven Spielberg. Make a dialogue with hi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You are going to invite Steven Spielberg to your chatroom. Have a dialogue with hi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ay something about a dir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care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 to his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/>
          </p:nvPr>
        </p:nvSpPr>
        <p:spPr>
          <a:xfrm>
            <a:off x="179280" y="2157480"/>
            <a:ext cx="864072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uppose you are going to be a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ilm director. Say something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bout your future fil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 txBox="1"/>
          <p:nvPr/>
        </p:nvSpPr>
        <p:spPr>
          <a:xfrm rot="388200">
            <a:off x="-1765440" y="476280"/>
            <a:ext cx="9685440" cy="560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mercialScript BT"/>
              </a:rPr>
              <a:t>Thanks for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mercialScript BT"/>
              <a:ea typeface="CommercialScript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mercialScript BT"/>
              </a:rPr>
              <a:t>        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mercialScript BT"/>
              </a:rPr>
              <a:t>joining us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mercialScript BT"/>
              <a:ea typeface="CommercialScript BT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1763640" y="53737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ahoma"/>
              </a:rPr>
              <a:t>武进区湟里高级中学高一备课组   蒋秋霞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80283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0" y="189000"/>
            <a:ext cx="85694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 </a:t>
            </a:r>
            <a:r>
              <a:rPr b="1" lang="en-US" sz="40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Steven Spielberg</a:t>
            </a:r>
            <a:endParaRPr b="1" lang="en-US" sz="4000" spc="1" strike="noStrike">
              <a:ln w="12600">
                <a:solidFill>
                  <a:srgbClr val="00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2219400" cy="295272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5292720" y="3213000"/>
            <a:ext cx="2128680" cy="29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0" y="1844280"/>
            <a:ext cx="914400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is childhood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is youth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Several of his successful film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secret of his succes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9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4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born in American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5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Made his first real film using real 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5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Won a prize for a short fil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6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firelight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8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couldn’t he go to the Academy as a young m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id he study th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job did he ge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ich won him the youngest director in the worl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is yout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755280" y="1628280"/>
            <a:ext cx="67690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ame some of his most successful film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uccessful fil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63118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30800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9" dur="1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ffcc"/>
                </a:solidFill>
                <a:latin typeface="Tahoma"/>
              </a:rPr>
              <a:t>Jaw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1975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A real blockbust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A white shark attack swimmers who were spending their holidays in a village by the se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10:12:39Z</dcterms:created>
  <dc:creator> </dc:creator>
  <dc:description/>
  <dc:language>en-US</dc:language>
  <cp:lastModifiedBy> </cp:lastModifiedBy>
  <dcterms:modified xsi:type="dcterms:W3CDTF">2003-10-14T02:35:08Z</dcterms:modified>
  <cp:revision>25</cp:revision>
  <dc:subject/>
  <dc:title>幻灯片 1</dc:title>
</cp:coreProperties>
</file>