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F2F-5A4B-45EC-914B-C0EA99F0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1B5-58F9-464E-ABED-CE85D7F3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B58-B545-40E3-8924-33F1397D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06F-CD71-451B-A6AA-361EB381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13E-6522-44FA-9957-CD93ED85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626-2074-4C80-9616-CBB0444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ECB-E9FE-46FF-8538-F82F127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0E6-6CD4-4193-BFAC-A29F54EB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470-5578-4501-BFF8-F34823D3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2AE-D5D1-4311-8AE0-6496C904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F61-F977-41E8-B2B6-0B83DBF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B01-DA5A-4F0D-A093-AA8BCA5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3B9-151D-4B69-965A-DBE1251D11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3840" y="144792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31200" y="5425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者：老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3400" y="762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九年义务教育小学九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5105520" y="685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46483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3818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10800" y="9224"/>
                </a:moveTo>
                <a:lnTo>
                  <a:pt x="13376" y="11835"/>
                </a:ln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lnTo>
                  <a:pt x="17763" y="16187"/>
                </a:lnTo>
                <a:lnTo>
                  <a:pt x="16109" y="16187"/>
                </a:lnTo>
                <a:lnTo>
                  <a:pt x="16109" y="23377"/>
                </a:lnTo>
                <a:lnTo>
                  <a:pt x="5491" y="23377"/>
                </a:lnTo>
                <a:lnTo>
                  <a:pt x="5491" y="16187"/>
                </a:lnTo>
                <a:lnTo>
                  <a:pt x="3837" y="16187"/>
                </a:lnTo>
                <a:close/>
              </a:path>
              <a:path fill="darkenLess" w="21600" h="32375">
                <a:moveTo>
                  <a:pt x="13376" y="11835"/>
                </a:move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close/>
              </a:path>
              <a:path fill="darkenLess" w="21600" h="32375">
                <a:moveTo>
                  <a:pt x="9877" y="19686"/>
                </a:moveTo>
                <a:lnTo>
                  <a:pt x="11723" y="19686"/>
                </a:lnTo>
                <a:lnTo>
                  <a:pt x="11723" y="23377"/>
                </a:lnTo>
                <a:lnTo>
                  <a:pt x="16109" y="23377"/>
                </a:lnTo>
                <a:lnTo>
                  <a:pt x="16109" y="16187"/>
                </a:lnTo>
                <a:lnTo>
                  <a:pt x="5491" y="16187"/>
                </a:lnTo>
                <a:lnTo>
                  <a:pt x="5491" y="23377"/>
                </a:lnTo>
                <a:lnTo>
                  <a:pt x="9877" y="233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6094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它要是高兴，能比谁都温柔可亲：用身子蹭你的腿，把脖儿伸出来要求给抓痒。或是在你写作的时候，跳上桌来，在稿纸上踩印几朵小梅花。它还会丰富多腔地叫唤，长短不同，粗细各异，变化多端。在不叫的时候，它还会咕噜咕噜地给自己解闷。这可都凭它的高兴。它若是不高兴啊，无论谁说多少好话，它一声也不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86680" y="59364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温柔可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1880" y="5486400"/>
            <a:ext cx="27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声也不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8240" y="3920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既老实又贪玩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19480" y="15238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贪玩又尽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68040" y="2452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温柔可亲又一声不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576600"/>
            <a:ext cx="450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胆小又勇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16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43880" y="51814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猫的性格实在有些古怪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72200" y="54259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猫1.jpg%20复制" descr=""/>
          <p:cNvPicPr/>
          <p:nvPr/>
        </p:nvPicPr>
        <p:blipFill>
          <a:blip r:embed="rId1"/>
          <a:stretch/>
        </p:blipFill>
        <p:spPr>
          <a:xfrm>
            <a:off x="1922400" y="228600"/>
            <a:ext cx="5235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50840" y="782640"/>
            <a:ext cx="771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见了，绝不会责打它们，它们是那么生气勃勃，天真可爱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6516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948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228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05740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907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猫既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它的性格实在有些古怪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1532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876312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85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古怪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5105520" y="685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8:01:26Z</dcterms:created>
  <dc:creator>lxh</dc:creator>
  <dc:description/>
  <dc:language>en-US</dc:language>
  <cp:lastModifiedBy>heyixiao</cp:lastModifiedBy>
  <dcterms:modified xsi:type="dcterms:W3CDTF">2003-12-04T07:29:36Z</dcterms:modified>
  <cp:revision>78</cp:revision>
  <dc:subject/>
  <dc:title>PowerPoint 演示文稿</dc:title>
</cp:coreProperties>
</file>