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906-C34D-471F-A01D-5C1753F5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CEF-71D6-4588-8712-E75D33D7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E7E-BB34-4DE0-9A22-6E7F079F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038-0CBB-4ECF-AE55-EC14888D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84A9-82C1-4F44-BC20-67639327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5250-F593-4196-BF87-46569854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61B1-DDA4-4918-8E94-60D18443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6D9C-09BD-4F0E-8543-DAC2FDD2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C000-BD1D-4643-870E-75AEAC8E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3C73-25A7-4F93-84F3-08DC0F93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C9DA-8921-44ED-A556-F8EFE557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671-6ED6-48F6-A2CA-7A4DF237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DA8D-07CA-4904-A239-4A6540E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28EC-5002-4953-A388-0C7A64A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0832-B483-4E41-A800-1362DD9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9CEF-1559-49AC-BDD9-869751B7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BF00-E0E7-42F1-AE03-73AC1AD9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8ED-AF84-4E8F-8FB2-06024594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771-180A-49D0-A775-75B8A649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309-73BD-41F7-A380-51A41379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4C9-9542-4C81-B14D-8546AE43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28F-6B75-4A04-9B8D-D5F5044C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E2F-5AE9-4F97-A5C7-0C1FA414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4D2-CCD8-446C-9F58-EC835007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876E-79B3-49E1-A007-B84CA539C96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BB57-286B-42B8-AEAD-C23A897E7EC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16000" y="274284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李  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Unit 23 (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下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)</a:t>
            </a:r>
            <a:br>
              <a:rPr sz="4400"/>
            </a:b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Lesson 91 Mobile ph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Lisa</cp:lastModifiedBy>
  <dcterms:modified xsi:type="dcterms:W3CDTF">2003-06-12T17:11:52Z</dcterms:modified>
  <cp:revision>109</cp:revision>
  <dc:subject/>
  <dc:title>Unit 19 A freedom fighter (continued)</dc:title>
</cp:coreProperties>
</file>