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47B-F613-4788-B34C-DDCB2864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0CE-0332-4298-943B-06110682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2BE-B10D-4929-8549-47310081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3D0-CFC1-4D47-AD7C-7AFDA031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2EE7-F820-4FEF-AFC8-27D4AFBD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DB59-7855-4C76-B08B-3D8E381B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E2B5-80F5-4FAE-9F7C-ABC83331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69D4-B821-4999-ABFE-3C9B4204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FF09-DB20-4DFE-AB50-19E3C65C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8AB3-212F-4724-80D8-D98BDDFA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1B88-8B5D-4C96-B8D7-DEB70646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6D6-8998-4783-A111-2BF68339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8DB7-C9ED-49F8-B2E7-1F57BEB7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43D0-61C6-458D-8C04-849F7AC3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412F-1AEE-415B-8CAC-03A0563E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4701-2253-4A58-83E1-1EE30DCD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5696-D1C8-409A-BFE6-969CEA07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B24-97C8-4E5C-BB01-BEB0CACB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247-D051-4860-A04D-7B34FBD7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AA9-BD45-407B-BA05-67726CF7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0BE-89BE-4765-8342-B03F66CA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395-93D2-4440-AD1D-E68F3259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0ED-C03E-487A-A927-3B74FE2E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15B-502A-4A48-9FCE-272796BC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F9F7-BFCC-43B6-A0AF-9E621399035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D7EF-B0A1-46B8-9A72-EA8092A5FA3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slide" Target="slide42.xm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8.xml"/><Relationship Id="rId3" Type="http://schemas.openxmlformats.org/officeDocument/2006/relationships/slide" Target="slide57.xml"/><Relationship Id="rId4" Type="http://schemas.openxmlformats.org/officeDocument/2006/relationships/slide" Target="slide61.xml"/><Relationship Id="rId5" Type="http://schemas.openxmlformats.org/officeDocument/2006/relationships/slide" Target="slide59.xml"/><Relationship Id="rId6" Type="http://schemas.openxmlformats.org/officeDocument/2006/relationships/slide" Target="slide50.xml"/><Relationship Id="rId7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t the following in correc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7400" y="16761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nokia3210_mainpage_s1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85" name="m3" descr=""/>
          <p:cNvPicPr/>
          <p:nvPr/>
        </p:nvPicPr>
        <p:blipFill>
          <a:blip r:embed="rId2"/>
          <a:stretch/>
        </p:blipFill>
        <p:spPr>
          <a:xfrm>
            <a:off x="1219320" y="289548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86" name="images4" descr=""/>
          <p:cNvPicPr/>
          <p:nvPr/>
        </p:nvPicPr>
        <p:blipFill>
          <a:blip r:embed="rId3"/>
          <a:stretch/>
        </p:blipFill>
        <p:spPr>
          <a:xfrm>
            <a:off x="1219320" y="1676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09680" y="2971800"/>
            <a:ext cx="55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3434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400" y="28191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nokia3210_mainpage_s1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92" name="m3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93" name="images4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33720" y="41148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167652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can take it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wherev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go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657600"/>
            <a:ext cx="3657600" cy="990720"/>
          </a:xfrm>
          <a:prstGeom prst="wedgeRectCallout">
            <a:avLst>
              <a:gd name="adj1" fmla="val 52560"/>
              <a:gd name="adj2" fmla="val -16955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e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19320" y="1676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found people friendly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rever/ 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will find h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/ wher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he may b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it is, I don’t want to see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ic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ay you do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n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n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come here , it rai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还可以引导名词性从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39625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581280"/>
            <a:ext cx="914400" cy="8384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428640" y="3580920"/>
            <a:ext cx="1143000" cy="7621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thing that) he did was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him or her,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wa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one who) you wan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whichever / no matter which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ay you do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You should wear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whichever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dress(any dress that) suits you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Lesson 91 Mobile 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895480" y="2057400"/>
            <a:ext cx="4273560" cy="3733920"/>
            <a:chOff x="2895480" y="2057400"/>
            <a:chExt cx="4273560" cy="3733920"/>
          </a:xfrm>
        </p:grpSpPr>
        <p:pic>
          <p:nvPicPr>
            <p:cNvPr id="150" name="mob,p,%20pic" descr=""/>
            <p:cNvPicPr/>
            <p:nvPr/>
          </p:nvPicPr>
          <p:blipFill>
            <a:blip r:embed="rId1"/>
            <a:stretch/>
          </p:blipFill>
          <p:spPr>
            <a:xfrm>
              <a:off x="5568840" y="4038480"/>
              <a:ext cx="160020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mob,p5" descr=""/>
            <p:cNvPicPr/>
            <p:nvPr/>
          </p:nvPicPr>
          <p:blipFill>
            <a:blip r:embed="rId2"/>
            <a:stretch/>
          </p:blipFill>
          <p:spPr>
            <a:xfrm>
              <a:off x="2901960" y="4038480"/>
              <a:ext cx="160020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m2" descr=""/>
            <p:cNvPicPr/>
            <p:nvPr/>
          </p:nvPicPr>
          <p:blipFill>
            <a:blip r:embed="rId3"/>
            <a:stretch/>
          </p:blipFill>
          <p:spPr>
            <a:xfrm>
              <a:off x="2895480" y="2057400"/>
              <a:ext cx="1622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mob,%20p4" descr=""/>
            <p:cNvPicPr/>
            <p:nvPr/>
          </p:nvPicPr>
          <p:blipFill>
            <a:blip r:embed="rId4"/>
            <a:stretch/>
          </p:blipFill>
          <p:spPr>
            <a:xfrm>
              <a:off x="5568840" y="2057400"/>
              <a:ext cx="160020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主语或宾语从句时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与其它的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-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状语从句时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        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495288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352320" y="2895120"/>
            <a:ext cx="1143000" cy="838800"/>
            <a:chOff x="3352320" y="2895120"/>
            <a:chExt cx="1143000" cy="838800"/>
          </a:xfrm>
        </p:grpSpPr>
        <p:sp>
          <p:nvSpPr>
            <p:cNvPr id="220" name=""/>
            <p:cNvSpPr/>
            <p:nvPr/>
          </p:nvSpPr>
          <p:spPr>
            <a:xfrm flipH="1">
              <a:off x="3429000" y="2895480"/>
              <a:ext cx="914400" cy="83844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352320" y="2895120"/>
              <a:ext cx="1143000" cy="7621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24080" y="32767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 In other words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can walk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0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3733920"/>
            <a:ext cx="3657600" cy="990360"/>
          </a:xfrm>
          <a:prstGeom prst="wedgeRectCallout">
            <a:avLst>
              <a:gd name="adj1" fmla="val 13106"/>
              <a:gd name="adj2" fmla="val -1721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is the same by saying; tha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kind of phone is cordless  --- 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in other word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, it has no cords or wi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3. I want to 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Times New Roman"/>
              </a:rPr>
              <a:t>remind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you that we’ve got a meeting next Monday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 P65 Line 2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3962520"/>
            <a:ext cx="4343400" cy="990360"/>
          </a:xfrm>
          <a:prstGeom prst="wedgeRectCallout">
            <a:avLst>
              <a:gd name="adj1" fmla="val -16666"/>
              <a:gd name="adj2" fmla="val -19262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ell or cause (someone) to re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’ve forgotten his name --- will you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of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66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rite to Mum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sight of the clock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e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a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I was la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One question is how much money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is due 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be paid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 Practic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4114800"/>
            <a:ext cx="4952880" cy="1066680"/>
          </a:xfrm>
          <a:prstGeom prst="wedgeRectCallout">
            <a:avLst>
              <a:gd name="adj1" fmla="val -4388"/>
              <a:gd name="adj2" fmla="val -14836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expected/ supposed ( to happen or arriv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Mr Smith i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give the lecture twice tomorrow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Cf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accident wa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because of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careless driv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5. The problem is how much we should 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Times New Roman"/>
              </a:rPr>
              <a:t>charge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for the new mobile phone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Practice3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4191120"/>
            <a:ext cx="4038480" cy="609480"/>
          </a:xfrm>
          <a:prstGeom prst="wedgeRectCallout">
            <a:avLst>
              <a:gd name="adj1" fmla="val 9944"/>
              <a:gd name="adj2" fmla="val -23073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ask in pa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tried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$80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o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 room for a nigh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was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d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ith stealing the jewels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Goals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have a general idea of mobile telephon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know how to use some words and express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in and store electric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often have to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the phone batt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harge  (n.)---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ice asked or pai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phone will be repaired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ree of charg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f it goes wrong.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1___    I said, he would disag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2___     you go, I go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will discuss it with you ___3___ you l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74320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at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352680"/>
            <a:ext cx="18288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3886200"/>
            <a:ext cx="2133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4___      hard the task may be, we’ll try to finish it i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5___       book you borrow, you must return it within a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304812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4267080"/>
            <a:ext cx="20574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ich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will do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w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on’t lose heart,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you 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5334120"/>
            <a:ext cx="2971800" cy="609480"/>
          </a:xfrm>
          <a:prstGeom prst="wedgeRectCallout">
            <a:avLst>
              <a:gd name="adj1" fmla="val 43962"/>
              <a:gd name="adj2" fmla="val -1388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nts to see me, tell him I’m bu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makes mistakes must correct them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733920"/>
            <a:ext cx="2971800" cy="609480"/>
          </a:xfrm>
          <a:prstGeom prst="wedgeRectCallout">
            <a:avLst>
              <a:gd name="adj1" fmla="val -77833"/>
              <a:gd name="adj2" fmla="val -7343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can tak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oom you pref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 will take 3 hours,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which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y you do i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4876920"/>
            <a:ext cx="3276360" cy="609480"/>
          </a:xfrm>
          <a:prstGeom prst="wedgeRectCallout">
            <a:avLst>
              <a:gd name="adj1" fmla="val -240"/>
              <a:gd name="adj2" fmla="val -8463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Please remind me ___1___     I must call him up before no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he picture reminded me ___2___ the days in Par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971800"/>
            <a:ext cx="1295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4038480"/>
            <a:ext cx="8380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75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f I forget, please remind ___3___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ease remind me ___4___  answer that le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2895480"/>
            <a:ext cx="9144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3962520"/>
            <a:ext cx="7621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er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2640" y="38862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woman teacher. I just need a mobile phone to call  my friends or receive calls from them. I don’t want to spend too much time on the ph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j0198594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2286000" cy="1733400"/>
          </a:xfrm>
          <a:prstGeom prst="rect">
            <a:avLst/>
          </a:prstGeom>
          <a:ln w="0">
            <a:noFill/>
          </a:ln>
        </p:spPr>
      </p:pic>
      <p:pic>
        <p:nvPicPr>
          <p:cNvPr id="278" name="nokia%208210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129528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samsung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05320" y="47242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bile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mobile%20library%202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281952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mobile%20library%205" descr=""/>
          <p:cNvPicPr/>
          <p:nvPr/>
        </p:nvPicPr>
        <p:blipFill>
          <a:blip r:embed="rId2"/>
          <a:stretch/>
        </p:blipFill>
        <p:spPr>
          <a:xfrm>
            <a:off x="5257800" y="2273400"/>
            <a:ext cx="30225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im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36576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young man. I like all fashionable things. I often chat with my friends on the phone or on line. I  hope to be loved by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nokia%2082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1752480"/>
            <a:ext cx="1438200" cy="1752840"/>
          </a:xfrm>
          <a:prstGeom prst="rect">
            <a:avLst/>
          </a:prstGeom>
          <a:ln w="0">
            <a:noFill/>
          </a:ln>
        </p:spPr>
      </p:pic>
      <p:pic>
        <p:nvPicPr>
          <p:cNvPr id="283" name="j0285696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1549440" cy="1827360"/>
          </a:xfrm>
          <a:prstGeom prst="rect">
            <a:avLst/>
          </a:prstGeom>
          <a:ln w="0">
            <a:noFill/>
          </a:ln>
        </p:spPr>
      </p:pic>
      <p:pic>
        <p:nvPicPr>
          <p:cNvPr id="284" name="samsung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Arial"/>
                <a:ea typeface="Arial"/>
              </a:rPr>
              <a:t>Nokia 8210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ashionable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Voice dialing for up to 8 n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SMS and picture mess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lock, alarm clo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nokia%208210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8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  <a:ea typeface="Arial"/>
              </a:rPr>
              <a:t>Samsung SGH-V205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621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Built-in digital cam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100 picture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olour  sc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ree flash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500+ SIM phonebook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high speed on l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samsung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4956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sung SGH-V2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j0285696" descr=""/>
          <p:cNvPicPr/>
          <p:nvPr/>
        </p:nvPicPr>
        <p:blipFill>
          <a:blip r:embed="rId1"/>
          <a:stretch/>
        </p:blipFill>
        <p:spPr>
          <a:xfrm>
            <a:off x="1330200" y="194616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294" name="samsung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7242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okia 82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j019859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809880" cy="2889360"/>
          </a:xfrm>
          <a:prstGeom prst="rect">
            <a:avLst/>
          </a:prstGeom>
          <a:ln w="0">
            <a:noFill/>
          </a:ln>
        </p:spPr>
      </p:pic>
      <p:pic>
        <p:nvPicPr>
          <p:cNvPr id="298" name="nokia%208210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5988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 The baby was f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frequentl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1  I have lived in a small house whose door open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directly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onto 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2  It is quite useful to have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redirec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th your telephone</a:t>
            </a: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1    … but I had n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o go back for a rainco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2    We are making efforts t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e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relationship between the two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1    She does very well in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str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and phys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2    The change from water to ice is not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ca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need for the 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  Th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u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money we can collect for special edu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  The problem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electrical signals get weaker and weaker as they travel along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must get support from the gover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1" name="cordless,%20Samsung%20SGH-V205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520" y="2666880"/>
            <a:ext cx="33260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mobile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ular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hand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5.  On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use glass pipes to send light signals instead of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6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an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untries will take part in the next Asian Games is not yet kn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7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i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mpany will take up the project must be decided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8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ll go to see the sick and the injured is very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9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r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top secret document was kept was not known till the revolution star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0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th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both of them should be hired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1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s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English is the best can be judged by t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Compare the two sentenc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had won the priz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told me yesterda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05320" y="4419720"/>
            <a:ext cx="3276360" cy="609480"/>
          </a:xfrm>
          <a:prstGeom prst="wedgeRectCallout">
            <a:avLst>
              <a:gd name="adj1" fmla="val -1402"/>
              <a:gd name="adj2" fmla="val -1216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2743200"/>
            <a:ext cx="3276720" cy="609480"/>
          </a:xfrm>
          <a:prstGeom prst="wedgeRectCallout">
            <a:avLst>
              <a:gd name="adj1" fmla="val -240"/>
              <a:gd name="adj2" fmla="val -10677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4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>
            <a:hlinkClick r:id="rId5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>
            <a:hlinkClick r:id="rId6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362320" y="4495680"/>
            <a:ext cx="5029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mart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smart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2438640" cy="21668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6" name="smart%20student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157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742840" y="2133360"/>
            <a:ext cx="4419720" cy="2514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e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e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Lesson 91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26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性从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at is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y he decided to buy a mobile ph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cc66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o made the long distance call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not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ac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that we lack enough phon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need to think abou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at we should say to the call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2640" y="2362320"/>
            <a:ext cx="7010280" cy="2133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take it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whereve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wiser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as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895480" y="1676520"/>
            <a:ext cx="4267440" cy="4114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… 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 tog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ll the b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 a wor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ee of char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1 &amp;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et on line and try to search a new mobile phone model which has more attractive features than Samsung V205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bile phone picture collec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9" name="mob,%20p4" descr=""/>
          <p:cNvPicPr/>
          <p:nvPr/>
        </p:nvPicPr>
        <p:blipFill>
          <a:blip r:embed="rId1"/>
          <a:stretch/>
        </p:blipFill>
        <p:spPr>
          <a:xfrm>
            <a:off x="2209680" y="2120760"/>
            <a:ext cx="1913040" cy="1806840"/>
          </a:xfrm>
          <a:prstGeom prst="rect">
            <a:avLst/>
          </a:prstGeom>
          <a:ln w="0">
            <a:noFill/>
          </a:ln>
        </p:spPr>
      </p:pic>
      <p:pic>
        <p:nvPicPr>
          <p:cNvPr id="360" name="mob,p,%20pic" descr=""/>
          <p:cNvPicPr/>
          <p:nvPr/>
        </p:nvPicPr>
        <p:blipFill>
          <a:blip r:embed="rId2"/>
          <a:stretch/>
        </p:blipFill>
        <p:spPr>
          <a:xfrm>
            <a:off x="5181480" y="2044800"/>
            <a:ext cx="1905120" cy="1841400"/>
          </a:xfrm>
          <a:prstGeom prst="rect">
            <a:avLst/>
          </a:prstGeom>
          <a:ln w="0">
            <a:noFill/>
          </a:ln>
        </p:spPr>
      </p:pic>
      <p:pic>
        <p:nvPicPr>
          <p:cNvPr id="361" name="m2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1832040" cy="1981440"/>
          </a:xfrm>
          <a:prstGeom prst="rect">
            <a:avLst/>
          </a:prstGeom>
          <a:ln w="0">
            <a:noFill/>
          </a:ln>
        </p:spPr>
      </p:pic>
      <p:pic>
        <p:nvPicPr>
          <p:cNvPr id="362" name="mob,p5" descr=""/>
          <p:cNvPicPr/>
          <p:nvPr/>
        </p:nvPicPr>
        <p:blipFill>
          <a:blip r:embed="rId4"/>
          <a:stretch/>
        </p:blipFill>
        <p:spPr>
          <a:xfrm>
            <a:off x="5257800" y="411480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4" name="cordless,%20Samsung%20SGH-V205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5" name="Nokia%207210" descr=""/>
          <p:cNvPicPr/>
          <p:nvPr/>
        </p:nvPicPr>
        <p:blipFill>
          <a:blip r:embed="rId2"/>
          <a:stretch/>
        </p:blipFill>
        <p:spPr>
          <a:xfrm>
            <a:off x="5715000" y="1752480"/>
            <a:ext cx="1189080" cy="1981440"/>
          </a:xfrm>
          <a:prstGeom prst="rect">
            <a:avLst/>
          </a:prstGeom>
          <a:ln w="0">
            <a:noFill/>
          </a:ln>
        </p:spPr>
      </p:pic>
      <p:pic>
        <p:nvPicPr>
          <p:cNvPr id="366" name="m3" descr=""/>
          <p:cNvPicPr/>
          <p:nvPr/>
        </p:nvPicPr>
        <p:blipFill>
          <a:blip r:embed="rId3"/>
          <a:stretch/>
        </p:blipFill>
        <p:spPr>
          <a:xfrm>
            <a:off x="2743200" y="4114800"/>
            <a:ext cx="1457280" cy="1981080"/>
          </a:xfrm>
          <a:prstGeom prst="rect">
            <a:avLst/>
          </a:prstGeom>
          <a:ln w="0">
            <a:noFill/>
          </a:ln>
        </p:spPr>
      </p:pic>
      <p:pic>
        <p:nvPicPr>
          <p:cNvPr id="367" name="nokia3210_mainpage_s1" descr=""/>
          <p:cNvPicPr/>
          <p:nvPr/>
        </p:nvPicPr>
        <p:blipFill>
          <a:blip r:embed="rId4"/>
          <a:stretch/>
        </p:blipFill>
        <p:spPr>
          <a:xfrm>
            <a:off x="2666880" y="1676520"/>
            <a:ext cx="1447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9" name="mobile2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2057400" cy="1809720"/>
          </a:xfrm>
          <a:prstGeom prst="rect">
            <a:avLst/>
          </a:prstGeom>
          <a:ln w="0">
            <a:noFill/>
          </a:ln>
        </p:spPr>
      </p:pic>
      <p:pic>
        <p:nvPicPr>
          <p:cNvPr id="370" name="motorola2" descr=""/>
          <p:cNvPicPr/>
          <p:nvPr/>
        </p:nvPicPr>
        <p:blipFill>
          <a:blip r:embed="rId2"/>
          <a:stretch/>
        </p:blipFill>
        <p:spPr>
          <a:xfrm>
            <a:off x="2362320" y="4038480"/>
            <a:ext cx="1944720" cy="1981440"/>
          </a:xfrm>
          <a:prstGeom prst="rect">
            <a:avLst/>
          </a:prstGeom>
          <a:ln w="0">
            <a:noFill/>
          </a:ln>
        </p:spPr>
      </p:pic>
      <p:pic>
        <p:nvPicPr>
          <p:cNvPr id="371" name="motorola1" descr=""/>
          <p:cNvPicPr/>
          <p:nvPr/>
        </p:nvPicPr>
        <p:blipFill>
          <a:blip r:embed="rId3"/>
          <a:stretch/>
        </p:blipFill>
        <p:spPr>
          <a:xfrm>
            <a:off x="2362320" y="1752480"/>
            <a:ext cx="1968480" cy="1981440"/>
          </a:xfrm>
          <a:prstGeom prst="rect">
            <a:avLst/>
          </a:prstGeom>
          <a:ln w="0">
            <a:noFill/>
          </a:ln>
        </p:spPr>
      </p:pic>
      <p:pic>
        <p:nvPicPr>
          <p:cNvPr id="372" name="mobile1" descr=""/>
          <p:cNvPicPr/>
          <p:nvPr/>
        </p:nvPicPr>
        <p:blipFill>
          <a:blip r:embed="rId4"/>
          <a:stretch/>
        </p:blipFill>
        <p:spPr>
          <a:xfrm>
            <a:off x="5257800" y="1752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057040" y="43434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cord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1677960" cy="1981440"/>
          </a:xfrm>
          <a:prstGeom prst="rect">
            <a:avLst/>
          </a:prstGeom>
          <a:ln w="0">
            <a:noFill/>
          </a:ln>
        </p:spPr>
      </p:pic>
      <p:pic>
        <p:nvPicPr>
          <p:cNvPr id="169" name="cordless%20phone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1752840" cy="1981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95680" y="4343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less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4920" y="4572000"/>
            <a:ext cx="3581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distant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j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distance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5" name="distance%201" descr=""/>
          <p:cNvPicPr/>
          <p:nvPr/>
        </p:nvPicPr>
        <p:blipFill>
          <a:blip r:embed="rId2"/>
          <a:stretch/>
        </p:blipFill>
        <p:spPr>
          <a:xfrm>
            <a:off x="4876920" y="1940040"/>
            <a:ext cx="2514600" cy="231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7280" y="2666880"/>
            <a:ext cx="8384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tance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352320" y="4343040"/>
            <a:ext cx="378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announce" descr=""/>
          <p:cNvPicPr/>
          <p:nvPr/>
        </p:nvPicPr>
        <p:blipFill>
          <a:blip r:embed="rId1"/>
          <a:stretch/>
        </p:blipFill>
        <p:spPr>
          <a:xfrm>
            <a:off x="4167360" y="1752480"/>
            <a:ext cx="1730160" cy="2514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4800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ment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31:02Z</dcterms:modified>
  <cp:revision>109</cp:revision>
  <dc:subject/>
  <dc:title>Unit 19 A freedom fighter (continued)</dc:title>
</cp:coreProperties>
</file>