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5.png" ContentType="image/png"/>
  <Override PartName="/ppt/media/image22.gif" ContentType="image/gif"/>
  <Override PartName="/ppt/media/image14.png" ContentType="image/png"/>
  <Override PartName="/ppt/media/image3.png" ContentType="image/png"/>
  <Override PartName="/ppt/media/image17.jpeg" ContentType="image/jpeg"/>
  <Override PartName="/ppt/media/image21.gif" ContentType="image/gif"/>
  <Override PartName="/ppt/media/image24.png" ContentType="image/png"/>
  <Override PartName="/ppt/media/image18.jpeg" ContentType="image/jpeg"/>
  <Override PartName="/ppt/media/image20.jpeg" ContentType="image/jpeg"/>
  <Override PartName="/ppt/media/image15.jpeg" ContentType="image/jpeg"/>
  <Override PartName="/ppt/media/image16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5DE7-7348-4151-B14B-C808A3432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E709-5252-4BE9-A7E0-14347D3A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3035-4FEA-4671-9F74-4A4C4E89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E05E-90E7-44AD-BBBD-3583ECF4A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B3A6-6A96-49AF-8294-48246D904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DE6E-D101-4A7C-A5E3-505D1831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2FE5-84CE-4FAE-A974-330D7FFE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E1EF-1E71-4587-9A84-88306134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CBF5-8402-46CC-AC8E-FA1356EB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12F8-786F-4C10-A89E-52A79B78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FEBE-DB18-4AE3-9BA8-40ADF805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95E3-DF3F-4CC7-A7F5-099A8E7B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AC23-DAFE-4B55-B7DC-4D0951F4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8FE1-9A70-4FAD-BA08-CA987D33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5392-4177-4F58-866F-DA95812C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5EFD-CBF4-4E5E-812E-EC2369C3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E4BF-D60A-40EA-B2C2-A3B35163F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734F-9855-4F6B-B4AD-989F922F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FC99-5CB0-4AD1-A061-7F4B1C2E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1A66-667D-459D-B2CA-84BF64FF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0B59-72A2-4668-B38C-5BBE2A23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2A88-389C-440E-AC42-5022CC03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81E8-4C37-4DBC-9B26-57A916BA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1DF4-1EB1-4096-AFA6-90EA696C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03E0-5078-4B87-8A0C-ACD24DAA472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4DEC-71E0-4280-BC2A-0A8D55F23CA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" Target="slide49.xml"/><Relationship Id="rId3" Type="http://schemas.openxmlformats.org/officeDocument/2006/relationships/slide" Target="slide47.xml"/><Relationship Id="rId4" Type="http://schemas.openxmlformats.org/officeDocument/2006/relationships/slide" Target="slide46.xml"/><Relationship Id="rId5" Type="http://schemas.openxmlformats.org/officeDocument/2006/relationships/slide" Target="slide50.xml"/><Relationship Id="rId6" Type="http://schemas.openxmlformats.org/officeDocument/2006/relationships/slide" Target="slide48.xml"/><Relationship Id="rId7" Type="http://schemas.openxmlformats.org/officeDocument/2006/relationships/slide" Target="slide51.xml"/><Relationship Id="rId8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4400" y="120780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Unit 23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中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 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Lesson 90 Telephon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2971800"/>
            <a:ext cx="640080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李  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中学高级教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北师大实验中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日播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"/>
              </a:rPr>
              <a:t>Put the pictures in the right ord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0" y="1676520"/>
            <a:ext cx="9144000" cy="1983600"/>
            <a:chOff x="0" y="1676520"/>
            <a:chExt cx="9144000" cy="1983600"/>
          </a:xfrm>
        </p:grpSpPr>
        <p:sp>
          <p:nvSpPr>
            <p:cNvPr id="211" name=""/>
            <p:cNvSpPr/>
            <p:nvPr/>
          </p:nvSpPr>
          <p:spPr>
            <a:xfrm>
              <a:off x="0" y="29541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2" name="how%20tel%20works2" descr=""/>
            <p:cNvPicPr/>
            <p:nvPr/>
          </p:nvPicPr>
          <p:blipFill>
            <a:blip r:embed="rId1"/>
            <a:stretch/>
          </p:blipFill>
          <p:spPr>
            <a:xfrm>
              <a:off x="1755720" y="1676520"/>
              <a:ext cx="182880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069920" y="320040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working basic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-335268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0" y="1523880"/>
            <a:ext cx="3962520" cy="2059920"/>
            <a:chOff x="4572000" y="1523880"/>
            <a:chExt cx="3962520" cy="2059920"/>
          </a:xfrm>
        </p:grpSpPr>
        <p:pic>
          <p:nvPicPr>
            <p:cNvPr id="216" name="j0300239" descr=""/>
            <p:cNvPicPr/>
            <p:nvPr/>
          </p:nvPicPr>
          <p:blipFill>
            <a:blip r:embed="rId2"/>
            <a:stretch/>
          </p:blipFill>
          <p:spPr>
            <a:xfrm>
              <a:off x="5334120" y="1523880"/>
              <a:ext cx="1784160" cy="14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572000" y="312408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8" name="j0128353" descr=""/>
          <p:cNvPicPr/>
          <p:nvPr/>
        </p:nvPicPr>
        <p:blipFill>
          <a:blip r:embed="rId3"/>
          <a:stretch/>
        </p:blipFill>
        <p:spPr>
          <a:xfrm>
            <a:off x="5562720" y="3886200"/>
            <a:ext cx="1752480" cy="1359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724280" y="5334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advances in teleph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066680" y="3962520"/>
            <a:ext cx="3353040" cy="1907280"/>
            <a:chOff x="1066680" y="3962520"/>
            <a:chExt cx="3353040" cy="1907280"/>
          </a:xfrm>
        </p:grpSpPr>
        <p:grpSp>
          <p:nvGrpSpPr>
            <p:cNvPr id="221" name=""/>
            <p:cNvGrpSpPr/>
            <p:nvPr/>
          </p:nvGrpSpPr>
          <p:grpSpPr>
            <a:xfrm>
              <a:off x="1905120" y="3962520"/>
              <a:ext cx="1752120" cy="1371600"/>
              <a:chOff x="1905120" y="3962520"/>
              <a:chExt cx="1752120" cy="1371600"/>
            </a:xfrm>
          </p:grpSpPr>
          <p:pic>
            <p:nvPicPr>
              <p:cNvPr id="222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2575080" y="396252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1905120" y="396252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4" name=""/>
            <p:cNvSpPr/>
            <p:nvPr/>
          </p:nvSpPr>
          <p:spPr>
            <a:xfrm>
              <a:off x="1066680" y="541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"/>
              </a:rPr>
              <a:t>Check the answ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066680" y="1600200"/>
            <a:ext cx="3886200" cy="1983600"/>
            <a:chOff x="1066680" y="1600200"/>
            <a:chExt cx="3886200" cy="1983600"/>
          </a:xfrm>
        </p:grpSpPr>
        <p:pic>
          <p:nvPicPr>
            <p:cNvPr id="249" name="how%20tel%20works2" descr=""/>
            <p:cNvPicPr/>
            <p:nvPr/>
          </p:nvPicPr>
          <p:blipFill>
            <a:blip r:embed="rId1"/>
            <a:stretch/>
          </p:blipFill>
          <p:spPr>
            <a:xfrm>
              <a:off x="1752480" y="1600200"/>
              <a:ext cx="182880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1066680" y="31240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working basic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914400" y="3657600"/>
            <a:ext cx="3962160" cy="2059920"/>
            <a:chOff x="914400" y="3657600"/>
            <a:chExt cx="3962160" cy="2059920"/>
          </a:xfrm>
        </p:grpSpPr>
        <p:pic>
          <p:nvPicPr>
            <p:cNvPr id="252" name="j0300239" descr=""/>
            <p:cNvPicPr/>
            <p:nvPr/>
          </p:nvPicPr>
          <p:blipFill>
            <a:blip r:embed="rId2"/>
            <a:stretch/>
          </p:blipFill>
          <p:spPr>
            <a:xfrm>
              <a:off x="1676160" y="3657600"/>
              <a:ext cx="178452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914400" y="525780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648320" y="3809880"/>
            <a:ext cx="3657600" cy="1907280"/>
            <a:chOff x="4648320" y="3809880"/>
            <a:chExt cx="3657600" cy="1907280"/>
          </a:xfrm>
        </p:grpSpPr>
        <p:pic>
          <p:nvPicPr>
            <p:cNvPr id="255" name="j0128353" descr=""/>
            <p:cNvPicPr/>
            <p:nvPr/>
          </p:nvPicPr>
          <p:blipFill>
            <a:blip r:embed="rId3"/>
            <a:stretch/>
          </p:blipFill>
          <p:spPr>
            <a:xfrm>
              <a:off x="5334120" y="3809880"/>
              <a:ext cx="175248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4648320" y="525744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advances in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724280" y="1600200"/>
            <a:ext cx="3353040" cy="1907280"/>
            <a:chOff x="4724280" y="1600200"/>
            <a:chExt cx="3353040" cy="1907280"/>
          </a:xfrm>
        </p:grpSpPr>
        <p:grpSp>
          <p:nvGrpSpPr>
            <p:cNvPr id="258" name=""/>
            <p:cNvGrpSpPr/>
            <p:nvPr/>
          </p:nvGrpSpPr>
          <p:grpSpPr>
            <a:xfrm>
              <a:off x="5562720" y="1600200"/>
              <a:ext cx="1752120" cy="1371600"/>
              <a:chOff x="5562720" y="1600200"/>
              <a:chExt cx="1752120" cy="1371600"/>
            </a:xfrm>
          </p:grpSpPr>
          <p:pic>
            <p:nvPicPr>
              <p:cNvPr id="259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6232680" y="160020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5562720" y="160020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1" name=""/>
            <p:cNvSpPr/>
            <p:nvPr/>
          </p:nvSpPr>
          <p:spPr>
            <a:xfrm>
              <a:off x="4724280" y="304776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A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sound       electrical signals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back into s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electrical signals       s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back into electrical sign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how%20tel%20works2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1828800" cy="13208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886200" y="19810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working ba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32004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335268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335268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464832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629400" y="464832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t the beginning, people liked to hire or buy t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t the beginning, people 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didn’t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like to hire or buy t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600200" y="1600200"/>
            <a:ext cx="1752120" cy="1371600"/>
            <a:chOff x="1600200" y="1600200"/>
            <a:chExt cx="1752120" cy="1371600"/>
          </a:xfrm>
        </p:grpSpPr>
        <p:pic>
          <p:nvPicPr>
            <p:cNvPr id="278" name="Operator" descr=""/>
            <p:cNvPicPr/>
            <p:nvPr/>
          </p:nvPicPr>
          <p:blipFill>
            <a:blip r:embed="rId1"/>
            <a:stretch/>
          </p:blipFill>
          <p:spPr>
            <a:xfrm>
              <a:off x="2270160" y="1600200"/>
              <a:ext cx="10821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hone%20handle" descr=""/>
            <p:cNvPicPr/>
            <p:nvPr/>
          </p:nvPicPr>
          <p:blipFill>
            <a:blip r:embed="rId2"/>
            <a:stretch/>
          </p:blipFill>
          <p:spPr>
            <a:xfrm>
              <a:off x="1600200" y="1600200"/>
              <a:ext cx="71280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" name=""/>
          <p:cNvSpPr/>
          <p:nvPr/>
        </p:nvSpPr>
        <p:spPr>
          <a:xfrm>
            <a:off x="3657600" y="19051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history of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44197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ore about the histo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980720" y="4648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lexander Graham Bell invented the phone in 1876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Graham%20Bell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35053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w the phone was used at that tim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86" name="p,g.BELL_HANDSETS_1877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8098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60 telephones in 1877--- 300 million in 199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600 telephones in 1877--- 300 million in 199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8080" y="44197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j0300239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1784520" cy="14619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505320" y="175248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number of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2971440"/>
            <a:ext cx="7086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adays, signals are sent by using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metal wire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adays, signals are sent by using thin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glass pipe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2120" y="4419720"/>
            <a:ext cx="30456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j0128353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1752840" cy="1359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505320" y="18288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advances in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me of the ways telephones can be use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onference call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电话会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Diall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缩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拨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Redirection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转移呼叫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all wait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呼叫等待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4 companies i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citi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 often need to have meetings to discuss some important matt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752480" y="3429000"/>
            <a:ext cx="2057400" cy="2133360"/>
            <a:chOff x="1752480" y="3429000"/>
            <a:chExt cx="2057400" cy="2133360"/>
          </a:xfrm>
        </p:grpSpPr>
        <p:pic>
          <p:nvPicPr>
            <p:cNvPr id="302" name="modern%202" descr=""/>
            <p:cNvPicPr/>
            <p:nvPr/>
          </p:nvPicPr>
          <p:blipFill>
            <a:blip r:embed="rId1"/>
            <a:stretch/>
          </p:blipFill>
          <p:spPr>
            <a:xfrm>
              <a:off x="1905120" y="3429000"/>
              <a:ext cx="182880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1752480" y="5029200"/>
              <a:ext cx="2057400" cy="53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400" y="4629"/>
                  </a:moveTo>
                  <a:lnTo>
                    <a:pt x="25067" y="4629"/>
                  </a:lnTo>
                  <a:lnTo>
                    <a:pt x="25067" y="-14464"/>
                  </a:lnTo>
                  <a:lnTo>
                    <a:pt x="20817" y="-31500"/>
                  </a:lnTo>
                </a:path>
              </a:pathLst>
            </a:cu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ne at a tim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724280" y="3429000"/>
            <a:ext cx="2971800" cy="2133720"/>
            <a:chOff x="4724280" y="3429000"/>
            <a:chExt cx="2971800" cy="2133720"/>
          </a:xfrm>
        </p:grpSpPr>
        <p:pic>
          <p:nvPicPr>
            <p:cNvPr id="305" name="mordern%201" descr=""/>
            <p:cNvPicPr/>
            <p:nvPr/>
          </p:nvPicPr>
          <p:blipFill>
            <a:blip r:embed="rId2"/>
            <a:stretch/>
          </p:blipFill>
          <p:spPr>
            <a:xfrm>
              <a:off x="5334120" y="3429000"/>
              <a:ext cx="14349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4724280" y="5029200"/>
              <a:ext cx="2971800" cy="53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154" y="4629"/>
                  </a:moveTo>
                  <a:lnTo>
                    <a:pt x="23435" y="4629"/>
                  </a:lnTo>
                  <a:lnTo>
                    <a:pt x="23435" y="-14014"/>
                  </a:lnTo>
                  <a:lnTo>
                    <a:pt x="14792" y="-30600"/>
                  </a:lnTo>
                </a:path>
              </a:pathLst>
            </a:cu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lk at the same tim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251424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Unit 23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中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 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Lesson 90 Telephon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j0300239" descr=""/>
          <p:cNvPicPr/>
          <p:nvPr/>
        </p:nvPicPr>
        <p:blipFill>
          <a:blip r:embed="rId1"/>
          <a:stretch/>
        </p:blipFill>
        <p:spPr>
          <a:xfrm>
            <a:off x="5638680" y="762120"/>
            <a:ext cx="1784520" cy="1766880"/>
          </a:xfrm>
          <a:prstGeom prst="rect">
            <a:avLst/>
          </a:prstGeom>
          <a:ln w="0">
            <a:noFill/>
          </a:ln>
        </p:spPr>
      </p:pic>
      <p:pic>
        <p:nvPicPr>
          <p:cNvPr id="164" name="j0128353" descr=""/>
          <p:cNvPicPr/>
          <p:nvPr/>
        </p:nvPicPr>
        <p:blipFill>
          <a:blip r:embed="rId2"/>
          <a:stretch/>
        </p:blipFill>
        <p:spPr>
          <a:xfrm>
            <a:off x="2362320" y="4114800"/>
            <a:ext cx="1752480" cy="1587600"/>
          </a:xfrm>
          <a:prstGeom prst="rect">
            <a:avLst/>
          </a:prstGeom>
          <a:ln w="0">
            <a:noFill/>
          </a:ln>
        </p:spPr>
      </p:pic>
      <p:pic>
        <p:nvPicPr>
          <p:cNvPr id="165" name="how%20tel%20works2" descr=""/>
          <p:cNvPicPr/>
          <p:nvPr/>
        </p:nvPicPr>
        <p:blipFill>
          <a:blip r:embed="rId3"/>
          <a:stretch/>
        </p:blipFill>
        <p:spPr>
          <a:xfrm>
            <a:off x="2286000" y="1295280"/>
            <a:ext cx="1981080" cy="116856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5715000" y="4191120"/>
            <a:ext cx="2057040" cy="1447560"/>
            <a:chOff x="5715000" y="4191120"/>
            <a:chExt cx="2057040" cy="1447560"/>
          </a:xfrm>
        </p:grpSpPr>
        <p:pic>
          <p:nvPicPr>
            <p:cNvPr id="167" name="Operator" descr=""/>
            <p:cNvPicPr/>
            <p:nvPr/>
          </p:nvPicPr>
          <p:blipFill>
            <a:blip r:embed="rId4"/>
            <a:stretch/>
          </p:blipFill>
          <p:spPr>
            <a:xfrm>
              <a:off x="6501600" y="4191120"/>
              <a:ext cx="127044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hone%20handle" descr=""/>
            <p:cNvPicPr/>
            <p:nvPr/>
          </p:nvPicPr>
          <p:blipFill>
            <a:blip r:embed="rId5"/>
            <a:stretch/>
          </p:blipFill>
          <p:spPr>
            <a:xfrm>
              <a:off x="5715000" y="4191120"/>
              <a:ext cx="83700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4 companies i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cities. We often need to have meetings to discuss some important matt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37339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onference calling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电话会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mordern%201" descr=""/>
          <p:cNvPicPr/>
          <p:nvPr/>
        </p:nvPicPr>
        <p:blipFill>
          <a:blip r:embed="rId1"/>
          <a:stretch/>
        </p:blipFill>
        <p:spPr>
          <a:xfrm>
            <a:off x="5181480" y="3657600"/>
            <a:ext cx="1828800" cy="165096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a poor memory. I hope to dial only one number to speak to someone whom I often c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600200" y="3429000"/>
            <a:ext cx="2971800" cy="2109960"/>
            <a:chOff x="1600200" y="3429000"/>
            <a:chExt cx="2971800" cy="2109960"/>
          </a:xfrm>
        </p:grpSpPr>
        <p:pic>
          <p:nvPicPr>
            <p:cNvPr id="313" name="dialling4" descr=""/>
            <p:cNvPicPr/>
            <p:nvPr/>
          </p:nvPicPr>
          <p:blipFill>
            <a:blip r:embed="rId1"/>
            <a:stretch/>
          </p:blipFill>
          <p:spPr>
            <a:xfrm>
              <a:off x="1600200" y="4191120"/>
              <a:ext cx="182880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2514600" y="3429000"/>
              <a:ext cx="2057400" cy="609480"/>
            </a:xfrm>
            <a:prstGeom prst="borderCallout1">
              <a:avLst>
                <a:gd name="adj1" fmla="val 18750"/>
                <a:gd name="adj2" fmla="val -8333"/>
                <a:gd name="adj3" fmla="val 121875"/>
                <a:gd name="adj4" fmla="val -27004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3904637….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029200" y="3505320"/>
            <a:ext cx="2565360" cy="1968480"/>
            <a:chOff x="5029200" y="3505320"/>
            <a:chExt cx="2565360" cy="1968480"/>
          </a:xfrm>
        </p:grpSpPr>
        <p:sp>
          <p:nvSpPr>
            <p:cNvPr id="316" name=""/>
            <p:cNvSpPr/>
            <p:nvPr/>
          </p:nvSpPr>
          <p:spPr>
            <a:xfrm>
              <a:off x="6324480" y="3505320"/>
              <a:ext cx="1270080" cy="533160"/>
            </a:xfrm>
            <a:prstGeom prst="borderCallout1">
              <a:avLst>
                <a:gd name="adj1" fmla="val 18750"/>
                <a:gd name="adj2" fmla="val -8333"/>
                <a:gd name="adj3" fmla="val 151486"/>
                <a:gd name="adj4" fmla="val -51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=To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7" name="dialling" descr=""/>
            <p:cNvPicPr/>
            <p:nvPr/>
          </p:nvPicPr>
          <p:blipFill>
            <a:blip r:embed="rId2"/>
            <a:stretch/>
          </p:blipFill>
          <p:spPr>
            <a:xfrm>
              <a:off x="5029200" y="4191120"/>
              <a:ext cx="1828800" cy="128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a poor memory. I hope to dial only one number to speak to someone whom I often c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419720" y="3352680"/>
            <a:ext cx="2565360" cy="1968480"/>
            <a:chOff x="4419720" y="3352680"/>
            <a:chExt cx="2565360" cy="1968480"/>
          </a:xfrm>
        </p:grpSpPr>
        <p:sp>
          <p:nvSpPr>
            <p:cNvPr id="321" name=""/>
            <p:cNvSpPr/>
            <p:nvPr/>
          </p:nvSpPr>
          <p:spPr>
            <a:xfrm>
              <a:off x="5715000" y="3352680"/>
              <a:ext cx="1270080" cy="533160"/>
            </a:xfrm>
            <a:prstGeom prst="borderCallout1">
              <a:avLst>
                <a:gd name="adj1" fmla="val 18750"/>
                <a:gd name="adj2" fmla="val -8333"/>
                <a:gd name="adj3" fmla="val 151486"/>
                <a:gd name="adj4" fmla="val -51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=To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2" name="dialling" descr=""/>
            <p:cNvPicPr/>
            <p:nvPr/>
          </p:nvPicPr>
          <p:blipFill>
            <a:blip r:embed="rId1"/>
            <a:stretch/>
          </p:blipFill>
          <p:spPr>
            <a:xfrm>
              <a:off x="4419720" y="4038480"/>
              <a:ext cx="1828800" cy="128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"/>
          <p:cNvSpPr/>
          <p:nvPr/>
        </p:nvSpPr>
        <p:spPr>
          <a:xfrm>
            <a:off x="1523880" y="4114800"/>
            <a:ext cx="30481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Dia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缩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拨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a journalist and often have to be out. But I don’t want to miss the calls to my off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523880" y="3429000"/>
            <a:ext cx="3657600" cy="1981080"/>
            <a:chOff x="1523880" y="3429000"/>
            <a:chExt cx="3657600" cy="1981080"/>
          </a:xfrm>
        </p:grpSpPr>
        <p:pic>
          <p:nvPicPr>
            <p:cNvPr id="327" name="call%20waiting" descr=""/>
            <p:cNvPicPr/>
            <p:nvPr/>
          </p:nvPicPr>
          <p:blipFill>
            <a:blip r:embed="rId1"/>
            <a:stretch/>
          </p:blipFill>
          <p:spPr>
            <a:xfrm>
              <a:off x="1523880" y="4114800"/>
              <a:ext cx="13716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2666880" y="3429000"/>
              <a:ext cx="2514600" cy="533520"/>
            </a:xfrm>
            <a:prstGeom prst="borderCallout1">
              <a:avLst>
                <a:gd name="adj1" fmla="val 18750"/>
                <a:gd name="adj2" fmla="val -8333"/>
                <a:gd name="adj3" fmla="val 127379"/>
                <a:gd name="adj4" fmla="val -30555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my offi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638680" y="3276720"/>
            <a:ext cx="1676520" cy="2087280"/>
            <a:chOff x="5638680" y="3276720"/>
            <a:chExt cx="1676520" cy="2087280"/>
          </a:xfrm>
        </p:grpSpPr>
        <p:pic>
          <p:nvPicPr>
            <p:cNvPr id="330" name="cordless1,%20pic" descr=""/>
            <p:cNvPicPr/>
            <p:nvPr/>
          </p:nvPicPr>
          <p:blipFill>
            <a:blip r:embed="rId2"/>
            <a:stretch/>
          </p:blipFill>
          <p:spPr>
            <a:xfrm>
              <a:off x="5638680" y="4114800"/>
              <a:ext cx="1214640" cy="124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1" name=""/>
            <p:cNvGrpSpPr/>
            <p:nvPr/>
          </p:nvGrpSpPr>
          <p:grpSpPr>
            <a:xfrm>
              <a:off x="6705720" y="3429000"/>
              <a:ext cx="228600" cy="380520"/>
              <a:chOff x="6705720" y="3429000"/>
              <a:chExt cx="228600" cy="380520"/>
            </a:xfrm>
          </p:grpSpPr>
          <p:sp>
            <p:nvSpPr>
              <p:cNvPr id="332" name=""/>
              <p:cNvSpPr/>
              <p:nvPr/>
            </p:nvSpPr>
            <p:spPr>
              <a:xfrm flipH="1">
                <a:off x="6781680" y="342900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81680" y="358128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6705720" y="358092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7086600" y="3276720"/>
              <a:ext cx="228600" cy="380520"/>
              <a:chOff x="7086600" y="3276720"/>
              <a:chExt cx="228600" cy="3805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7162560" y="327672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162560" y="342900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7086600" y="342864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6934320" y="3733920"/>
              <a:ext cx="228600" cy="380520"/>
              <a:chOff x="6934320" y="3733920"/>
              <a:chExt cx="228600" cy="380520"/>
            </a:xfrm>
          </p:grpSpPr>
          <p:sp>
            <p:nvSpPr>
              <p:cNvPr id="340" name=""/>
              <p:cNvSpPr/>
              <p:nvPr/>
            </p:nvSpPr>
            <p:spPr>
              <a:xfrm flipH="1">
                <a:off x="7010280" y="373392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010280" y="388620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6934320" y="388584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6400800" y="3809880"/>
              <a:ext cx="228600" cy="380520"/>
              <a:chOff x="6400800" y="3809880"/>
              <a:chExt cx="228600" cy="380520"/>
            </a:xfrm>
          </p:grpSpPr>
          <p:sp>
            <p:nvSpPr>
              <p:cNvPr id="344" name=""/>
              <p:cNvSpPr/>
              <p:nvPr/>
            </p:nvSpPr>
            <p:spPr>
              <a:xfrm flipH="1">
                <a:off x="6476760" y="380988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476760" y="396216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6400800" y="396180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a journalist and often have to be out. But I don’t want to miss the calls to my off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114800" y="3276720"/>
            <a:ext cx="3657600" cy="1981080"/>
            <a:chOff x="4114800" y="3276720"/>
            <a:chExt cx="3657600" cy="1981080"/>
          </a:xfrm>
        </p:grpSpPr>
        <p:pic>
          <p:nvPicPr>
            <p:cNvPr id="350" name="call%20waiting" descr=""/>
            <p:cNvPicPr/>
            <p:nvPr/>
          </p:nvPicPr>
          <p:blipFill>
            <a:blip r:embed="rId1"/>
            <a:stretch/>
          </p:blipFill>
          <p:spPr>
            <a:xfrm>
              <a:off x="4114800" y="3962520"/>
              <a:ext cx="13716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5257800" y="3276720"/>
              <a:ext cx="2514600" cy="533520"/>
            </a:xfrm>
            <a:prstGeom prst="borderCallout1">
              <a:avLst>
                <a:gd name="adj1" fmla="val 18750"/>
                <a:gd name="adj2" fmla="val -8333"/>
                <a:gd name="adj3" fmla="val 127379"/>
                <a:gd name="adj4" fmla="val -30555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my offi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371600" y="3809880"/>
            <a:ext cx="32004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redi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转移呼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often kept busy all day long, and so is my phone. I hope to answer the calls as many as possi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5" name="Busy_man" descr=""/>
          <p:cNvPicPr/>
          <p:nvPr/>
        </p:nvPicPr>
        <p:blipFill>
          <a:blip r:embed="rId1"/>
          <a:stretch/>
        </p:blipFill>
        <p:spPr>
          <a:xfrm>
            <a:off x="1600200" y="3581280"/>
            <a:ext cx="2193840" cy="1622520"/>
          </a:xfrm>
          <a:prstGeom prst="rect">
            <a:avLst/>
          </a:prstGeom>
          <a:ln w="0">
            <a:noFill/>
          </a:ln>
        </p:spPr>
      </p:pic>
      <p:grpSp>
        <p:nvGrpSpPr>
          <p:cNvPr id="356" name=""/>
          <p:cNvGrpSpPr/>
          <p:nvPr/>
        </p:nvGrpSpPr>
        <p:grpSpPr>
          <a:xfrm>
            <a:off x="4724280" y="3276720"/>
            <a:ext cx="2819520" cy="2239920"/>
            <a:chOff x="4724280" y="3276720"/>
            <a:chExt cx="2819520" cy="2239920"/>
          </a:xfrm>
        </p:grpSpPr>
        <p:sp>
          <p:nvSpPr>
            <p:cNvPr id="357" name=""/>
            <p:cNvSpPr/>
            <p:nvPr/>
          </p:nvSpPr>
          <p:spPr>
            <a:xfrm>
              <a:off x="6078600" y="3276720"/>
              <a:ext cx="1465200" cy="927000"/>
            </a:xfrm>
            <a:prstGeom prst="borderCallout1">
              <a:avLst>
                <a:gd name="adj1" fmla="val 18750"/>
                <a:gd name="adj2" fmla="val -8333"/>
                <a:gd name="adj3" fmla="val 12328"/>
                <a:gd name="adj4" fmla="val -39546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ld on, pleas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8" name="Mobile_phone" descr=""/>
            <p:cNvPicPr/>
            <p:nvPr/>
          </p:nvPicPr>
          <p:blipFill>
            <a:blip r:embed="rId2"/>
            <a:stretch/>
          </p:blipFill>
          <p:spPr>
            <a:xfrm>
              <a:off x="4724280" y="3276720"/>
              <a:ext cx="800280" cy="22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often kept busy all day long, and so is my phone. I hope to answer the calls as many as possi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23880" y="3657600"/>
            <a:ext cx="29718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all wa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呼叫等待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0" y="3124080"/>
            <a:ext cx="2684520" cy="2392560"/>
            <a:chOff x="4572000" y="3124080"/>
            <a:chExt cx="2684520" cy="2392560"/>
          </a:xfrm>
        </p:grpSpPr>
        <p:sp>
          <p:nvSpPr>
            <p:cNvPr id="363" name=""/>
            <p:cNvSpPr/>
            <p:nvPr/>
          </p:nvSpPr>
          <p:spPr>
            <a:xfrm>
              <a:off x="5791320" y="3124080"/>
              <a:ext cx="1465200" cy="927360"/>
            </a:xfrm>
            <a:prstGeom prst="borderCallout1">
              <a:avLst>
                <a:gd name="adj1" fmla="val 18750"/>
                <a:gd name="adj2" fmla="val -8333"/>
                <a:gd name="adj3" fmla="val 46574"/>
                <a:gd name="adj4" fmla="val -39546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ld on, ple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64" name="Mobile_phone" descr=""/>
            <p:cNvPicPr/>
            <p:nvPr/>
          </p:nvPicPr>
          <p:blipFill>
            <a:blip r:embed="rId1"/>
            <a:stretch/>
          </p:blipFill>
          <p:spPr>
            <a:xfrm>
              <a:off x="4572000" y="3276720"/>
              <a:ext cx="800280" cy="22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was one telephon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connected with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anoth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 the past?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question1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57400" y="4724280"/>
            <a:ext cx="4724280" cy="685800"/>
          </a:xfrm>
          <a:prstGeom prst="wedgeRectCallout">
            <a:avLst>
              <a:gd name="adj1" fmla="val -1342"/>
              <a:gd name="adj2" fmla="val -25439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(cause to) join (somethin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river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connects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irectly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with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the se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59436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ecf53d"/>
                </a:solidFill>
                <a:latin typeface="Times New Roman"/>
              </a:rPr>
              <a:t>Goals 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教学目标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96080" cy="40384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We will be able 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have a general knowledge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of telephon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know how to use some  words, expressions and one grammar item--- noun claus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mall children do not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connect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under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with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lighten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join by tele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Can you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onnect me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ith London, plea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622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join by tele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of trains, buses,etc.) to be planned so that passengers can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train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onnects with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the one leaving for London an hour la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The problem with electrical signals is that they get weaker and weaker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a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y travel along metal wir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3, Paragraph 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752480" y="4572000"/>
            <a:ext cx="2895840" cy="914400"/>
          </a:xfrm>
          <a:prstGeom prst="wedgeRectCallout">
            <a:avLst>
              <a:gd name="adj1" fmla="val -32509"/>
              <a:gd name="adj2" fmla="val -14513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le; wh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As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he talked on, he got more and more excit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e get wiser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as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e get old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These are some of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e ways in which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y can be use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2, Text 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28800" y="4114800"/>
            <a:ext cx="5029200" cy="1143000"/>
          </a:xfrm>
          <a:prstGeom prst="wedgeRectCallout">
            <a:avLst>
              <a:gd name="adj1" fmla="val 50472"/>
              <a:gd name="adj2" fmla="val -18972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the ways (tha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8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is very rude. Don’t speak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the way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do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y didn’t do the experiment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the way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we do now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1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How a telephone work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is a question which not everyon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n answe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752480" y="4572000"/>
            <a:ext cx="3124440" cy="609480"/>
          </a:xfrm>
          <a:prstGeom prst="wedgeRectCallout">
            <a:avLst>
              <a:gd name="adj1" fmla="val 63060"/>
              <a:gd name="adj2" fmla="val -258074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00040" y="4343040"/>
            <a:ext cx="3962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versation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conversation" descr=""/>
          <p:cNvPicPr/>
          <p:nvPr/>
        </p:nvPicPr>
        <p:blipFill>
          <a:blip r:embed="rId1"/>
          <a:stretch/>
        </p:blipFill>
        <p:spPr>
          <a:xfrm>
            <a:off x="3505320" y="1828800"/>
            <a:ext cx="2392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2 The problem with electrical signals is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at they get weak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and weaker as they trav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along metal wir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3, Paragraph 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38680" y="4419720"/>
            <a:ext cx="2057400" cy="609480"/>
          </a:xfrm>
          <a:prstGeom prst="wedgeRectCallout">
            <a:avLst>
              <a:gd name="adj1" fmla="val -11884"/>
              <a:gd name="adj2" fmla="val -16119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3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fact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at we lack enough phone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needs to be considere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81080" y="4267080"/>
            <a:ext cx="2438640" cy="533520"/>
          </a:xfrm>
          <a:prstGeom prst="wedgeRectCallout">
            <a:avLst>
              <a:gd name="adj1" fmla="val 61587"/>
              <a:gd name="adj2" fmla="val -26637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位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4  We need to think about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what we should say to the caller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62320" y="3809880"/>
            <a:ext cx="2819160" cy="609840"/>
          </a:xfrm>
          <a:prstGeom prst="wedgeRectCallout">
            <a:avLst>
              <a:gd name="adj1" fmla="val 31925"/>
              <a:gd name="adj2" fmla="val -18020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宾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名词性从句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主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表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宾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同位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429000" y="2514600"/>
            <a:ext cx="3809880" cy="2438280"/>
          </a:xfrm>
          <a:prstGeom prst="leftArrowCallout">
            <a:avLst>
              <a:gd name="adj1" fmla="val 14112"/>
              <a:gd name="adj2" fmla="val 11894"/>
              <a:gd name="adj3" fmla="val 27228"/>
              <a:gd name="adj4" fmla="val 7666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; whos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ich; tha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; whe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ther; how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y;w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676520" y="213372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choose 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>
            <a:hlinkClick r:id="rId1" action="ppaction://hlinksldjump"/>
          </p:cNvPr>
          <p:cNvSpPr/>
          <p:nvPr/>
        </p:nvSpPr>
        <p:spPr>
          <a:xfrm>
            <a:off x="28954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>
            <a:hlinkClick r:id="rId2" action="ppaction://hlinksldjump"/>
          </p:cNvPr>
          <p:cNvSpPr/>
          <p:nvPr/>
        </p:nvSpPr>
        <p:spPr>
          <a:xfrm>
            <a:off x="4572000" y="43434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>
            <a:hlinkClick r:id="rId3" action="ppaction://hlinksldjump"/>
          </p:cNvPr>
          <p:cNvSpPr/>
          <p:nvPr/>
        </p:nvSpPr>
        <p:spPr>
          <a:xfrm>
            <a:off x="6248520" y="29718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>
            <a:hlinkClick r:id="rId4" action="ppaction://hlinksldjump"/>
          </p:cNvPr>
          <p:cNvSpPr/>
          <p:nvPr/>
        </p:nvSpPr>
        <p:spPr>
          <a:xfrm>
            <a:off x="44956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>
            <a:hlinkClick r:id="rId5" action="ppaction://hlinksldjump"/>
          </p:cNvPr>
          <p:cNvSpPr/>
          <p:nvPr/>
        </p:nvSpPr>
        <p:spPr>
          <a:xfrm>
            <a:off x="6248520" y="4267080"/>
            <a:ext cx="838080" cy="83844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>
            <a:hlinkClick r:id="rId6" action="ppaction://hlinksldjump"/>
          </p:cNvPr>
          <p:cNvSpPr/>
          <p:nvPr/>
        </p:nvSpPr>
        <p:spPr>
          <a:xfrm>
            <a:off x="2895480" y="434340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>
            <a:hlinkClick r:id="rId7" action="ppaction://hlinksldjump"/>
          </p:cNvPr>
          <p:cNvSpPr/>
          <p:nvPr/>
        </p:nvSpPr>
        <p:spPr>
          <a:xfrm>
            <a:off x="800100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.  It worried her a bit 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her hair was turning gray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  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. while              B. that  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C. if                     D.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>
            <a:hlinkClick r:id="rId1" action="ppaction://hlinksldjump"/>
          </p:cNvPr>
          <p:cNvSpPr/>
          <p:nvPr/>
        </p:nvSpPr>
        <p:spPr>
          <a:xfrm>
            <a:off x="5181480" y="32004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____ he said at the meeting astonished everybody prese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 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What            B. That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fact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>
            <a:hlinkClick r:id="rId1" action="ppaction://hlinksldjump"/>
          </p:cNvPr>
          <p:cNvSpPr/>
          <p:nvPr/>
        </p:nvSpPr>
        <p:spPr>
          <a:xfrm>
            <a:off x="1905120" y="32767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 _____ you don't like him 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ne of my busines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o 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at   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They have no idea at all 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ere he has gone          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 did he 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which place has he gone  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ich place he has g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>
            <a:hlinkClick r:id="rId1" action="ppaction://hlinksldjump"/>
          </p:cNvPr>
          <p:cNvSpPr/>
          <p:nvPr/>
        </p:nvSpPr>
        <p:spPr>
          <a:xfrm>
            <a:off x="1219320" y="26668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5.  Go and get your coat. It's ____  you  left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there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plac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place w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>
            <a:hlinkClick r:id="rId1" action="ppaction://hlinksldjump"/>
          </p:cNvPr>
          <p:cNvSpPr/>
          <p:nvPr/>
        </p:nvSpPr>
        <p:spPr>
          <a:xfrm>
            <a:off x="1523880" y="373392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200040" y="4495680"/>
            <a:ext cx="4267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elephone directo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irectory%201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1546200" cy="2362320"/>
          </a:xfrm>
          <a:prstGeom prst="rect">
            <a:avLst/>
          </a:prstGeom>
          <a:ln w="0">
            <a:noFill/>
          </a:ln>
        </p:spPr>
      </p:pic>
      <p:pic>
        <p:nvPicPr>
          <p:cNvPr id="176" name="j0300239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1784160" cy="19810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6. They want to know ___ d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help u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 can they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at they c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how they can 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how can th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"/>
              </a:rPr>
              <a:t>Summary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how%20tel%20works2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1828800" cy="13208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1066680" y="3200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working ba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4572000" y="1600200"/>
            <a:ext cx="3962160" cy="2059920"/>
            <a:chOff x="4572000" y="1600200"/>
            <a:chExt cx="3962160" cy="2059920"/>
          </a:xfrm>
        </p:grpSpPr>
        <p:pic>
          <p:nvPicPr>
            <p:cNvPr id="457" name="j0300239" descr=""/>
            <p:cNvPicPr/>
            <p:nvPr/>
          </p:nvPicPr>
          <p:blipFill>
            <a:blip r:embed="rId2"/>
            <a:stretch/>
          </p:blipFill>
          <p:spPr>
            <a:xfrm>
              <a:off x="5333760" y="1600200"/>
              <a:ext cx="178452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4572000" y="320040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648320" y="3733920"/>
            <a:ext cx="3657600" cy="1907280"/>
            <a:chOff x="4648320" y="3733920"/>
            <a:chExt cx="3657600" cy="1907280"/>
          </a:xfrm>
        </p:grpSpPr>
        <p:pic>
          <p:nvPicPr>
            <p:cNvPr id="460" name="j0128353" descr=""/>
            <p:cNvPicPr/>
            <p:nvPr/>
          </p:nvPicPr>
          <p:blipFill>
            <a:blip r:embed="rId3"/>
            <a:stretch/>
          </p:blipFill>
          <p:spPr>
            <a:xfrm>
              <a:off x="5334120" y="3733920"/>
              <a:ext cx="175248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4648320" y="518148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advances in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990720" y="3809880"/>
            <a:ext cx="3352680" cy="1907280"/>
            <a:chOff x="990720" y="3809880"/>
            <a:chExt cx="3352680" cy="1907280"/>
          </a:xfrm>
        </p:grpSpPr>
        <p:grpSp>
          <p:nvGrpSpPr>
            <p:cNvPr id="463" name=""/>
            <p:cNvGrpSpPr/>
            <p:nvPr/>
          </p:nvGrpSpPr>
          <p:grpSpPr>
            <a:xfrm>
              <a:off x="1828800" y="3809880"/>
              <a:ext cx="1752120" cy="1371600"/>
              <a:chOff x="1828800" y="3809880"/>
              <a:chExt cx="1752120" cy="1371600"/>
            </a:xfrm>
          </p:grpSpPr>
          <p:pic>
            <p:nvPicPr>
              <p:cNvPr id="464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2498760" y="380988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5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1828800" y="380988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6" name=""/>
            <p:cNvSpPr/>
            <p:nvPr/>
          </p:nvSpPr>
          <p:spPr>
            <a:xfrm>
              <a:off x="990720" y="525744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he way in which/ (that)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名词从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24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Ex.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25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Ex.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ele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476" name="bell's%201st%20%20box%20phone%20in%201877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2361960" cy="1584360"/>
          </a:xfrm>
          <a:prstGeom prst="rect">
            <a:avLst/>
          </a:prstGeom>
          <a:ln w="0">
            <a:noFill/>
          </a:ln>
        </p:spPr>
      </p:pic>
      <p:pic>
        <p:nvPicPr>
          <p:cNvPr id="477" name="liquid" descr=""/>
          <p:cNvPicPr/>
          <p:nvPr/>
        </p:nvPicPr>
        <p:blipFill>
          <a:blip r:embed="rId2"/>
          <a:stretch/>
        </p:blipFill>
        <p:spPr>
          <a:xfrm>
            <a:off x="2462040" y="1946160"/>
            <a:ext cx="1224000" cy="1981440"/>
          </a:xfrm>
          <a:prstGeom prst="rect">
            <a:avLst/>
          </a:prstGeom>
          <a:ln w="0">
            <a:noFill/>
          </a:ln>
        </p:spPr>
      </p:pic>
      <p:pic>
        <p:nvPicPr>
          <p:cNvPr id="478" name="phone%20gallery1" descr=""/>
          <p:cNvPicPr/>
          <p:nvPr/>
        </p:nvPicPr>
        <p:blipFill>
          <a:blip r:embed="rId3"/>
          <a:stretch/>
        </p:blipFill>
        <p:spPr>
          <a:xfrm>
            <a:off x="5410080" y="3962520"/>
            <a:ext cx="1676520" cy="1981080"/>
          </a:xfrm>
          <a:prstGeom prst="rect">
            <a:avLst/>
          </a:prstGeom>
          <a:ln w="0">
            <a:noFill/>
          </a:ln>
        </p:spPr>
      </p:pic>
      <p:pic>
        <p:nvPicPr>
          <p:cNvPr id="479" name="phone%20handle" descr=""/>
          <p:cNvPicPr/>
          <p:nvPr/>
        </p:nvPicPr>
        <p:blipFill>
          <a:blip r:embed="rId4"/>
          <a:stretch/>
        </p:blipFill>
        <p:spPr>
          <a:xfrm>
            <a:off x="2438280" y="3962520"/>
            <a:ext cx="1274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ele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481" name="old%20tele" descr=""/>
          <p:cNvPicPr/>
          <p:nvPr/>
        </p:nvPicPr>
        <p:blipFill>
          <a:blip r:embed="rId1"/>
          <a:stretch/>
        </p:blipFill>
        <p:spPr>
          <a:xfrm>
            <a:off x="2427120" y="1946160"/>
            <a:ext cx="1295640" cy="1981440"/>
          </a:xfrm>
          <a:prstGeom prst="rect">
            <a:avLst/>
          </a:prstGeom>
          <a:ln w="0">
            <a:noFill/>
          </a:ln>
        </p:spPr>
      </p:pic>
      <p:pic>
        <p:nvPicPr>
          <p:cNvPr id="482" name="ivory_princess" descr=""/>
          <p:cNvPicPr/>
          <p:nvPr/>
        </p:nvPicPr>
        <p:blipFill>
          <a:blip r:embed="rId2"/>
          <a:stretch/>
        </p:blipFill>
        <p:spPr>
          <a:xfrm>
            <a:off x="2057400" y="4343400"/>
            <a:ext cx="2405160" cy="1495440"/>
          </a:xfrm>
          <a:prstGeom prst="rect">
            <a:avLst/>
          </a:prstGeom>
          <a:ln w="0">
            <a:noFill/>
          </a:ln>
        </p:spPr>
      </p:pic>
      <p:pic>
        <p:nvPicPr>
          <p:cNvPr id="483" name="left_" descr=""/>
          <p:cNvPicPr/>
          <p:nvPr/>
        </p:nvPicPr>
        <p:blipFill>
          <a:blip r:embed="rId3"/>
          <a:stretch/>
        </p:blipFill>
        <p:spPr>
          <a:xfrm>
            <a:off x="5105520" y="2023920"/>
            <a:ext cx="1981080" cy="1633680"/>
          </a:xfrm>
          <a:prstGeom prst="rect">
            <a:avLst/>
          </a:prstGeom>
          <a:ln w="0">
            <a:noFill/>
          </a:ln>
        </p:spPr>
      </p:pic>
      <p:pic>
        <p:nvPicPr>
          <p:cNvPr id="484" name="modern%20p2" descr=""/>
          <p:cNvPicPr/>
          <p:nvPr/>
        </p:nvPicPr>
        <p:blipFill>
          <a:blip r:embed="rId4"/>
          <a:stretch/>
        </p:blipFill>
        <p:spPr>
          <a:xfrm>
            <a:off x="5145120" y="4114800"/>
            <a:ext cx="1901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4419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wind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[ waind ]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winding1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2133360" cy="1981080"/>
          </a:xfrm>
          <a:prstGeom prst="rect">
            <a:avLst/>
          </a:prstGeom>
          <a:ln w="0">
            <a:noFill/>
          </a:ln>
        </p:spPr>
      </p:pic>
      <p:pic>
        <p:nvPicPr>
          <p:cNvPr id="180" name="winded%20silk%20thread" descr=""/>
          <p:cNvPicPr/>
          <p:nvPr/>
        </p:nvPicPr>
        <p:blipFill>
          <a:blip r:embed="rId2"/>
          <a:stretch/>
        </p:blipFill>
        <p:spPr>
          <a:xfrm>
            <a:off x="5105520" y="2133720"/>
            <a:ext cx="1295280" cy="1904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3783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andle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handle2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1944720" cy="1981080"/>
          </a:xfrm>
          <a:prstGeom prst="rect">
            <a:avLst/>
          </a:prstGeom>
          <a:ln w="0">
            <a:noFill/>
          </a:ln>
        </p:spPr>
      </p:pic>
      <p:pic>
        <p:nvPicPr>
          <p:cNvPr id="184" name="winding1" descr=""/>
          <p:cNvPicPr/>
          <p:nvPr/>
        </p:nvPicPr>
        <p:blipFill>
          <a:blip r:embed="rId2"/>
          <a:stretch/>
        </p:blipFill>
        <p:spPr>
          <a:xfrm>
            <a:off x="5029200" y="2133720"/>
            <a:ext cx="2133720" cy="1981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H="1" flipV="1">
            <a:off x="4343040" y="3352320"/>
            <a:ext cx="152280" cy="114300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638680" y="3352320"/>
            <a:ext cx="457200" cy="121932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3783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direction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redirect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2514600" cy="23623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8120" y="4343040"/>
            <a:ext cx="3782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rengthen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Strengthen-our-Hands-" descr=""/>
          <p:cNvPicPr/>
          <p:nvPr/>
        </p:nvPicPr>
        <p:blipFill>
          <a:blip r:embed="rId1"/>
          <a:stretch/>
        </p:blipFill>
        <p:spPr>
          <a:xfrm>
            <a:off x="3790800" y="1946160"/>
            <a:ext cx="2529000" cy="19814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2:42:50Z</dcterms:created>
  <dc:creator>any</dc:creator>
  <dc:description/>
  <dc:language>en-US</dc:language>
  <cp:lastModifiedBy>Dell</cp:lastModifiedBy>
  <dcterms:modified xsi:type="dcterms:W3CDTF">2003-06-11T13:14:08Z</dcterms:modified>
  <cp:revision>101</cp:revision>
  <dc:subject/>
  <dc:title>Unit 19 A freedom fighter (continued)</dc:title>
</cp:coreProperties>
</file>