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609-6BF0-4EB3-B0EE-AA327ADC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547-2A9D-4F04-AA63-143499AD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B7A-FAA1-4DE8-8F82-83EF61AD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D18-14B5-489D-9C9E-9C917F02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AA2-D257-49D3-B046-ACA56BF9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71A2-90B7-4F40-9A40-B3A7C40E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966-7452-4A90-8933-49B54793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566-BE71-4F2B-BF74-B7DA651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F6AA-F495-4B17-B6D7-A6E76D9F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B465-4238-4828-A382-8EFAEDB6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D3E2-8750-49F2-BA28-B17D2893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577-5A2F-4D7D-94D7-3A0B64E7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075E-D8B4-440E-80C9-4448058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5F4-EB8E-4C8E-8780-ACA54FC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2A69-3E10-48B9-8374-76869602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9DDB-E6AB-4CE5-B770-6CB2ADAA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E8D0-CB26-40CA-B452-CA2E9A43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F881-F9DE-461B-A9B9-0FD2269A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D32-D647-43FF-8CB3-440E19B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042-FF70-4718-9B8C-3526C3B4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10B-B2CF-45C3-B10D-D1B20D2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7BC-6FC1-4EB7-89E4-FDD8D3E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A079-7D13-456A-93C9-F01D2EE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D9D-6C7C-4FF1-9B40-C3FFE24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14C-BA97-4B2A-800B-FF29A07B3E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11B0-3DE1-4AA5-8CA0-5A161EDE5B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8288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兰州市外国语学校现代技术教学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971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000——200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学年度第二学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BD05219_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.Exercise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’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B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e thr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il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              B           C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T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e 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B       C     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Would you lik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 cak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cu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ang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  B            C             D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Plea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i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i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    B     C       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91440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.Ask and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533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057400"/>
            <a:ext cx="2190600" cy="573120"/>
            <a:chOff x="914400" y="2057400"/>
            <a:chExt cx="2190600" cy="573120"/>
          </a:xfrm>
        </p:grpSpPr>
        <p:pic>
          <p:nvPicPr>
            <p:cNvPr id="180" name="苹果" descr=""/>
            <p:cNvPicPr/>
            <p:nvPr/>
          </p:nvPicPr>
          <p:blipFill>
            <a:blip r:embed="rId1"/>
            <a:stretch/>
          </p:blipFill>
          <p:spPr>
            <a:xfrm>
              <a:off x="9144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苹果" descr=""/>
            <p:cNvPicPr/>
            <p:nvPr/>
          </p:nvPicPr>
          <p:blipFill>
            <a:blip r:embed="rId2"/>
            <a:stretch/>
          </p:blipFill>
          <p:spPr>
            <a:xfrm>
              <a:off x="144792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苹果" descr=""/>
            <p:cNvPicPr/>
            <p:nvPr/>
          </p:nvPicPr>
          <p:blipFill>
            <a:blip r:embed="rId3"/>
            <a:stretch/>
          </p:blipFill>
          <p:spPr>
            <a:xfrm>
              <a:off x="1981080" y="2057400"/>
              <a:ext cx="590760" cy="5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苹果" descr=""/>
            <p:cNvPicPr/>
            <p:nvPr/>
          </p:nvPicPr>
          <p:blipFill>
            <a:blip r:embed="rId4"/>
            <a:stretch/>
          </p:blipFill>
          <p:spPr>
            <a:xfrm>
              <a:off x="2514600" y="2057400"/>
              <a:ext cx="59040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838080" y="4495680"/>
            <a:ext cx="2211480" cy="814680"/>
            <a:chOff x="838080" y="4495680"/>
            <a:chExt cx="2211480" cy="814680"/>
          </a:xfrm>
        </p:grpSpPr>
        <p:pic>
          <p:nvPicPr>
            <p:cNvPr id="185" name="梨" descr=""/>
            <p:cNvPicPr/>
            <p:nvPr/>
          </p:nvPicPr>
          <p:blipFill>
            <a:blip r:embed="rId5"/>
            <a:stretch/>
          </p:blipFill>
          <p:spPr>
            <a:xfrm>
              <a:off x="8380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梨" descr=""/>
            <p:cNvPicPr/>
            <p:nvPr/>
          </p:nvPicPr>
          <p:blipFill>
            <a:blip r:embed="rId6"/>
            <a:stretch/>
          </p:blipFill>
          <p:spPr>
            <a:xfrm>
              <a:off x="137160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梨" descr=""/>
            <p:cNvPicPr/>
            <p:nvPr/>
          </p:nvPicPr>
          <p:blipFill>
            <a:blip r:embed="rId7"/>
            <a:stretch/>
          </p:blipFill>
          <p:spPr>
            <a:xfrm>
              <a:off x="1905120" y="4495680"/>
              <a:ext cx="61092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梨" descr=""/>
            <p:cNvPicPr/>
            <p:nvPr/>
          </p:nvPicPr>
          <p:blipFill>
            <a:blip r:embed="rId8"/>
            <a:stretch/>
          </p:blipFill>
          <p:spPr>
            <a:xfrm>
              <a:off x="2438280" y="4495680"/>
              <a:ext cx="611280" cy="81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3505320" y="1600200"/>
            <a:ext cx="510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pp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41911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o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514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apple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2578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many pears can you se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3276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s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5943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can see fou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.Sentence stres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pear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ba  nana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  te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  apples can you s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  can’t see   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914400"/>
            <a:ext cx="83808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20968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19320" y="213372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54100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47242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27432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3429000"/>
            <a:ext cx="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55627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8120" y="28195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35053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419112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87692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Spelling and pronunciatio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       w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sh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e         s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j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         t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m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9144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AN02131_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2590920" cy="358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743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: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AN02354_" descr=""/>
          <p:cNvPicPr/>
          <p:nvPr/>
        </p:nvPicPr>
        <p:blipFill>
          <a:blip r:embed="rId1"/>
          <a:stretch/>
        </p:blipFill>
        <p:spPr>
          <a:xfrm>
            <a:off x="457200" y="1876320"/>
            <a:ext cx="1981080" cy="39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57400" y="23623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e/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1600200"/>
            <a:ext cx="518184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     l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    m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a    br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    h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ea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Listen and choose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here are Tim and Li Shan ?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t school      B.At Li Shan’ home     C.At Tim’s 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Li Shan wants 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ear          B.an orange                  C.an ap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Tim gives her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piece of bread                  B.two pieces of bread C.three pieces o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.Tim gives Li Shan 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a cup of tea       B.a glass of juice        C.a glass of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64520" y="19051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976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74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6600" y="4952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BD10581_" descr=""/>
          <p:cNvPicPr/>
          <p:nvPr/>
        </p:nvPicPr>
        <p:blipFill>
          <a:blip r:embed="rId1"/>
          <a:srcRect l="58768" t="0" r="0" b="0"/>
          <a:stretch/>
        </p:blipFill>
        <p:spPr>
          <a:xfrm>
            <a:off x="6172200" y="1752480"/>
            <a:ext cx="144936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1143000" y="1981080"/>
            <a:ext cx="2971800" cy="3849840"/>
            <a:chOff x="1143000" y="1981080"/>
            <a:chExt cx="2971800" cy="3849840"/>
          </a:xfrm>
        </p:grpSpPr>
        <p:pic>
          <p:nvPicPr>
            <p:cNvPr id="227" name="PE03752_" descr=""/>
            <p:cNvPicPr/>
            <p:nvPr/>
          </p:nvPicPr>
          <p:blipFill>
            <a:blip r:embed="rId2"/>
            <a:stretch/>
          </p:blipFill>
          <p:spPr>
            <a:xfrm>
              <a:off x="2133720" y="3733920"/>
              <a:ext cx="146988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E03752_" descr=""/>
            <p:cNvPicPr/>
            <p:nvPr/>
          </p:nvPicPr>
          <p:blipFill>
            <a:blip r:embed="rId3"/>
            <a:stretch/>
          </p:blipFill>
          <p:spPr>
            <a:xfrm>
              <a:off x="1143000" y="2362320"/>
              <a:ext cx="139392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BD06858_" descr=""/>
            <p:cNvPicPr/>
            <p:nvPr/>
          </p:nvPicPr>
          <p:blipFill>
            <a:blip r:embed="rId4"/>
            <a:srcRect l="-2117" t="-2044" r="55334" b="0"/>
            <a:stretch/>
          </p:blipFill>
          <p:spPr>
            <a:xfrm>
              <a:off x="2438280" y="1981080"/>
              <a:ext cx="1676520" cy="163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PH02774J" descr=""/>
          <p:cNvPicPr/>
          <p:nvPr/>
        </p:nvPicPr>
        <p:blipFill>
          <a:blip r:embed="rId5"/>
          <a:stretch/>
        </p:blipFill>
        <p:spPr>
          <a:xfrm>
            <a:off x="4038480" y="1066680"/>
            <a:ext cx="2362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Unit 19 Food and drink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Lesson 76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133720"/>
          <a:ext cx="297180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97180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6000" spc="-1" strike="noStrike">
                <a:solidFill>
                  <a:srgbClr val="ffcc66"/>
                </a:solidFill>
                <a:latin typeface="Times New Roman"/>
              </a:rPr>
              <a:t>Daily report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45720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日历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Everyday English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83808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50840" y="2178000"/>
            <a:ext cx="786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breakfa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 for lun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would you li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 supper?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E03478_" descr=""/>
          <p:cNvPicPr/>
          <p:nvPr/>
        </p:nvPicPr>
        <p:blipFill>
          <a:blip r:embed="rId1"/>
          <a:stretch/>
        </p:blipFill>
        <p:spPr>
          <a:xfrm>
            <a:off x="1219320" y="3762360"/>
            <a:ext cx="2438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.Find the food and drink wor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464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3680" y="5987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04920" y="1295280"/>
          <a:ext cx="8534160" cy="4952880"/>
        </p:xfrm>
        <a:graphic>
          <a:graphicData uri="http://schemas.openxmlformats.org/drawingml/2006/table">
            <a:tbl>
              <a:tblPr/>
              <a:tblGrid>
                <a:gridCol w="501480"/>
                <a:gridCol w="503280"/>
                <a:gridCol w="501480"/>
                <a:gridCol w="503280"/>
                <a:gridCol w="500040"/>
                <a:gridCol w="501840"/>
                <a:gridCol w="501480"/>
                <a:gridCol w="503280"/>
                <a:gridCol w="501840"/>
                <a:gridCol w="503280"/>
                <a:gridCol w="501480"/>
                <a:gridCol w="501840"/>
                <a:gridCol w="500040"/>
                <a:gridCol w="503280"/>
                <a:gridCol w="501480"/>
                <a:gridCol w="503280"/>
                <a:gridCol w="501480"/>
              </a:tblGrid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Look and say 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380880"/>
            <a:ext cx="60948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梨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985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847880" y="1905120"/>
            <a:ext cx="2536920" cy="966600"/>
            <a:chOff x="1847880" y="1905120"/>
            <a:chExt cx="2536920" cy="966600"/>
          </a:xfrm>
        </p:grpSpPr>
        <p:pic>
          <p:nvPicPr>
            <p:cNvPr id="136" name="梨" descr=""/>
            <p:cNvPicPr/>
            <p:nvPr/>
          </p:nvPicPr>
          <p:blipFill>
            <a:blip r:embed="rId2"/>
            <a:stretch/>
          </p:blipFill>
          <p:spPr>
            <a:xfrm>
              <a:off x="18478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梨" descr=""/>
            <p:cNvPicPr/>
            <p:nvPr/>
          </p:nvPicPr>
          <p:blipFill>
            <a:blip r:embed="rId3"/>
            <a:stretch/>
          </p:blipFill>
          <p:spPr>
            <a:xfrm>
              <a:off x="243828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梨" descr=""/>
            <p:cNvPicPr/>
            <p:nvPr/>
          </p:nvPicPr>
          <p:blipFill>
            <a:blip r:embed="rId4"/>
            <a:stretch/>
          </p:blipFill>
          <p:spPr>
            <a:xfrm>
              <a:off x="3048120" y="1905120"/>
              <a:ext cx="72684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梨" descr=""/>
            <p:cNvPicPr/>
            <p:nvPr/>
          </p:nvPicPr>
          <p:blipFill>
            <a:blip r:embed="rId5"/>
            <a:stretch/>
          </p:blipFill>
          <p:spPr>
            <a:xfrm>
              <a:off x="3657600" y="1905120"/>
              <a:ext cx="727200" cy="96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苹果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10666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828800" y="3429000"/>
            <a:ext cx="2590920" cy="857160"/>
            <a:chOff x="1828800" y="3429000"/>
            <a:chExt cx="2590920" cy="857160"/>
          </a:xfrm>
        </p:grpSpPr>
        <p:pic>
          <p:nvPicPr>
            <p:cNvPr id="142" name="苹果" descr=""/>
            <p:cNvPicPr/>
            <p:nvPr/>
          </p:nvPicPr>
          <p:blipFill>
            <a:blip r:embed="rId7"/>
            <a:stretch/>
          </p:blipFill>
          <p:spPr>
            <a:xfrm>
              <a:off x="182880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苹果" descr=""/>
            <p:cNvPicPr/>
            <p:nvPr/>
          </p:nvPicPr>
          <p:blipFill>
            <a:blip r:embed="rId8"/>
            <a:stretch/>
          </p:blipFill>
          <p:spPr>
            <a:xfrm>
              <a:off x="266688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苹果" descr=""/>
            <p:cNvPicPr/>
            <p:nvPr/>
          </p:nvPicPr>
          <p:blipFill>
            <a:blip r:embed="rId9"/>
            <a:stretch/>
          </p:blipFill>
          <p:spPr>
            <a:xfrm>
              <a:off x="3505320" y="3429000"/>
              <a:ext cx="9144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香蕉" descr=""/>
          <p:cNvPicPr/>
          <p:nvPr/>
        </p:nvPicPr>
        <p:blipFill>
          <a:blip r:embed="rId10"/>
          <a:stretch/>
        </p:blipFill>
        <p:spPr>
          <a:xfrm>
            <a:off x="228600" y="5029200"/>
            <a:ext cx="1523880" cy="98892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2133720" y="4724280"/>
            <a:ext cx="2286000" cy="1208160"/>
            <a:chOff x="2133720" y="4724280"/>
            <a:chExt cx="2286000" cy="1208160"/>
          </a:xfrm>
        </p:grpSpPr>
        <p:pic>
          <p:nvPicPr>
            <p:cNvPr id="147" name="香蕉" descr=""/>
            <p:cNvPicPr/>
            <p:nvPr/>
          </p:nvPicPr>
          <p:blipFill>
            <a:blip r:embed="rId11"/>
            <a:stretch/>
          </p:blipFill>
          <p:spPr>
            <a:xfrm>
              <a:off x="2133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香蕉" descr=""/>
            <p:cNvPicPr/>
            <p:nvPr/>
          </p:nvPicPr>
          <p:blipFill>
            <a:blip r:embed="rId12"/>
            <a:stretch/>
          </p:blipFill>
          <p:spPr>
            <a:xfrm>
              <a:off x="3276720" y="5257800"/>
              <a:ext cx="114300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香蕉" descr=""/>
            <p:cNvPicPr/>
            <p:nvPr/>
          </p:nvPicPr>
          <p:blipFill>
            <a:blip r:embed="rId13"/>
            <a:stretch/>
          </p:blipFill>
          <p:spPr>
            <a:xfrm>
              <a:off x="2743200" y="4724280"/>
              <a:ext cx="114300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4786920" y="2124000"/>
            <a:ext cx="10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7160" y="21337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p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85840" y="3571920"/>
            <a:ext cx="13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30120" y="3657600"/>
            <a:ext cx="192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62520" y="524844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n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120" y="5257800"/>
            <a:ext cx="21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ban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0" y="990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209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5053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lass of 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4952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茶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2" name="咖啡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163" name="水" descr=""/>
          <p:cNvPicPr/>
          <p:nvPr/>
        </p:nvPicPr>
        <p:blipFill>
          <a:blip r:embed="rId3"/>
          <a:stretch/>
        </p:blipFill>
        <p:spPr>
          <a:xfrm>
            <a:off x="3886200" y="2895480"/>
            <a:ext cx="129528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水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1295640" cy="1905120"/>
          </a:xfrm>
          <a:prstGeom prst="rect">
            <a:avLst/>
          </a:prstGeom>
          <a:ln w="0">
            <a:noFill/>
          </a:ln>
        </p:spPr>
      </p:pic>
      <p:pic>
        <p:nvPicPr>
          <p:cNvPr id="165" name="PE03553_" descr=""/>
          <p:cNvPicPr/>
          <p:nvPr/>
        </p:nvPicPr>
        <p:blipFill>
          <a:blip r:embed="rId5"/>
          <a:stretch/>
        </p:blipFill>
        <p:spPr>
          <a:xfrm>
            <a:off x="685800" y="3200400"/>
            <a:ext cx="198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/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定冠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数名词单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a pear     a bottle      an 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water      a cup of t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形容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可数名词复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不可数名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ome pears         some ap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water           some tea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1440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BD04915_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不可数名词量的表达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修饰不可数名词。表示量的多少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tea,some bread,some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数量词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+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可数名词，表示具体的量。常用的词有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p,glass,bottle,pie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bottle of orang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pieces of m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83808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4915_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1600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14:45:33Z</dcterms:created>
  <dc:creator>dd</dc:creator>
  <dc:description/>
  <dc:language>en-US</dc:language>
  <cp:lastModifiedBy>jinke</cp:lastModifiedBy>
  <dcterms:modified xsi:type="dcterms:W3CDTF">2001-03-27T06:01:30Z</dcterms:modified>
  <cp:revision>25</cp:revision>
  <dc:subject/>
  <dc:title>Unit 19 Food and drink</dc:title>
</cp:coreProperties>
</file>