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3.wmf" ContentType="image/x-wmf"/>
  <Override PartName="/ppt/media/image20.gif" ContentType="image/gif"/>
  <Override PartName="/ppt/media/image22.wmf" ContentType="image/x-wmf"/>
  <Override PartName="/ppt/media/image2.gif" ContentType="image/gi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5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7E5-0577-4B49-AED4-7D362527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3FD-5EF8-41DE-860A-D31460A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8EF-1C42-4779-AB94-DAA4E853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87C-CEB4-4D28-A735-F01E0560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E77E-515D-4DF1-8611-F0990D44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B790-76A0-4D57-86CD-9D8AA2C7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5FA3-5210-4F2F-B29F-BCF22973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986C-BA3F-41EB-A3A8-55744BD6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EB51-AF70-4A36-B007-2FA9A3DF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B30C-1FD9-4DF4-B315-D2BD590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FD9A-3E08-480A-97BB-4BADA44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F65-0671-4977-96C4-B1A5F366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8DDE-DD45-4F26-BCD0-BBE327B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23C1-61B0-42CB-B1D5-6852E9C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1A29-22F6-486C-AE5B-EC6CE913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7EAB-9F3F-4847-9662-2949DE6C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0A98-C014-46CF-A390-A7F0C542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C1F-E0DC-439A-80EC-2B5ACE01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CD4-FBB9-490B-9693-55438D7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E91-75F3-4298-A5C6-05B4602F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5F4-C454-42B6-BBA2-2A6D7E42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02E-1C78-40F8-B7A6-BB31A7F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DBE-A63E-4F3D-ADBD-FCA3CE7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DE9-C3F1-4FFB-80D9-921570B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4751-54A8-4C0C-8288-023CCDF37EB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82C-8D14-48D9-B949-1ED37DD167B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04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467840" cy="439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514600" y="685800"/>
            <a:ext cx="4915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16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un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windy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rai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039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5" name="039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6" name="NA01468_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458964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: What’s  the weather like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B:It’s…                                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iny        snow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nny         win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BD19563_" descr=""/>
          <p:cNvPicPr/>
          <p:nvPr/>
        </p:nvPicPr>
        <p:blipFill>
          <a:blip r:embed="rId1"/>
          <a:stretch/>
        </p:blipFill>
        <p:spPr>
          <a:xfrm flipH="1" rot="10800000">
            <a:off x="1143000" y="251460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l152" descr=""/>
          <p:cNvPicPr/>
          <p:nvPr/>
        </p:nvPicPr>
        <p:blipFill>
          <a:blip r:embed="rId1"/>
          <a:stretch/>
        </p:blipFill>
        <p:spPr>
          <a:xfrm>
            <a:off x="1339920" y="1143000"/>
            <a:ext cx="7651800" cy="512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629400" y="259092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41148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Wu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648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ngh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9920" y="761760"/>
            <a:ext cx="7804080" cy="5514840"/>
          </a:xfrm>
          <a:prstGeom prst="rect">
            <a:avLst/>
          </a:prstGeom>
          <a:ln w="0">
            <a:noFill/>
          </a:ln>
        </p:spPr>
      </p:pic>
      <p:pic>
        <p:nvPicPr>
          <p:cNvPr id="145" name="l151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(1) ——— the weather like today ?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It’s __________ 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400" y="320040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indy         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039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76520" y="2286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windy1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35268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What’s ____ weather like today?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6880" y="3657600"/>
            <a:ext cx="18288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in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039" descr=""/>
          <p:cNvPicPr/>
          <p:nvPr/>
        </p:nvPicPr>
        <p:blipFill>
          <a:blip r:embed="rId1"/>
          <a:stretch/>
        </p:blipFill>
        <p:spPr>
          <a:xfrm>
            <a:off x="6095880" y="464832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33920" y="2438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NA01682_" descr=""/>
          <p:cNvPicPr/>
          <p:nvPr/>
        </p:nvPicPr>
        <p:blipFill>
          <a:blip r:embed="rId2"/>
          <a:stretch/>
        </p:blipFill>
        <p:spPr>
          <a:xfrm>
            <a:off x="2895480" y="0"/>
            <a:ext cx="335304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6201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3)What’s  the ________like 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_ .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320040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039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2438280"/>
            <a:ext cx="222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DD00297_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124080" cy="13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4)What’s the weather                     ____  today 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 . 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720" y="3276720"/>
            <a:ext cx="3047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039" descr=""/>
          <p:cNvPicPr/>
          <p:nvPr/>
        </p:nvPicPr>
        <p:blipFill>
          <a:blip r:embed="rId1"/>
          <a:stretch/>
        </p:blipFill>
        <p:spPr>
          <a:xfrm>
            <a:off x="5715000" y="541008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066680" y="28954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E00542_" descr=""/>
          <p:cNvPicPr/>
          <p:nvPr/>
        </p:nvPicPr>
        <p:blipFill>
          <a:blip r:embed="rId2"/>
          <a:stretch/>
        </p:blipFill>
        <p:spPr>
          <a:xfrm>
            <a:off x="2819520" y="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848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5)What’s the weather like ______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9320" y="35053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039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66680" y="30481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NA01680_" descr=""/>
          <p:cNvPicPr/>
          <p:nvPr/>
        </p:nvPicPr>
        <p:blipFill>
          <a:blip r:embed="rId2"/>
          <a:stretch/>
        </p:blipFill>
        <p:spPr>
          <a:xfrm>
            <a:off x="3048120" y="609480"/>
            <a:ext cx="32763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175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176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177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029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sion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 现在是几点钟？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---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四点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现在是差五分六点钟， 该吃晚饭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今天是星期几？星期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71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ime is it now? It’s four o’c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657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five to six. It’s time for su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800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ay is it today? It’s Thur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39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08" name="SO00820_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1819080" cy="1346400"/>
          </a:xfrm>
          <a:prstGeom prst="rect">
            <a:avLst/>
          </a:prstGeom>
          <a:ln w="0">
            <a:noFill/>
          </a:ln>
        </p:spPr>
      </p:pic>
      <p:pic>
        <p:nvPicPr>
          <p:cNvPr id="109" name="NA00042_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465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Lesson</a:t>
            </a:r>
            <a:r>
              <a:rPr b="0" lang="zh-CN" sz="4400" spc="-1" strike="noStrike">
                <a:solidFill>
                  <a:srgbClr val="ffcf01"/>
                </a:solidFill>
                <a:latin typeface="Tahoma"/>
              </a:rPr>
              <a:t>15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What’s the weather                      like toda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335268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BL00526_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sun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0040" y="2091960"/>
            <a:ext cx="51120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today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t’s  sunny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NA01064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0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3333cc"/>
                </a:solidFill>
                <a:latin typeface="Tahoma"/>
              </a:rPr>
              <a:t>rai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rain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NA01682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宋体"/>
              </a:rPr>
              <a:t>        </a:t>
            </a:r>
            <a:r>
              <a:rPr b="1" i="1" lang="en-US" sz="6600" spc="-1" strike="noStrike">
                <a:solidFill>
                  <a:srgbClr val="ffffff"/>
                </a:solidFill>
                <a:latin typeface="宋体"/>
              </a:rPr>
              <a:t>snow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snow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SO00257_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oud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t’s cloud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NA01680_" descr=""/>
          <p:cNvPicPr/>
          <p:nvPr/>
        </p:nvPicPr>
        <p:blipFill>
          <a:blip r:embed="rId1"/>
          <a:stretch/>
        </p:blipFill>
        <p:spPr>
          <a:xfrm>
            <a:off x="-228600" y="279072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-481320"/>
            <a:ext cx="816300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ff99ff"/>
                </a:solidFill>
                <a:latin typeface="Tahoma"/>
              </a:rPr>
              <a:t>windy  </a:t>
            </a:r>
            <a:br>
              <a:rPr sz="6600"/>
            </a:b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05080" y="2091960"/>
            <a:ext cx="4746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t’s  windy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ew word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fteen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039" descr=""/>
          <p:cNvPicPr/>
          <p:nvPr/>
        </p:nvPicPr>
        <p:blipFill>
          <a:blip r:embed="rId1"/>
          <a:stretch/>
        </p:blipFill>
        <p:spPr>
          <a:xfrm>
            <a:off x="5715000" y="51055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1" name="NA00433_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827440" cy="349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4:21:15Z</dcterms:created>
  <dc:creator>jxh</dc:creator>
  <dc:description/>
  <dc:language>en-US</dc:language>
  <cp:lastModifiedBy>jxh</cp:lastModifiedBy>
  <dcterms:modified xsi:type="dcterms:W3CDTF">2002-05-12T13:01:51Z</dcterms:modified>
  <cp:revision>56</cp:revision>
  <dc:subject/>
  <dc:title>Teaching design of Lesson 15 (Book I)</dc:title>
</cp:coreProperties>
</file>