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0.gif" ContentType="image/gif"/>
  <Override PartName="/ppt/media/image22.wmf" ContentType="image/x-wmf"/>
  <Override PartName="/ppt/media/image2.gif" ContentType="image/gi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5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87C-D496-4B5A-BB89-76CA8E4C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47F-6E8B-4A11-9D7F-6F62ACD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65A-291C-4C41-B047-EAA7130F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A85-3ECF-457D-85A4-F44E1929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5156-AC23-46A0-895F-AEBD45C4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2A3-C084-45C0-A5D0-3EF77FAD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FDCC-488D-4EE0-9897-B0F0EE0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39B4-A6A3-42A2-AFD0-2675DA7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5A13-0215-41E2-82D9-493F0BD1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F3B0-BA7A-4B87-A23E-3BB8E643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C892-2A93-49DC-9244-B726175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4D9-B4FC-438F-B566-02F7B49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03B6-C15B-4BE8-8FC1-EB84C75E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523F-9E24-492F-B6E2-18574E8D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213A-7C9B-440E-B429-C83D274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C3D7-D3B4-4BBD-9D1B-7CC9583A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646A-DF14-4C74-B602-3B279E73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40D-804D-429B-8D45-4878D494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D2E-D4C4-47FA-A51F-56EAFC39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CA6-0C7B-455A-AAA4-13DB4C0E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D4F-9569-4DEB-B009-1E7D284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046-12A0-496B-8721-7E3DAD7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A5D-F404-45CB-BA8E-B6DD294A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454-8537-408B-B2CA-BDE7DB1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1B76-1EF4-45E4-9E87-1C216DC971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3341-9070-45B4-838F-5168008A985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04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467840" cy="439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14600" y="685800"/>
            <a:ext cx="4915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16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un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windy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rai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039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5" name="039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6" name="NA01468_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458964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: What’s  the weather like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B:It’s…                               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iny        snow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nny         win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BD19563_" descr=""/>
          <p:cNvPicPr/>
          <p:nvPr/>
        </p:nvPicPr>
        <p:blipFill>
          <a:blip r:embed="rId1"/>
          <a:stretch/>
        </p:blipFill>
        <p:spPr>
          <a:xfrm flipH="1" rot="10800000">
            <a:off x="1143000" y="251460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l152" descr=""/>
          <p:cNvPicPr/>
          <p:nvPr/>
        </p:nvPicPr>
        <p:blipFill>
          <a:blip r:embed="rId1"/>
          <a:stretch/>
        </p:blipFill>
        <p:spPr>
          <a:xfrm>
            <a:off x="1339920" y="1143000"/>
            <a:ext cx="7651800" cy="512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29400" y="259092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114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Wu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648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ngh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9920" y="761760"/>
            <a:ext cx="7804080" cy="5514840"/>
          </a:xfrm>
          <a:prstGeom prst="rect">
            <a:avLst/>
          </a:prstGeom>
          <a:ln w="0">
            <a:noFill/>
          </a:ln>
        </p:spPr>
      </p:pic>
      <p:pic>
        <p:nvPicPr>
          <p:cNvPr id="145" name="l151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(1) ——— the weather like today ?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It’s __________ 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400" y="32004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ndy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039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65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windy1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What’s ____ weather like today?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6880" y="3657600"/>
            <a:ext cx="18288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n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039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2438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A01682_" descr=""/>
          <p:cNvPicPr/>
          <p:nvPr/>
        </p:nvPicPr>
        <p:blipFill>
          <a:blip r:embed="rId2"/>
          <a:stretch/>
        </p:blipFill>
        <p:spPr>
          <a:xfrm>
            <a:off x="2895480" y="0"/>
            <a:ext cx="335304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6201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3)What’s  the ________like 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_ .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320040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039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2438280"/>
            <a:ext cx="22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DD00297_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12408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4)What’s the weather                     ____  today 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 . 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720" y="3276720"/>
            <a:ext cx="3047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039" descr=""/>
          <p:cNvPicPr/>
          <p:nvPr/>
        </p:nvPicPr>
        <p:blipFill>
          <a:blip r:embed="rId1"/>
          <a:stretch/>
        </p:blipFill>
        <p:spPr>
          <a:xfrm>
            <a:off x="5715000" y="541008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66680" y="28954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E00542_" descr=""/>
          <p:cNvPicPr/>
          <p:nvPr/>
        </p:nvPicPr>
        <p:blipFill>
          <a:blip r:embed="rId2"/>
          <a:stretch/>
        </p:blipFill>
        <p:spPr>
          <a:xfrm>
            <a:off x="2819520" y="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848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5)What’s the weather like ______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320" y="35053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039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66680" y="30481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NA01680_" descr=""/>
          <p:cNvPicPr/>
          <p:nvPr/>
        </p:nvPicPr>
        <p:blipFill>
          <a:blip r:embed="rId2"/>
          <a:stretch/>
        </p:blipFill>
        <p:spPr>
          <a:xfrm>
            <a:off x="3048120" y="609480"/>
            <a:ext cx="32763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175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177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029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sion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 现在是几点钟？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点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现在是差五分六点钟， 该吃晚饭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今天是星期几？星期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71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ime is it now? It’s four o’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657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five to six. It’s time for su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800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ay is it today? It’s Thur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39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08" name="SO00820_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1819080" cy="1346400"/>
          </a:xfrm>
          <a:prstGeom prst="rect">
            <a:avLst/>
          </a:prstGeom>
          <a:ln w="0">
            <a:noFill/>
          </a:ln>
        </p:spPr>
      </p:pic>
      <p:pic>
        <p:nvPicPr>
          <p:cNvPr id="109" name="NA00042_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65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Lesson</a:t>
            </a:r>
            <a:r>
              <a:rPr b="0" lang="zh-CN" sz="4400" spc="-1" strike="noStrike">
                <a:solidFill>
                  <a:srgbClr val="ffcf01"/>
                </a:solidFill>
                <a:latin typeface="Tahoma"/>
              </a:rPr>
              <a:t>15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What’s the weather                      like toda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33526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BL00526_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sun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0040" y="2091960"/>
            <a:ext cx="51120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today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t’s  sunny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NA01064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0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3333cc"/>
                </a:solidFill>
                <a:latin typeface="Tahoma"/>
              </a:rPr>
              <a:t>rai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rain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NA01682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宋体"/>
              </a:rPr>
              <a:t>        </a:t>
            </a:r>
            <a:r>
              <a:rPr b="1" i="1" lang="en-US" sz="6600" spc="-1" strike="noStrike">
                <a:solidFill>
                  <a:srgbClr val="ffffff"/>
                </a:solidFill>
                <a:latin typeface="宋体"/>
              </a:rPr>
              <a:t>snow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snow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SO00257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oud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’s cloud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NA01680_" descr=""/>
          <p:cNvPicPr/>
          <p:nvPr/>
        </p:nvPicPr>
        <p:blipFill>
          <a:blip r:embed="rId1"/>
          <a:stretch/>
        </p:blipFill>
        <p:spPr>
          <a:xfrm>
            <a:off x="-228600" y="279072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-481320"/>
            <a:ext cx="816300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ff99ff"/>
                </a:solidFill>
                <a:latin typeface="Tahoma"/>
              </a:rPr>
              <a:t>windy  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05080" y="2091960"/>
            <a:ext cx="4746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t’s  windy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w word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ftee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039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1" name="NA00433_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827440" cy="349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4:21:15Z</dcterms:created>
  <dc:creator>jxh</dc:creator>
  <dc:description/>
  <dc:language>en-US</dc:language>
  <cp:lastModifiedBy>jxh</cp:lastModifiedBy>
  <dcterms:modified xsi:type="dcterms:W3CDTF">2002-05-12T13:01:51Z</dcterms:modified>
  <cp:revision>56</cp:revision>
  <dc:subject/>
  <dc:title>Teaching design of Lesson 15 (Book I)</dc:title>
</cp:coreProperties>
</file>