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131-52A6-41BA-9E3F-D66BBEEA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445A-1875-43A4-9DEC-9308980C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141-934A-4581-A3FE-B7FF1F5B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43B6-D3BB-4778-870E-C311AB33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B70E-6229-4FB6-981F-44EB2240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9664-69C4-4766-A738-B2699866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358C-AD61-43D0-AAD5-D13E6FF2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3AAC-C0A9-4B1F-9A13-B983D96F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F586-748B-4BAF-B001-12F3CE57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FA75-E079-464C-9095-CDE8407A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C11B-815F-452B-9224-93E4D76D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B2D-4D22-45BF-BE4C-280D52F4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519B-4A73-46BA-92C5-FF1DAF34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34C0-9CA9-498A-9123-A46C2B95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F288-81E7-457B-97E2-490E0A2F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5D7F-3FDE-475D-A55A-5A4B90BE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E606-EE66-46C4-807A-7B875822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DF7-BA7D-4909-8CD5-DC6C9BAC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755-EFA2-4661-9CDB-B3139CE9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B9B-287F-49E3-AFE3-D1C8A2C9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5B4-F119-4041-A758-2993B278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2652-291E-4919-B6C7-11BDD671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38E-BBED-4A18-8E18-32427244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C04-204A-4F51-9A3D-2EDFE2F2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0ADA-AE41-4C70-9974-BEB1680C5419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0621-C205-4C0F-9567-3D49A90D000D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1413000"/>
            <a:ext cx="8893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Lesson14   Dress and H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制作人：黄芳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　　　　　　</a:t>
            </a: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2006</a:t>
            </a: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年</a:t>
            </a: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9</a:t>
            </a: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Homewor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  Learn  the  words  and  expressions by  hear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2   Finish  off  the  exercises  of  activity book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343400" y="1523880"/>
            <a:ext cx="297180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 you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4843440" cy="1841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Teaching aims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0773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tudy some new wor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dress  coat   hat  big  small  whose  too  se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Tahoma"/>
                <a:hlinkClick r:id="rId2" action="ppaction://hlinksldjump"/>
              </a:rPr>
              <a:t>Useful   ex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hat  is  it ?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s  it  big or  small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hose  hat /dress / coat is this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t’s  too  small /big  for 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3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          </a:t>
            </a:r>
            <a:r>
              <a:rPr b="1" lang="en-US" sz="5400" spc="-1" strike="noStrike">
                <a:solidFill>
                  <a:srgbClr val="ff3300"/>
                </a:solidFill>
                <a:latin typeface="Tahoma"/>
              </a:rPr>
              <a:t>What  is  it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 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47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4724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D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843280" y="3500280"/>
            <a:ext cx="6300720" cy="3357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843280" y="0"/>
            <a:ext cx="6300720" cy="3500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292720" y="2708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544500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co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5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2414520" cy="496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780000" y="1268280"/>
            <a:ext cx="2232000" cy="3240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9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   big    d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64000" y="4797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a    small   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93080" y="69228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882800">
            <a:off x="6534360" y="-263160"/>
            <a:ext cx="1078200" cy="2413080"/>
          </a:xfrm>
          <a:prstGeom prst="cloudCallout">
            <a:avLst>
              <a:gd name="adj1" fmla="val -46254"/>
              <a:gd name="adj2" fmla="val 6987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s it  big or sma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956720" y="1989000"/>
            <a:ext cx="936360" cy="1152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4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ose______is   this  ?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4000" spc="-1" strike="noStrike">
                <a:solidFill>
                  <a:srgbClr val="ff3300"/>
                </a:solidFill>
                <a:latin typeface="Tahoma"/>
              </a:rPr>
              <a:t>Ms.  Liu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:  Whose   hat  is  this  ? Is  this  your  hat ,  Danny 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4000" spc="-1" strike="noStrike">
                <a:solidFill>
                  <a:srgbClr val="66ff66"/>
                </a:solidFill>
                <a:latin typeface="Tahoma"/>
              </a:rPr>
              <a:t>Danny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  No, Ms. Liu .  It’s  too big /small   for   me.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2233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Ms  Li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Whose  dress  is  this ?  Is this  you  dress ,  Danny 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ann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No! It’s  too  small  for  me 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Ms  Li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: Yes, Danny.  I  see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443640" y="4437000"/>
            <a:ext cx="2521080" cy="2206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华文新魏"/>
              </a:rPr>
              <a:t>Ⅰ</a:t>
            </a: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华文新魏"/>
              </a:rPr>
              <a:t>翻译下面短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一件新毛衣　　　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　一件旧衬衣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3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一个大苹果　　　　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4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　一条小裙子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5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一只红帽子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　　　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356000" y="19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a   new  sw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67280" y="2781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an  old   shi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95640" y="2997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3357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a   big    ap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5280" y="4076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a   small    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7242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ahoma"/>
              </a:rPr>
              <a:t>a   red   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Ⅱ </a:t>
            </a: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做对话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 a  dialogue  by  using  “hat  / dress / coat 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 the  dialogue they  mak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03:42:52Z</dcterms:created>
  <dc:creator>slq</dc:creator>
  <dc:description/>
  <dc:language>en-US</dc:language>
  <cp:lastModifiedBy>slq</cp:lastModifiedBy>
  <dcterms:modified xsi:type="dcterms:W3CDTF">2006-09-03T08:09:11Z</dcterms:modified>
  <cp:revision>2</cp:revision>
  <dc:subject/>
  <dc:title>Lesson14   Dress and Hat</dc:title>
</cp:coreProperties>
</file>