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9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9D5-A8DA-4D04-904D-73C81BDE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0F8-AEA3-4CEC-BB3A-AFCB5B05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747-9C11-42E9-B846-EA3737CE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F2B-2EA2-4BF3-9C31-4B18E310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B2B3-2EFF-4D06-A547-A1269361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888F-A7AB-4CF1-9CC8-0F85F063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D8B5-E49F-4192-BC4B-20CB080A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818A-EA2B-405A-9C9C-57B9454E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6CE6-B1B1-455A-9EB2-A7B5DD0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D108-FBA7-4645-B34A-717A713E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B4C7-EA6F-43C3-813D-06E73622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2C6-2C6E-41B9-94AC-0A785B88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6CC0-18C9-445E-A418-862AC5E5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9890-7A5C-45B2-90F4-21D3DF3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5384-8995-445D-A2A2-D681FEFD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F887-708F-40FB-A9E5-BA7265B5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7F6B-452D-4368-910A-155CA85A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E94-3C5F-4744-ADE5-1E1018DE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6F1-03FD-41CB-B1A3-A1A7B39F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396-E5ED-40F2-916E-E6DAF9F8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3C8-D64C-4654-974F-BB1884F2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71F-544E-47F1-A75D-DB38E529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55E-7F98-4914-88E3-CAA3C1AD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C9E-7886-4E79-A71E-8E793431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17A9-79D2-4CAA-A1AF-DC3F9ED324D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CF79-0CF6-4FF8-A865-4D5BC12CB4D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telephoneart.com/fonpic/lotsofbuts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telephoneart.com/fonpic/key-phone.jpg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hyperlink" Target="http://www.telephoneart.com/cell/yelcell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phone196.gif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slide" Target="slide47.xml"/><Relationship Id="rId6" Type="http://schemas.openxmlformats.org/officeDocument/2006/relationships/image" Target="../media/image26.jpeg"/><Relationship Id="rId7" Type="http://schemas.openxmlformats.org/officeDocument/2006/relationships/image" Target="../media/image20.jpeg"/><Relationship Id="rId8" Type="http://schemas.openxmlformats.org/officeDocument/2006/relationships/image" Target="../media/image27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blueline.gif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she is. Would yo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1______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Yes, ple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__2______. I’ll go 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get 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352680"/>
            <a:ext cx="609840" cy="581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8" name="TN_phone99348" descr="phone99348.gif"/>
          <p:cNvPicPr/>
          <p:nvPr/>
        </p:nvPicPr>
        <p:blipFill>
          <a:blip r:embed="rId3"/>
          <a:stretch/>
        </p:blipFill>
        <p:spPr>
          <a:xfrm>
            <a:off x="1066680" y="1905120"/>
            <a:ext cx="685800" cy="598320"/>
          </a:xfrm>
          <a:prstGeom prst="rect">
            <a:avLst/>
          </a:prstGeom>
          <a:ln w="0">
            <a:noFill/>
          </a:ln>
        </p:spPr>
      </p:pic>
      <p:pic>
        <p:nvPicPr>
          <p:cNvPr id="239" name="TN_phone99348" descr="phone99348.gif"/>
          <p:cNvPicPr/>
          <p:nvPr/>
        </p:nvPicPr>
        <p:blipFill>
          <a:blip r:embed="rId4"/>
          <a:stretch/>
        </p:blipFill>
        <p:spPr>
          <a:xfrm>
            <a:off x="1066680" y="4267080"/>
            <a:ext cx="6858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. I called to ask you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if you’d like to come to a lecture on Thursday evening at the college. It’s about the universe. The speaker’s__3__ to be excell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76520"/>
            <a:ext cx="762120" cy="731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: Just a minute. I’ll see i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I’m free. No, I’m not. I’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already   got somet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___4___ that eve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woman+phone,pci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62120" cy="7063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 pity! Never mind.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must get together so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ther time for a ___5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Yes, good ide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woman+phone,pci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61760" cy="706680"/>
          </a:xfrm>
          <a:prstGeom prst="rect">
            <a:avLst/>
          </a:prstGeom>
          <a:ln w="0">
            <a:noFill/>
          </a:ln>
        </p:spPr>
      </p:pic>
      <p:pic>
        <p:nvPicPr>
          <p:cNvPr id="248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05740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’ll have to go 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Someone wants to u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the phone. All the b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Bye.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woman+phone,pci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61760" cy="706320"/>
          </a:xfrm>
          <a:prstGeom prst="rect">
            <a:avLst/>
          </a:prstGeom>
          <a:ln w="0">
            <a:noFill/>
          </a:ln>
        </p:spPr>
      </p:pic>
      <p:pic>
        <p:nvPicPr>
          <p:cNvPr id="252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’s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429000"/>
            <a:ext cx="6553080" cy="1905120"/>
          </a:xfrm>
          <a:prstGeom prst="wedgeRectCallout">
            <a:avLst>
              <a:gd name="adj1" fmla="val 21513"/>
              <a:gd name="adj2" fmla="val -94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to speak to her?/ Would you like to have a word / a few words with her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 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Is Tom in? I’d like to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have  a word / a few words with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him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Cf.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I heard that they </a:t>
            </a:r>
            <a:r>
              <a:rPr b="1" i="1" lang="en-US" sz="4000" spc="-1" strike="noStrike">
                <a:solidFill>
                  <a:srgbClr val="00ff00"/>
                </a:solidFill>
                <a:latin typeface="Times New Roman"/>
              </a:rPr>
              <a:t>had words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3429000"/>
            <a:ext cx="4343400" cy="914400"/>
          </a:xfrm>
          <a:prstGeom prst="wedgeRectCallout">
            <a:avLst>
              <a:gd name="adj1" fmla="val -28361"/>
              <a:gd name="adj2" fmla="val -14948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Telephones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514600" y="2209680"/>
            <a:ext cx="4177800" cy="1676520"/>
            <a:chOff x="2514600" y="2209680"/>
            <a:chExt cx="4177800" cy="1676520"/>
          </a:xfrm>
        </p:grpSpPr>
        <p:pic>
          <p:nvPicPr>
            <p:cNvPr id="160" name="old%20tele" descr=""/>
            <p:cNvPicPr/>
            <p:nvPr/>
          </p:nvPicPr>
          <p:blipFill>
            <a:blip r:embed="rId1"/>
            <a:stretch/>
          </p:blipFill>
          <p:spPr>
            <a:xfrm>
              <a:off x="2514600" y="2209680"/>
              <a:ext cx="12412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hone4,%20pic" descr=""/>
            <p:cNvPicPr/>
            <p:nvPr/>
          </p:nvPicPr>
          <p:blipFill>
            <a:blip r:embed="rId2"/>
            <a:stretch/>
          </p:blipFill>
          <p:spPr>
            <a:xfrm>
              <a:off x="3733560" y="2209680"/>
              <a:ext cx="13712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tele3,pic" descr=""/>
            <p:cNvPicPr/>
            <p:nvPr/>
          </p:nvPicPr>
          <p:blipFill>
            <a:blip r:embed="rId3"/>
            <a:stretch/>
          </p:blipFill>
          <p:spPr>
            <a:xfrm>
              <a:off x="5105160" y="2209680"/>
              <a:ext cx="158724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4114800"/>
            <a:ext cx="5715000" cy="1219320"/>
            <a:chOff x="1752480" y="4114800"/>
            <a:chExt cx="5715000" cy="1219320"/>
          </a:xfrm>
        </p:grpSpPr>
        <p:pic>
          <p:nvPicPr>
            <p:cNvPr id="168" name="TN_lotsofbuts" descr="lotsofbuts.jp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752480" y="4114800"/>
              <a:ext cx="1295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N_key-phone" descr="key-phone.jpg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276720" y="411480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cordless-telephone-ge-intact2" descr=""/>
            <p:cNvPicPr/>
            <p:nvPr/>
          </p:nvPicPr>
          <p:blipFill>
            <a:blip r:embed="rId8"/>
            <a:stretch/>
          </p:blipFill>
          <p:spPr>
            <a:xfrm>
              <a:off x="4724280" y="41148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TN_yelcell" descr="yelcell.jpg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248520" y="411480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Hold 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a minute. I’ll just  get a pe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continue in spite of difficul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y and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until help arr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’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 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809880"/>
            <a:ext cx="5029200" cy="914400"/>
          </a:xfrm>
          <a:prstGeom prst="wedgeRectCallout">
            <a:avLst>
              <a:gd name="adj1" fmla="val 9027"/>
              <a:gd name="adj2" fmla="val -2012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be believed/  th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is supposed to be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the best student in our clas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s she’s not here, I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suppose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ust have gone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be supposed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--- sh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re not supposed 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smoke here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3733920"/>
            <a:ext cx="5867280" cy="1523880"/>
          </a:xfrm>
          <a:prstGeom prst="wedgeRectCallout">
            <a:avLst>
              <a:gd name="adj1" fmla="val 51134"/>
              <a:gd name="adj2" fmla="val -12854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of something) happening or going to happ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here’s a new film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 at the cinem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I’ve nothing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onight, so let’s go ou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809880"/>
            <a:ext cx="7086600" cy="838440"/>
          </a:xfrm>
          <a:prstGeom prst="wedgeRectCallout">
            <a:avLst>
              <a:gd name="adj1" fmla="val 15143"/>
              <a:gd name="adj2" fmla="val -14583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 an informal convers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 had a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chat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ith Mary about the movie last nigh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esson 89   Dialogue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 know how to use some words &amp; 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improve our telephoning ski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---to talk in a friend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r informal mann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fter supper, the neighbors ofte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tt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rrily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to say when telephon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2" name="TN_phone196" descr="phone19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590920"/>
            <a:ext cx="2209680" cy="2081160"/>
          </a:xfrm>
          <a:prstGeom prst="rect">
            <a:avLst/>
          </a:prstGeom>
          <a:ln w="0">
            <a:noFill/>
          </a:ln>
        </p:spPr>
      </p:pic>
      <p:pic>
        <p:nvPicPr>
          <p:cNvPr id="293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590920"/>
            <a:ext cx="21333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143000" y="1143000"/>
          <a:ext cx="6934320" cy="457200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ing yoursel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o speak to somebod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8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who the caller 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elling the caller that someone is not availab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aking a mess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he caller to wait on the lin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4191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7620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4191120" y="3962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7620120" y="3962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4" action="ppaction://hlinksldjump"/>
          </p:cNvPr>
          <p:cNvSpPr/>
          <p:nvPr/>
        </p:nvSpPr>
        <p:spPr>
          <a:xfrm>
            <a:off x="4191120" y="53341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5" action="ppaction://hlinksldjump"/>
          </p:cNvPr>
          <p:cNvSpPr/>
          <p:nvPr/>
        </p:nvSpPr>
        <p:spPr>
          <a:xfrm>
            <a:off x="7696080" y="5334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BD00028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15200" y="3049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troducing yourself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This is Mr Smith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r Smith spea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y name is John Smit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greenphone,%20clip" descr=""/>
          <p:cNvPicPr/>
          <p:nvPr/>
        </p:nvPicPr>
        <p:blipFill>
          <a:blip r:embed="rId1"/>
          <a:stretch/>
        </p:blipFill>
        <p:spPr>
          <a:xfrm>
            <a:off x="6629400" y="4498920"/>
            <a:ext cx="1143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Asking to speak to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somebody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Mr Smith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speak to Mr Smit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 would like to speak to Mr Smith, please.</a:t>
            </a:r>
            <a:r>
              <a:rPr b="0" lang="zh-CN" sz="3200" spc="-1" strike="noStrike">
                <a:solidFill>
                  <a:srgbClr val="0000ff"/>
                </a:solidFill>
                <a:latin typeface="MS Sans Serif"/>
                <a:ea typeface="MS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tele2,%20cli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724280"/>
            <a:ext cx="990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Asking who the caller i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ho shall I say is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have your name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know who's speaking/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TN_vibe" descr="vibe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14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elling the caller that someone is not availabl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'm sorry. Mr Smith is ..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busy on another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at a meet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not in his off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TN_turqois2" descr="turqois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572000"/>
            <a:ext cx="773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aking a messag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there any message for Mr Smith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(Could, May) I take a message?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leave a message for Mr Smith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j019867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4343400"/>
            <a:ext cx="14479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</a:rPr>
              <a:t>Asking the caller to wait on the line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 you hold on a mo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ould you please hold the li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hold 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TN_tel02" descr="tel02.gif"/>
          <p:cNvPicPr/>
          <p:nvPr/>
        </p:nvPicPr>
        <p:blipFill>
          <a:blip r:embed="rId1"/>
          <a:stretch/>
        </p:blipFill>
        <p:spPr>
          <a:xfrm>
            <a:off x="6934320" y="4495680"/>
            <a:ext cx="112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2" name="TN_phone196" descr="phone19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2281320"/>
            <a:ext cx="1295280" cy="1220760"/>
          </a:xfrm>
          <a:prstGeom prst="rect">
            <a:avLst/>
          </a:prstGeom>
          <a:ln w="0">
            <a:noFill/>
          </a:ln>
        </p:spPr>
      </p:pic>
      <p:pic>
        <p:nvPicPr>
          <p:cNvPr id="323" name="TN_clip3" descr="clip3.jpg"/>
          <p:cNvPicPr/>
          <p:nvPr/>
        </p:nvPicPr>
        <p:blipFill>
          <a:blip r:embed="rId3"/>
          <a:stretch/>
        </p:blipFill>
        <p:spPr>
          <a:xfrm>
            <a:off x="3276720" y="3886200"/>
            <a:ext cx="129528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TN_phone99348" descr="phone99348.gif"/>
          <p:cNvPicPr/>
          <p:nvPr/>
        </p:nvPicPr>
        <p:blipFill>
          <a:blip r:embed="rId4"/>
          <a:stretch/>
        </p:blipFill>
        <p:spPr>
          <a:xfrm>
            <a:off x="6629400" y="3962520"/>
            <a:ext cx="1295280" cy="1133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>
            <a:hlinkClick r:id="rId5" action="ppaction://hlinksldjump"/>
          </p:cNvPr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TN_phonesman465" descr="phonesman465.gif"/>
          <p:cNvPicPr/>
          <p:nvPr/>
        </p:nvPicPr>
        <p:blipFill>
          <a:blip r:embed="rId6"/>
          <a:stretch/>
        </p:blipFill>
        <p:spPr>
          <a:xfrm>
            <a:off x="5105520" y="2286000"/>
            <a:ext cx="1141200" cy="1173240"/>
          </a:xfrm>
          <a:prstGeom prst="rect">
            <a:avLst/>
          </a:prstGeom>
          <a:ln w="0">
            <a:noFill/>
          </a:ln>
        </p:spPr>
      </p:pic>
      <p:pic>
        <p:nvPicPr>
          <p:cNvPr id="335" name="greenphone,%20clip" descr=""/>
          <p:cNvPicPr/>
          <p:nvPr/>
        </p:nvPicPr>
        <p:blipFill>
          <a:blip r:embed="rId7"/>
          <a:stretch/>
        </p:blipFill>
        <p:spPr>
          <a:xfrm>
            <a:off x="3276720" y="231768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36" name="tele1,%20clip" descr=""/>
          <p:cNvPicPr/>
          <p:nvPr/>
        </p:nvPicPr>
        <p:blipFill>
          <a:blip r:embed="rId8"/>
          <a:stretch/>
        </p:blipFill>
        <p:spPr>
          <a:xfrm>
            <a:off x="5029200" y="3962520"/>
            <a:ext cx="1295280" cy="1133280"/>
          </a:xfrm>
          <a:prstGeom prst="rect">
            <a:avLst/>
          </a:prstGeom>
          <a:ln w="0">
            <a:noFill/>
          </a:ln>
        </p:spPr>
      </p:pic>
      <p:pic>
        <p:nvPicPr>
          <p:cNvPr id="337" name="tele2,%20clip" descr=""/>
          <p:cNvPicPr/>
          <p:nvPr/>
        </p:nvPicPr>
        <p:blipFill>
          <a:blip r:embed="rId9"/>
          <a:stretch/>
        </p:blipFill>
        <p:spPr>
          <a:xfrm>
            <a:off x="6705720" y="228600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TN_vibe" descr="vibe.gif"/>
          <p:cNvPicPr/>
          <p:nvPr/>
        </p:nvPicPr>
        <p:blipFill>
          <a:blip r:embed="rId10"/>
          <a:stretch/>
        </p:blipFill>
        <p:spPr>
          <a:xfrm>
            <a:off x="1676520" y="396252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467480" y="5562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081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6" h="21600">
                <a:moveTo>
                  <a:pt x="1081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6" h="21600">
                <a:moveTo>
                  <a:pt x="8236" y="8224"/>
                </a:moveTo>
                <a:lnTo>
                  <a:pt x="12101" y="8224"/>
                </a:lnTo>
                <a:lnTo>
                  <a:pt x="12101" y="15221"/>
                </a:lnTo>
                <a:lnTo>
                  <a:pt x="13389" y="15221"/>
                </a:lnTo>
                <a:lnTo>
                  <a:pt x="13389" y="16144"/>
                </a:lnTo>
                <a:lnTo>
                  <a:pt x="8236" y="16144"/>
                </a:lnTo>
                <a:lnTo>
                  <a:pt x="8236" y="15221"/>
                </a:lnTo>
                <a:lnTo>
                  <a:pt x="9525" y="15221"/>
                </a:lnTo>
                <a:lnTo>
                  <a:pt x="9525" y="9129"/>
                </a:lnTo>
                <a:lnTo>
                  <a:pt x="8236" y="912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760" y="4572000"/>
            <a:ext cx="3733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dial  </a:t>
            </a:r>
            <a:r>
              <a:rPr b="1" i="1" lang="zh-CN" sz="4400" spc="-1" strike="noStrike">
                <a:solidFill>
                  <a:srgbClr val="ffff00"/>
                </a:solidFill>
                <a:latin typeface="Times New Roman"/>
              </a:rPr>
              <a:t>vt. &amp; v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dialling%203" descr=""/>
          <p:cNvPicPr/>
          <p:nvPr/>
        </p:nvPicPr>
        <p:blipFill>
          <a:blip r:embed="rId1"/>
          <a:stretch/>
        </p:blipFill>
        <p:spPr>
          <a:xfrm>
            <a:off x="4800600" y="1951200"/>
            <a:ext cx="236232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Woman_dials" descr=""/>
          <p:cNvPicPr/>
          <p:nvPr/>
        </p:nvPicPr>
        <p:blipFill>
          <a:blip r:embed="rId2"/>
          <a:stretch/>
        </p:blipFill>
        <p:spPr>
          <a:xfrm>
            <a:off x="1365120" y="1946160"/>
            <a:ext cx="34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speak to Ms Smith, please?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Mary speak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take a mess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Hold the line, pl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 could get him to call you bac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 few min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No, I prefer to hang 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 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 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752480" y="31240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'm afraid he's out of the off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nd won't be back for an hour or 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Well, could you get him to call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ack as soon as he gets 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1219320" y="30481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I speak to Ms Johnson,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No, I prefer to hang on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14479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There's a lot of noise on the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you speak u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a)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es, I'll put you through. 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I'm afraid you seem to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wrong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1523880" y="47242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swer on the first or second r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dentify yourself clear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se your friendly voice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k how you can hel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TN_blueline" descr="blueli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029200"/>
            <a:ext cx="9907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 messages careful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pell and/or pronounce the   caller's name correc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Repeat the messa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lways be polite ---Smi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B_OPL198" descr=""/>
          <p:cNvPicPr/>
          <p:nvPr/>
        </p:nvPicPr>
        <p:blipFill>
          <a:blip r:embed="rId1"/>
          <a:stretch/>
        </p:blipFill>
        <p:spPr>
          <a:xfrm>
            <a:off x="6553080" y="3755880"/>
            <a:ext cx="17528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52680" y="480060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at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chat2" descr=""/>
          <p:cNvPicPr/>
          <p:nvPr/>
        </p:nvPicPr>
        <p:blipFill>
          <a:blip r:embed="rId1"/>
          <a:stretch/>
        </p:blipFill>
        <p:spPr>
          <a:xfrm>
            <a:off x="1247760" y="2057400"/>
            <a:ext cx="2533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4419720" y="2133720"/>
            <a:ext cx="3504960" cy="2394000"/>
            <a:chOff x="4419720" y="2133720"/>
            <a:chExt cx="3504960" cy="2394000"/>
          </a:xfrm>
        </p:grpSpPr>
        <p:pic>
          <p:nvPicPr>
            <p:cNvPr id="186" name="chat%201" descr=""/>
            <p:cNvPicPr/>
            <p:nvPr/>
          </p:nvPicPr>
          <p:blipFill>
            <a:blip r:embed="rId2"/>
            <a:stretch/>
          </p:blipFill>
          <p:spPr>
            <a:xfrm>
              <a:off x="4419720" y="2133720"/>
              <a:ext cx="3504960" cy="23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562720" y="3048120"/>
              <a:ext cx="990360" cy="5331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ell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a word wi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old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h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29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something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pressions to use when teleph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telephon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x.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,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123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ractise telephoning with your classmates in English tonight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81480" y="449568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toget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get%20together%203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429000" cy="2684520"/>
          </a:xfrm>
          <a:prstGeom prst="rect">
            <a:avLst/>
          </a:prstGeom>
          <a:ln w="0">
            <a:noFill/>
          </a:ln>
        </p:spPr>
      </p:pic>
      <p:pic>
        <p:nvPicPr>
          <p:cNvPr id="191" name="get%20together5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819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10080" y="335268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cell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600200" y="1946160"/>
            <a:ext cx="3048120" cy="4149720"/>
            <a:chOff x="1600200" y="1946160"/>
            <a:chExt cx="3048120" cy="4149720"/>
          </a:xfrm>
        </p:grpSpPr>
        <p:pic>
          <p:nvPicPr>
            <p:cNvPr id="195" name="excellent" descr=""/>
            <p:cNvPicPr/>
            <p:nvPr/>
          </p:nvPicPr>
          <p:blipFill>
            <a:blip r:embed="rId1"/>
            <a:stretch/>
          </p:blipFill>
          <p:spPr>
            <a:xfrm>
              <a:off x="1623960" y="1946160"/>
              <a:ext cx="29005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600200" y="5638680"/>
              <a:ext cx="3048120" cy="4572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Hello. Can I speak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Pippa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ere’s no Pippa 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is is 868607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I’m sorry. I think I dialed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rong num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04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114800"/>
            <a:ext cx="609840" cy="585720"/>
          </a:xfrm>
          <a:prstGeom prst="rect">
            <a:avLst/>
          </a:prstGeom>
          <a:ln w="0">
            <a:noFill/>
          </a:ln>
        </p:spPr>
      </p:pic>
      <p:pic>
        <p:nvPicPr>
          <p:cNvPr id="205" name="TN_phone196" descr="phone196.gif"/>
          <p:cNvPicPr/>
          <p:nvPr/>
        </p:nvPicPr>
        <p:blipFill>
          <a:blip r:embed="rId5"/>
          <a:stretch/>
        </p:blipFill>
        <p:spPr>
          <a:xfrm>
            <a:off x="990720" y="2895480"/>
            <a:ext cx="6858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Hell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ello. Is that Bob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i, this is Steve. Is Pip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he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7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66688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8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1148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9" name="TN_phone99348" descr="phone99348.gif"/>
          <p:cNvPicPr/>
          <p:nvPr/>
        </p:nvPicPr>
        <p:blipFill>
          <a:blip r:embed="rId5"/>
          <a:stretch/>
        </p:blipFill>
        <p:spPr>
          <a:xfrm>
            <a:off x="1143000" y="1981080"/>
            <a:ext cx="685800" cy="598680"/>
          </a:xfrm>
          <a:prstGeom prst="rect">
            <a:avLst/>
          </a:prstGeom>
          <a:ln w="0">
            <a:noFill/>
          </a:ln>
        </p:spPr>
      </p:pic>
      <p:pic>
        <p:nvPicPr>
          <p:cNvPr id="230" name="TN_phone99348" descr="phone99348.gif"/>
          <p:cNvPicPr/>
          <p:nvPr/>
        </p:nvPicPr>
        <p:blipFill>
          <a:blip r:embed="rId6"/>
          <a:stretch/>
        </p:blipFill>
        <p:spPr>
          <a:xfrm>
            <a:off x="1143000" y="3352680"/>
            <a:ext cx="685800" cy="598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572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28:44Z</dcterms:modified>
  <cp:revision>98</cp:revision>
  <dc:subject/>
  <dc:title>Unit 19 A freedom fighter (continued)</dc:title>
</cp:coreProperties>
</file>