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945-1150-4337-91BF-C4F979C1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010-B08E-4658-B502-F4855DEF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C692-041E-44BC-A9A8-B1FDB4F6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A03-8B54-42C9-A72A-6C955104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1B0-7D0C-4146-85D6-F5715355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004-63C0-4F4E-9927-9B0DCD4F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BC2-310E-4688-8DAC-B38100B3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5F37-4F63-4637-8079-EDC97342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479-A027-4103-96F3-4FFFBFF9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27A-1B0A-469A-881D-6FC4E9B2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DD4-C473-4AAD-8AB2-DEDDFB40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2D7-3580-456B-BB51-58CC836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9664-E4DC-4101-B24C-92F52AB007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6004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 on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  field  trip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进行一次野外郊游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表示到达的目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discuss sth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讨论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of course / sure / certain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 fish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gree to do sth   agree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with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s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9144000" cy="5273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7. Be good 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. Go hiking  ( go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hik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9. Have (make  take )a field tr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0. Go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picn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1.  The day after tomorr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9144000" cy="748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are going __ our __(one) field 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he is going to trip __ Am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lease stay __    study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don’t you go ___[fish] __ East Lake? 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意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  agree ___ our teacher and I agree __ {take} it to my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2286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8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09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448920" cy="5020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There are many kinds of __[ fish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 He doesn’t like __       [fish] He likes __[hike]. 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e likes 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滑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Let’s 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ow ___[go] t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__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徒步旅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next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He _____ [go] __ a picnic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后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9144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143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02:33:16Z</dcterms:created>
  <dc:creator>Star</dc:creator>
  <dc:description/>
  <dc:language>en-US</dc:language>
  <cp:lastModifiedBy>Star</cp:lastModifiedBy>
  <dcterms:modified xsi:type="dcterms:W3CDTF">2002-05-29T03:23:47Z</dcterms:modified>
  <cp:revision>11</cp:revision>
  <dc:subject/>
  <dc:title>PowerPoint 演示文稿</dc:title>
</cp:coreProperties>
</file>