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CCC-BEC7-4584-BD1F-EC0CEDCE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002-37FF-45FB-BD24-FC456AD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B07-637A-4AF5-A331-6DF33344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AA9-5F51-4C9E-B645-46B0655E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458-CE31-4A02-BDAD-60B42DAB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C0C-82A8-4FAE-8C23-8DE93261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085A-84E3-412C-BAA8-C4CC7448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47C-2152-4E67-AD94-90ED06A1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34C-AC0D-486A-BE33-A329FB30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594-7A70-4206-BE12-4709143A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020-0EDC-403D-A9A1-FDC8E74B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CFEA-3BDF-4E9F-90BB-2CB3532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458A-87C7-4034-B64F-7C7F018BB4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33840" y="144792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31200" y="5425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作者：老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3400" y="7621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九年义务教育小学九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5105520" y="685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3" action="ppaction://hlinksldjump"/>
          </p:cNvPr>
          <p:cNvSpPr/>
          <p:nvPr/>
        </p:nvSpPr>
        <p:spPr>
          <a:xfrm>
            <a:off x="4648320" y="3429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8381880" y="640080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60948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它要是高兴，能比谁都温柔可亲：用身子蹭你的腿，把脖儿伸出来要求给抓痒。或是在你写作的时候，跳上桌来，在稿纸上踩印几朵小梅花。它还会丰富多腔地叫唤，长短不同，粗细各异，变化多端。在不叫的时候，它还会咕噜咕噜地给自己解闷。这可都凭它的高兴。它若是不高兴啊，无论谁说多少好话，它一声也不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8534520" y="65530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86680" y="59364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温柔可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1880" y="5486400"/>
            <a:ext cx="274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声也不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8240" y="3920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既老实又贪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19480" y="15238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贪玩又尽职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68040" y="2452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温柔可亲又一声不出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3576600"/>
            <a:ext cx="450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既胆小又勇猛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1640" y="41911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43880" y="51814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猫的性格实在有些古怪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72200" y="54259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猫1.jpg%20复制" descr=""/>
          <p:cNvPicPr/>
          <p:nvPr/>
        </p:nvPicPr>
        <p:blipFill>
          <a:blip r:embed="rId1"/>
          <a:stretch/>
        </p:blipFill>
        <p:spPr>
          <a:xfrm>
            <a:off x="1922400" y="228600"/>
            <a:ext cx="5235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782640"/>
            <a:ext cx="771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见了，绝不会责打它们，它们是那么生气勃勃，天真可爱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465160" y="48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944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8948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3228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15228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057400"/>
            <a:ext cx="152640" cy="152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990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猫既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8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它的性格实在有些古怪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674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" action="ppaction://hlinksldjump"/>
          </p:cNvPr>
          <p:cNvSpPr/>
          <p:nvPr/>
        </p:nvSpPr>
        <p:spPr>
          <a:xfrm>
            <a:off x="815328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8763120" y="655308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85800"/>
            <a:ext cx="82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古怪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685800"/>
            <a:ext cx="82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" action="ppaction://hlinksldjump"/>
          </p:cNvPr>
          <p:cNvSpPr/>
          <p:nvPr/>
        </p:nvSpPr>
        <p:spPr>
          <a:xfrm>
            <a:off x="5105520" y="685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685800"/>
            <a:ext cx="82454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1" action="ppaction://hlinksldjump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猫的性格实在有些         。说它       吧，它有时候的确很乖。它会找个暖和的地方，成天睡大觉，无忧无虑，什么事也不过问。可是，它决定要出去玩玩，就会出走一天一夜，任凭谁怎么呼唤，它也不肯回来。说它        吧，的确是呀，要不怎么会一天一夜不回家呢？可是，它听到老鼠的一点响动，又是多么         。它闭息凝视，一连就是几个钟头，非把老鼠等出来不可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5105520" y="654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古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609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老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648320" y="3397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贪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7467480" y="4464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尽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8:01:26Z</dcterms:created>
  <dc:creator>lxh</dc:creator>
  <dc:description/>
  <dc:language>en-US</dc:language>
  <cp:lastModifiedBy>heyixiao</cp:lastModifiedBy>
  <dcterms:modified xsi:type="dcterms:W3CDTF">2003-12-04T07:29:36Z</dcterms:modified>
  <cp:revision>78</cp:revision>
  <dc:subject/>
  <dc:title>PowerPoint 演示文稿</dc:title>
</cp:coreProperties>
</file>