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27C-0A27-4F26-B924-B7D9BC65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328-0FF0-4553-86F1-9CCA8F42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B62-EE32-4619-9045-5BACD2B2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72D-0848-4120-BC91-3E593E61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448-F55D-4939-8DD3-BB4A0BAA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398-7688-4579-8053-C48C8C5F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FA3-C733-42AA-A4E0-C861254A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0FB-8E50-481C-A28D-B3CB7C08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827-05AC-49ED-A06F-E5C4347C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8E5-47F1-43E2-BA1A-793EBC0F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F04-1377-4E3B-9CFA-13BBF802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7AC-9C4C-42EA-AF13-B9DAEEF8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9FA6-8D3E-4E2C-83DC-9FCB1B8A96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6004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Go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 on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  field  trip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( to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进行一次野外郊游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( to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表示到达的目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discuss sth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讨论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of course / sure / certain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go fish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gree to do sth   agree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with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s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9144000" cy="5273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7. Be good a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8. Go hiking  ( go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a hik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9. Have (make  take )a field tr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0. Go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on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a picn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1.  The day after tomorr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9144000" cy="748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e are going __ our __(one) field 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he is going to trip __ Am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Please stay __    study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don’t you go ___[fish] __ East Lake? 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意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  agree ___ our teacher and I agree __ {take} it to my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2286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imes New Roman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8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523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09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448920" cy="5020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.There are many kinds of __[ fish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 He doesn’t like __       [fish] He likes __[hike]. 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也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he likes _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滑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Let’s 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讨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how ___[go] t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e ___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徒步旅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next holi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He _____ [go] __ a picnic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后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9144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1430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2880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02:33:16Z</dcterms:created>
  <dc:creator>Star</dc:creator>
  <dc:description/>
  <dc:language>en-US</dc:language>
  <cp:lastModifiedBy>Star</cp:lastModifiedBy>
  <dcterms:modified xsi:type="dcterms:W3CDTF">2002-05-29T03:23:47Z</dcterms:modified>
  <cp:revision>11</cp:revision>
  <dc:subject/>
  <dc:title>PowerPoint 演示文稿</dc:title>
</cp:coreProperties>
</file>