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camera.wav" ContentType="audio/x-wav"/>
  <Override PartName="/ppt/media/image6.gif" ContentType="image/gif"/>
  <Override PartName="/ppt/media/type.wav" ContentType="audio/x-wav"/>
  <Override PartName="/ppt/media/image5.png" ContentType="image/png"/>
  <Override PartName="/ppt/media/image10.jpeg" ContentType="image/jpeg"/>
  <Override PartName="/ppt/media/image12.gif" ContentType="image/gif"/>
  <Override PartName="/ppt/media/applause.wav" ContentType="audio/x-wav"/>
  <Override PartName="/ppt/media/arrow.wav" ContentType="audio/x-wav"/>
  <Override PartName="/ppt/media/image11.jpeg" ContentType="image/jpeg"/>
  <Override PartName="/ppt/media/image8.png" ContentType="image/png"/>
  <Override PartName="/ppt/media/image4.gif" ContentType="image/gif"/>
  <Override PartName="/ppt/media/chimes.wav" ContentType="audio/x-wav"/>
  <Override PartName="/ppt/media/image9.gif" ContentType="image/gif"/>
  <Override PartName="/ppt/media/image1.png" ContentType="image/png"/>
  <Override PartName="/ppt/media/image2.png" ContentType="image/png"/>
  <Override PartName="/ppt/media/image3.png" ContentType="image/png"/>
  <Override PartName="/ppt/media/hammer.wav" ContentType="audio/x-wav"/>
  <Override PartName="/ppt/media/click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0D4-9771-40FD-A1F4-4C4F241B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DBF-E334-45B3-8874-D303C6AF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08D-6E67-44C3-9589-594D7934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002-92AD-4B15-AEC0-C76883E7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5B2D-7480-45CD-A6F0-C1B17B0B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2B1A-53CB-4FDC-BD9E-4AE39BF0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08E8-71DE-4808-92BE-D1D4B6BC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E4CF-D5AA-4303-A639-C0AB0591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4D74-67FF-441C-9D4E-E07F6999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083E-FA3E-4193-9D32-4FDB3CAA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02D4-1AA7-447E-AAC1-0615D34F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1A8-817B-4073-89A5-E7A8812B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D931-E7F8-473C-91A6-9997ADA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0759-85A8-4CF9-AA8F-472A7C68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ADB9-FC0C-44CF-971A-1094C8D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D728-583B-421C-89EA-39FBFAF0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96CA-8405-42E4-85E4-60AE1EC3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C9A-E944-4569-9319-DA3199B5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A83-B449-4D68-A429-C52FC7D0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A0E-FAED-4391-83A9-F8E6566D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5CF-D5B9-4B08-982C-34962113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C36-4B96-4426-A4CE-815D98A1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63B-C20E-4CA9-8214-C3164BEE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1C3-09A1-4AF4-8927-C2C440F5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648D-9FFF-4756-B4E5-5835EAF8D05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A030-060D-4DCC-960B-86816763B6B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lick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audio" Target="../media/type.wav"/><Relationship Id="rId4" Type="http://schemas.openxmlformats.org/officeDocument/2006/relationships/audio" Target="../media/arrow.wav"/><Relationship Id="rId5" Type="http://schemas.openxmlformats.org/officeDocument/2006/relationships/audio" Target="../media/type.wav"/><Relationship Id="rId6" Type="http://schemas.openxmlformats.org/officeDocument/2006/relationships/audio" Target="../media/arrow.wav"/><Relationship Id="rId7" Type="http://schemas.openxmlformats.org/officeDocument/2006/relationships/audio" Target="../media/type.wav"/><Relationship Id="rId8" Type="http://schemas.openxmlformats.org/officeDocument/2006/relationships/audio" Target="../media/arrow.wav"/><Relationship Id="rId9" Type="http://schemas.openxmlformats.org/officeDocument/2006/relationships/audio" Target="../media/type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hammer.wav"/><Relationship Id="rId3" Type="http://schemas.openxmlformats.org/officeDocument/2006/relationships/audio" Target="../media/arrow.wav"/><Relationship Id="rId4" Type="http://schemas.openxmlformats.org/officeDocument/2006/relationships/audio" Target="../media/type.wav"/><Relationship Id="rId5" Type="http://schemas.openxmlformats.org/officeDocument/2006/relationships/audio" Target="../media/arrow.wav"/><Relationship Id="rId6" Type="http://schemas.openxmlformats.org/officeDocument/2006/relationships/audio" Target="../media/type.wav"/><Relationship Id="rId7" Type="http://schemas.openxmlformats.org/officeDocument/2006/relationships/audio" Target="../media/arrow.wav"/><Relationship Id="rId8" Type="http://schemas.openxmlformats.org/officeDocument/2006/relationships/audio" Target="../media/type.wav"/><Relationship Id="rId9" Type="http://schemas.openxmlformats.org/officeDocument/2006/relationships/audio" Target="../media/arrow.wav"/><Relationship Id="rId10" Type="http://schemas.openxmlformats.org/officeDocument/2006/relationships/audio" Target="../media/type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camera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124000" y="2421000"/>
            <a:ext cx="46306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角的分类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33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九年义务教育六年制小学数学第八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50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835280" y="2565360"/>
            <a:ext cx="5472000" cy="1584000"/>
            <a:chOff x="1835280" y="2565360"/>
            <a:chExt cx="5472000" cy="1584000"/>
          </a:xfrm>
        </p:grpSpPr>
        <p:sp>
          <p:nvSpPr>
            <p:cNvPr id="255" name=""/>
            <p:cNvSpPr/>
            <p:nvPr/>
          </p:nvSpPr>
          <p:spPr>
            <a:xfrm>
              <a:off x="1835280" y="2565360"/>
              <a:ext cx="5472000" cy="1584000"/>
            </a:xfrm>
            <a:prstGeom prst="bevel">
              <a:avLst>
                <a:gd name="adj" fmla="val 12523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193840" y="2997000"/>
              <a:ext cx="4608720" cy="6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* </a:t>
              </a: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认识周角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039400" y="1413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填空，说出下面角各是哪种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2276280"/>
            <a:ext cx="1785960" cy="1082520"/>
            <a:chOff x="914400" y="2276280"/>
            <a:chExt cx="1785960" cy="1082520"/>
          </a:xfrm>
        </p:grpSpPr>
        <p:sp>
          <p:nvSpPr>
            <p:cNvPr id="259" name=""/>
            <p:cNvSpPr/>
            <p:nvPr/>
          </p:nvSpPr>
          <p:spPr>
            <a:xfrm>
              <a:off x="1476360" y="3141720"/>
              <a:ext cx="1224000" cy="0"/>
            </a:xfrm>
            <a:prstGeom prst="line">
              <a:avLst/>
            </a:prstGeom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1042920" y="2276280"/>
              <a:ext cx="433440" cy="865080"/>
            </a:xfrm>
            <a:prstGeom prst="line">
              <a:avLst/>
            </a:prstGeom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4400" y="2924280"/>
              <a:ext cx="86328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132000" y="2852640"/>
            <a:ext cx="2232000" cy="504720"/>
            <a:chOff x="3132000" y="2852640"/>
            <a:chExt cx="2232000" cy="504720"/>
          </a:xfrm>
        </p:grpSpPr>
        <p:grpSp>
          <p:nvGrpSpPr>
            <p:cNvPr id="263" name=""/>
            <p:cNvGrpSpPr/>
            <p:nvPr/>
          </p:nvGrpSpPr>
          <p:grpSpPr>
            <a:xfrm>
              <a:off x="3132000" y="3097080"/>
              <a:ext cx="2232000" cy="71640"/>
              <a:chOff x="3132000" y="3097080"/>
              <a:chExt cx="2232000" cy="71640"/>
            </a:xfrm>
          </p:grpSpPr>
          <p:sp>
            <p:nvSpPr>
              <p:cNvPr id="264" name=""/>
              <p:cNvSpPr/>
              <p:nvPr/>
            </p:nvSpPr>
            <p:spPr>
              <a:xfrm>
                <a:off x="3132000" y="3141720"/>
                <a:ext cx="22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13080" y="3097080"/>
                <a:ext cx="71640" cy="7164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995640" y="2852640"/>
              <a:ext cx="504720" cy="5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1205"/>
                  </a:moveTo>
                  <a:arcTo wR="10800" hR="10800" stAng="10670911" swAng="10929089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1205"/>
                  </a:moveTo>
                  <a:arcTo wR="10800" hR="10800" stAng="10670911" swAng="10929089"/>
                </a:path>
              </a:pathLst>
            </a:cu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084720" y="2492280"/>
            <a:ext cx="1582920" cy="952560"/>
            <a:chOff x="6084720" y="2492280"/>
            <a:chExt cx="1582920" cy="952560"/>
          </a:xfrm>
        </p:grpSpPr>
        <p:sp>
          <p:nvSpPr>
            <p:cNvPr id="268" name=""/>
            <p:cNvSpPr/>
            <p:nvPr/>
          </p:nvSpPr>
          <p:spPr>
            <a:xfrm>
              <a:off x="6084720" y="3141720"/>
              <a:ext cx="1582920" cy="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6156360" y="2492280"/>
              <a:ext cx="1511280" cy="6494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05600" y="2867040"/>
              <a:ext cx="1454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763280" y="4365720"/>
            <a:ext cx="1584720" cy="1150920"/>
            <a:chOff x="1763280" y="4365720"/>
            <a:chExt cx="1584720" cy="1150920"/>
          </a:xfrm>
        </p:grpSpPr>
        <p:sp>
          <p:nvSpPr>
            <p:cNvPr id="272" name=""/>
            <p:cNvSpPr/>
            <p:nvPr/>
          </p:nvSpPr>
          <p:spPr>
            <a:xfrm>
              <a:off x="2195280" y="4365720"/>
              <a:ext cx="1152720" cy="431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763280" y="4365720"/>
              <a:ext cx="431640" cy="1150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152440" y="4422600"/>
              <a:ext cx="172800" cy="144360"/>
              <a:chOff x="2152440" y="4422600"/>
              <a:chExt cx="172800" cy="144360"/>
            </a:xfrm>
          </p:grpSpPr>
          <p:sp>
            <p:nvSpPr>
              <p:cNvPr id="275" name=""/>
              <p:cNvSpPr/>
              <p:nvPr/>
            </p:nvSpPr>
            <p:spPr>
              <a:xfrm>
                <a:off x="2152440" y="4510080"/>
                <a:ext cx="14292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2280960" y="4422600"/>
                <a:ext cx="442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4083120" y="4321080"/>
            <a:ext cx="1641240" cy="358560"/>
            <a:chOff x="4083120" y="4321080"/>
            <a:chExt cx="1641240" cy="358560"/>
          </a:xfrm>
        </p:grpSpPr>
        <p:sp>
          <p:nvSpPr>
            <p:cNvPr id="278" name=""/>
            <p:cNvSpPr/>
            <p:nvPr/>
          </p:nvSpPr>
          <p:spPr>
            <a:xfrm>
              <a:off x="4284720" y="4508280"/>
              <a:ext cx="14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83120" y="4321080"/>
              <a:ext cx="358560" cy="358560"/>
            </a:xfrm>
            <a:prstGeom prst="ellipse">
              <a:avLst/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26040" y="4479840"/>
              <a:ext cx="73080" cy="71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225120" y="3586320"/>
            <a:ext cx="1879920" cy="1596240"/>
            <a:chOff x="6225120" y="3586320"/>
            <a:chExt cx="1879920" cy="1596240"/>
          </a:xfrm>
        </p:grpSpPr>
        <p:sp>
          <p:nvSpPr>
            <p:cNvPr id="282" name=""/>
            <p:cNvSpPr/>
            <p:nvPr/>
          </p:nvSpPr>
          <p:spPr>
            <a:xfrm flipV="1">
              <a:off x="7081200" y="4051080"/>
              <a:ext cx="1023840" cy="1220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225120" y="4173480"/>
              <a:ext cx="855720" cy="100908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1076400">
              <a:off x="6629400" y="36795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13616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8560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77960" y="34862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99800" y="55450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33240" y="55166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49320" y="54450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7236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95640" y="54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88000" y="5345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8000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5416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341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09680" y="217440"/>
            <a:ext cx="230508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琥珀"/>
              </a:rPr>
              <a:t>我会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5636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5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29520" y="5099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433680" y="3068640"/>
            <a:ext cx="122580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3056040"/>
            <a:ext cx="1225440" cy="71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84360" y="1027080"/>
            <a:ext cx="1944720" cy="1944720"/>
            <a:chOff x="684360" y="1027080"/>
            <a:chExt cx="1944720" cy="1944720"/>
          </a:xfrm>
        </p:grpSpPr>
        <p:grpSp>
          <p:nvGrpSpPr>
            <p:cNvPr id="307" name=""/>
            <p:cNvGrpSpPr/>
            <p:nvPr/>
          </p:nvGrpSpPr>
          <p:grpSpPr>
            <a:xfrm>
              <a:off x="684360" y="1027080"/>
              <a:ext cx="1944720" cy="1944720"/>
              <a:chOff x="684360" y="1027080"/>
              <a:chExt cx="1944720" cy="19447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684360" y="1027080"/>
                <a:ext cx="1944720" cy="1944720"/>
                <a:chOff x="684360" y="1027080"/>
                <a:chExt cx="1944720" cy="19447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84360" y="10270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7440" y="11001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3558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556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663920" y="26859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663920" y="10890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881280" y="1216800"/>
                <a:ext cx="1555200" cy="1572120"/>
                <a:chOff x="881280" y="1216800"/>
                <a:chExt cx="1555200" cy="1572120"/>
              </a:xfrm>
            </p:grpSpPr>
            <p:sp>
              <p:nvSpPr>
                <p:cNvPr id="316" name=""/>
                <p:cNvSpPr/>
                <p:nvPr/>
              </p:nvSpPr>
              <p:spPr>
                <a:xfrm flipV="1">
                  <a:off x="2060640" y="12236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2347560" y="15534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1228680" y="27000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207440" y="1216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039400" y="26964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347200" y="24328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899640" y="24328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81280" y="15444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1649520" y="19987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060720" y="1041480"/>
            <a:ext cx="1944720" cy="1944720"/>
            <a:chOff x="3060720" y="1041480"/>
            <a:chExt cx="1944720" cy="1944720"/>
          </a:xfrm>
        </p:grpSpPr>
        <p:grpSp>
          <p:nvGrpSpPr>
            <p:cNvPr id="326" name=""/>
            <p:cNvGrpSpPr/>
            <p:nvPr/>
          </p:nvGrpSpPr>
          <p:grpSpPr>
            <a:xfrm>
              <a:off x="3060720" y="1041480"/>
              <a:ext cx="1944720" cy="1944720"/>
              <a:chOff x="3060720" y="1041480"/>
              <a:chExt cx="1944720" cy="194472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3060720" y="1041480"/>
                <a:ext cx="1944720" cy="1944720"/>
                <a:chOff x="3060720" y="1041480"/>
                <a:chExt cx="1944720" cy="19447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060720" y="10414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133800" y="11145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7322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1320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4040280" y="27003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4040280" y="11034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257640" y="1231200"/>
                <a:ext cx="1555200" cy="1572120"/>
                <a:chOff x="3257640" y="1231200"/>
                <a:chExt cx="1555200" cy="1572120"/>
              </a:xfrm>
            </p:grpSpPr>
            <p:sp>
              <p:nvSpPr>
                <p:cNvPr id="335" name=""/>
                <p:cNvSpPr/>
                <p:nvPr/>
              </p:nvSpPr>
              <p:spPr>
                <a:xfrm flipV="1">
                  <a:off x="4437000" y="12380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4723920" y="15678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3605040" y="27144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583800" y="1231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15760" y="2710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723560" y="24472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3276000" y="24472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257640" y="15588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4025880" y="20131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66800" y="1362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558080" y="1726920"/>
            <a:ext cx="583560" cy="3578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48200" y="13780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911760" y="2033640"/>
            <a:ext cx="672120" cy="14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79920" y="1052640"/>
            <a:ext cx="1944720" cy="1944720"/>
            <a:chOff x="5479920" y="1052640"/>
            <a:chExt cx="1944720" cy="1944720"/>
          </a:xfrm>
        </p:grpSpPr>
        <p:grpSp>
          <p:nvGrpSpPr>
            <p:cNvPr id="349" name=""/>
            <p:cNvGrpSpPr/>
            <p:nvPr/>
          </p:nvGrpSpPr>
          <p:grpSpPr>
            <a:xfrm>
              <a:off x="5479920" y="1052640"/>
              <a:ext cx="1944720" cy="1944720"/>
              <a:chOff x="5479920" y="1052640"/>
              <a:chExt cx="1944720" cy="19447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5479920" y="1052640"/>
                <a:ext cx="1944720" cy="1944720"/>
                <a:chOff x="5479920" y="1052640"/>
                <a:chExt cx="1944720" cy="1944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9920" y="105264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553000" y="112572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1514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5512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6459480" y="271152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6459480" y="11145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676840" y="1242360"/>
                <a:ext cx="1555200" cy="1572120"/>
                <a:chOff x="5676840" y="1242360"/>
                <a:chExt cx="1555200" cy="1572120"/>
              </a:xfrm>
            </p:grpSpPr>
            <p:sp>
              <p:nvSpPr>
                <p:cNvPr id="358" name=""/>
                <p:cNvSpPr/>
                <p:nvPr/>
              </p:nvSpPr>
              <p:spPr>
                <a:xfrm flipV="1">
                  <a:off x="6856200" y="1249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7143120" y="15789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6024240" y="272556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003000" y="12423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34960" y="27219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42760" y="245844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5695200" y="245844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676840" y="156996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6445080" y="202428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67400" y="1389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6412320" y="1958040"/>
            <a:ext cx="324360" cy="5886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959200" y="3998880"/>
            <a:ext cx="1944720" cy="1944720"/>
            <a:chOff x="2959200" y="3998880"/>
            <a:chExt cx="1944720" cy="1944720"/>
          </a:xfrm>
        </p:grpSpPr>
        <p:grpSp>
          <p:nvGrpSpPr>
            <p:cNvPr id="370" name=""/>
            <p:cNvGrpSpPr/>
            <p:nvPr/>
          </p:nvGrpSpPr>
          <p:grpSpPr>
            <a:xfrm>
              <a:off x="2959200" y="3998880"/>
              <a:ext cx="1944720" cy="1944720"/>
              <a:chOff x="2959200" y="3998880"/>
              <a:chExt cx="1944720" cy="19447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2959200" y="3998880"/>
                <a:ext cx="1944720" cy="1944720"/>
                <a:chOff x="2959200" y="3998880"/>
                <a:chExt cx="1944720" cy="19447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959200" y="39988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032280" y="40719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6306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304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3938760" y="56577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3938760" y="40608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156120" y="4188600"/>
                <a:ext cx="1555200" cy="1572120"/>
                <a:chOff x="3156120" y="4188600"/>
                <a:chExt cx="1555200" cy="1572120"/>
              </a:xfrm>
            </p:grpSpPr>
            <p:sp>
              <p:nvSpPr>
                <p:cNvPr id="379" name=""/>
                <p:cNvSpPr/>
                <p:nvPr/>
              </p:nvSpPr>
              <p:spPr>
                <a:xfrm flipV="1">
                  <a:off x="4335480" y="41954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4622400" y="45252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3503520" y="56718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482280" y="41886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314240" y="5668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622040" y="54046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3174480" y="5404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156120" y="45162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3924360" y="49705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40200" y="43354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0560" y="4903560"/>
            <a:ext cx="2160" cy="703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435640" y="4005360"/>
            <a:ext cx="1944720" cy="1944720"/>
            <a:chOff x="5435640" y="4005360"/>
            <a:chExt cx="1944720" cy="1944720"/>
          </a:xfrm>
        </p:grpSpPr>
        <p:grpSp>
          <p:nvGrpSpPr>
            <p:cNvPr id="391" name=""/>
            <p:cNvGrpSpPr/>
            <p:nvPr/>
          </p:nvGrpSpPr>
          <p:grpSpPr>
            <a:xfrm>
              <a:off x="5435640" y="4005360"/>
              <a:ext cx="1944720" cy="1944720"/>
              <a:chOff x="5435640" y="4005360"/>
              <a:chExt cx="1944720" cy="194472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5435640" y="4005360"/>
                <a:ext cx="1944720" cy="1944720"/>
                <a:chOff x="5435640" y="4005360"/>
                <a:chExt cx="1944720" cy="194472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435640" y="400536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508720" y="407844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1071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5069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415200" y="566424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6415200" y="406728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632560" y="4195080"/>
                <a:ext cx="1555200" cy="1572120"/>
                <a:chOff x="5632560" y="4195080"/>
                <a:chExt cx="1555200" cy="1572120"/>
              </a:xfrm>
            </p:grpSpPr>
            <p:sp>
              <p:nvSpPr>
                <p:cNvPr id="400" name=""/>
                <p:cNvSpPr/>
                <p:nvPr/>
              </p:nvSpPr>
              <p:spPr>
                <a:xfrm flipV="1">
                  <a:off x="6811920" y="420192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7098840" y="4531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5979960" y="567828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958720" y="41950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790680" y="56746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098480" y="541116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650920" y="54111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32560" y="452268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6400800" y="497700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416640" y="434196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416640" y="4517280"/>
            <a:ext cx="1440" cy="6087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说出每个钟面上的时间，并说出每个钟面上时针和分针所成角的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16080" y="309708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锐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21240" y="311292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3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直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81680" y="306864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68880" y="311292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5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钝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4800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35200" y="606600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6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平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3884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925960" y="6066000"/>
            <a:ext cx="1081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周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59280" y="2693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51560" y="27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16080" y="5689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5705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80"/>
                            </p:stCondLst>
                            <p:childTnLst>
                              <p:par>
                                <p:cTn id="5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476520" y="2928960"/>
            <a:ext cx="1621080" cy="152244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4716360" y="3357720"/>
            <a:ext cx="2519640" cy="2058840"/>
            <a:chOff x="4716360" y="3357720"/>
            <a:chExt cx="2519640" cy="2058840"/>
          </a:xfrm>
        </p:grpSpPr>
        <p:sp>
          <p:nvSpPr>
            <p:cNvPr id="427" name=""/>
            <p:cNvSpPr/>
            <p:nvPr/>
          </p:nvSpPr>
          <p:spPr>
            <a:xfrm>
              <a:off x="4716360" y="3759120"/>
              <a:ext cx="2519640" cy="16574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21320" y="335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03dff"/>
                  </a:solidFill>
                  <a:latin typeface="Comic Sans MS"/>
                  <a:ea typeface="隶书"/>
                </a:rPr>
                <a:t>钝 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332000" y="3355920"/>
            <a:ext cx="2519280" cy="2089080"/>
            <a:chOff x="1332000" y="3355920"/>
            <a:chExt cx="2519280" cy="2089080"/>
          </a:xfrm>
        </p:grpSpPr>
        <p:sp>
          <p:nvSpPr>
            <p:cNvPr id="430" name=""/>
            <p:cNvSpPr/>
            <p:nvPr/>
          </p:nvSpPr>
          <p:spPr>
            <a:xfrm>
              <a:off x="1332000" y="3787920"/>
              <a:ext cx="2519280" cy="16570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66840" y="33559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03dff"/>
                  </a:solidFill>
                  <a:latin typeface="Comic Sans MS"/>
                  <a:ea typeface="隶书"/>
                </a:rPr>
                <a:t>锐 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476360" y="620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Comic Sans MS"/>
                <a:ea typeface="华文中宋"/>
              </a:rPr>
              <a:t>把下面各角的度数按要求填在圈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17840" y="1341360"/>
            <a:ext cx="1081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3440" y="2060640"/>
            <a:ext cx="1081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7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09840" y="1341360"/>
            <a:ext cx="93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46560" y="1341360"/>
            <a:ext cx="100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4560" y="1341360"/>
            <a:ext cx="93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91280" y="1341360"/>
            <a:ext cx="129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7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38560" y="2060640"/>
            <a:ext cx="1079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60600" y="2063880"/>
            <a:ext cx="9939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54560" y="2060640"/>
            <a:ext cx="100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1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48160" y="2060640"/>
            <a:ext cx="10083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36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42840" y="231840"/>
            <a:ext cx="1619280" cy="9619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-749880" y="1125360"/>
            <a:ext cx="2191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b800"/>
                </a:solidFill>
                <a:latin typeface="Comic Sans MS"/>
                <a:ea typeface="华文行楷"/>
              </a:rPr>
              <a:t>我明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.39838 E">
                                      <p:cBhvr>
                                        <p:cTn id="70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20231E-007 L 0.02777 0.39653 E">
                                      <p:cBhvr>
                                        <p:cTn id="70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4624E-007 L 0.02935 0.38636 E">
                                      <p:cBhvr>
                                        <p:cTn id="707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-0.28351 0.37757 E">
                                      <p:cBhvr>
                                        <p:cTn id="710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20231E-007 L 0.18923 0.40717 E">
                                      <p:cBhvr>
                                        <p:cTn id="71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0.06319 0.39653 E">
                                      <p:cBhvr>
                                        <p:cTn id="717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4624E-007 L 0.08681 0.38636 E">
                                      <p:cBhvr>
                                        <p:cTn id="720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5E-006 -2.83237E-006 L 0.30643 0.37526 E">
                                      <p:cBhvr>
                                        <p:cTn id="723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047680" y="19749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把下面的角按从小到大的顺序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7640" y="30542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钝角    平角    周角    直角    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0920" y="41338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Comic Sans MS"/>
              </a:rPr>
              <a:t>（　　　）＜（　　　）＜（　　　）＜（　　　）＜（　　　）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268360" y="620640"/>
            <a:ext cx="2017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我知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49" name=""/>
          <p:cNvSpPr/>
          <p:nvPr/>
        </p:nvSpPr>
        <p:spPr>
          <a:xfrm>
            <a:off x="55260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65320" y="4062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05040" y="40482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46560" y="4046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5964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400"/>
                            </p:stCondLst>
                            <p:childTnLst>
                              <p:par>
                                <p:cTn id="7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350"/>
                            </p:stCondLst>
                            <p:childTnLst>
                              <p:par>
                                <p:cTn id="7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11280" y="1844640"/>
            <a:ext cx="7848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Comic Sans MS"/>
                <a:ea typeface="隶书"/>
              </a:rPr>
              <a:t>　　谢谢各位领导、老师及家长光临指导！谢谢同学们的合作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5236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154944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219708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284472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543564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608328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9"/>
          <a:stretch/>
        </p:blipFill>
        <p:spPr>
          <a:xfrm>
            <a:off x="673272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0"/>
          <a:stretch/>
        </p:blipFill>
        <p:spPr>
          <a:xfrm>
            <a:off x="738036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1"/>
          <a:stretch/>
        </p:blipFill>
        <p:spPr>
          <a:xfrm>
            <a:off x="8028000" y="5950080"/>
            <a:ext cx="5238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43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258920" y="2708280"/>
            <a:ext cx="1942920" cy="1800000"/>
            <a:chOff x="1258920" y="2708280"/>
            <a:chExt cx="1942920" cy="1800000"/>
          </a:xfrm>
        </p:grpSpPr>
        <p:sp>
          <p:nvSpPr>
            <p:cNvPr id="156" name=""/>
            <p:cNvSpPr/>
            <p:nvPr/>
          </p:nvSpPr>
          <p:spPr>
            <a:xfrm>
              <a:off x="2984400" y="4278240"/>
              <a:ext cx="216000" cy="21564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258920" y="2708280"/>
              <a:ext cx="1942920" cy="1800000"/>
              <a:chOff x="1258920" y="2708280"/>
              <a:chExt cx="1942920" cy="1800000"/>
            </a:xfrm>
          </p:grpSpPr>
          <p:sp>
            <p:nvSpPr>
              <p:cNvPr id="158" name=""/>
              <p:cNvSpPr/>
              <p:nvPr/>
            </p:nvSpPr>
            <p:spPr>
              <a:xfrm>
                <a:off x="1258920" y="4493880"/>
                <a:ext cx="19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201840" y="2708280"/>
                <a:ext cx="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076360" y="2708280"/>
            <a:ext cx="1942920" cy="1800000"/>
            <a:chOff x="5076360" y="2708280"/>
            <a:chExt cx="1942920" cy="1800000"/>
          </a:xfrm>
        </p:grpSpPr>
        <p:sp>
          <p:nvSpPr>
            <p:cNvPr id="161" name=""/>
            <p:cNvSpPr/>
            <p:nvPr/>
          </p:nvSpPr>
          <p:spPr>
            <a:xfrm>
              <a:off x="5076720" y="4278240"/>
              <a:ext cx="215640" cy="2160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076360" y="2708280"/>
              <a:ext cx="1942920" cy="1800000"/>
              <a:chOff x="5076360" y="2708280"/>
              <a:chExt cx="1942920" cy="180000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5076360" y="4493880"/>
                <a:ext cx="19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076360" y="2708280"/>
                <a:ext cx="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3059280" y="1930320"/>
            <a:ext cx="2233440" cy="25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5280" y="260280"/>
            <a:ext cx="2376360" cy="10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我会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6 L 0.10243 -7.40741E-006 E">
                                      <p:cBhvr>
                                        <p:cTn id="1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4.07407E-006 L -0.10243 -4.07407E-006 E">
                                      <p:cBhvr>
                                        <p:cTn id="1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913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84640" y="3610080"/>
            <a:ext cx="429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" y="11983"/>
                </a:moveTo>
                <a:arcTo wR="10800" hR="10800" stAng="10422816" swAng="11177184"/>
                <a:lnTo>
                  <a:pt x="10800" y="10800"/>
                </a:lnTo>
                <a:close/>
              </a:path>
              <a:path fill="none" w="21600" h="21600">
                <a:moveTo>
                  <a:pt x="65" y="11983"/>
                </a:moveTo>
                <a:arcTo wR="10800" hR="10800" stAng="10422816" swAng="11177184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55720" y="3848040"/>
            <a:ext cx="172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00640" y="384660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38178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4840" y="3789360"/>
            <a:ext cx="125640" cy="12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21255600">
            <a:off x="899640" y="1052280"/>
            <a:ext cx="194472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我会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58920" y="22050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有人说：平角就是一条直线，你认为这种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527280"/>
            <a:ext cx="429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" y="11983"/>
                </a:moveTo>
                <a:arcTo wR="10800" hR="10800" stAng="10422816" swAng="11177184"/>
                <a:lnTo>
                  <a:pt x="10800" y="10800"/>
                </a:lnTo>
                <a:close/>
              </a:path>
              <a:path fill="none" w="21600" h="21600">
                <a:moveTo>
                  <a:pt x="65" y="11983"/>
                </a:moveTo>
                <a:arcTo wR="10800" hR="10800" stAng="10422816" swAng="11177184"/>
              </a:path>
            </a:pathLst>
          </a:custGeom>
          <a:noFill/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27440" y="37656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7638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27720" y="373536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30600" y="3735360"/>
            <a:ext cx="54000" cy="5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6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6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16360" y="4149720"/>
            <a:ext cx="2950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943360" y="2712600"/>
            <a:ext cx="2579400" cy="14328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0920" y="3789360"/>
            <a:ext cx="28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24360" y="2924280"/>
            <a:ext cx="338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4292640"/>
            <a:ext cx="3384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86" name=""/>
          <p:cNvSpPr/>
          <p:nvPr/>
        </p:nvSpPr>
        <p:spPr>
          <a:xfrm>
            <a:off x="2933640" y="4114800"/>
            <a:ext cx="54000" cy="5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68360" y="4005360"/>
            <a:ext cx="5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顶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 rot="1524600">
            <a:off x="394920" y="476280"/>
            <a:ext cx="12970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916360" y="4149720"/>
            <a:ext cx="2950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943360" y="2712600"/>
            <a:ext cx="2579400" cy="14328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0920" y="3789360"/>
            <a:ext cx="28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24360" y="2924280"/>
            <a:ext cx="338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56000" y="4292640"/>
            <a:ext cx="3384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4" name=""/>
          <p:cNvSpPr/>
          <p:nvPr/>
        </p:nvSpPr>
        <p:spPr>
          <a:xfrm>
            <a:off x="2933640" y="4110120"/>
            <a:ext cx="54000" cy="5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68360" y="4005360"/>
            <a:ext cx="5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顶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031000" y="1995480"/>
            <a:ext cx="1616760" cy="21344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32800" y="1874160"/>
            <a:ext cx="1080" cy="2225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403440" y="1979640"/>
            <a:ext cx="1616760" cy="21344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643840" y="3294360"/>
            <a:ext cx="2363760" cy="818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642400" y="4147560"/>
            <a:ext cx="2382120" cy="72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52135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52135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4560" y="55738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直  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 rot="1524600">
            <a:off x="394920" y="476280"/>
            <a:ext cx="12970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Motion origin="layout" path="M 0 0 L 0.22848 0 E">
                                      <p:cBhvr>
                                        <p:cTn id="9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0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1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71 -4.07407E-006 L 0.26771 0.03149 E">
                                      <p:cBhvr>
                                        <p:cTn id="113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75 0.04606 C 0.20121 0.05092 0.15903 0.05625 0.11996 0.06597 C 0.0809 0.07569 0.03924 0.08287 0.00972 0.10393 C -0.02014 0.12523 -0.04653 0.17731 -0.05781 0.19305 E">
                                      <p:cBhvr>
                                        <p:cTn id="177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L -0.08663 -4.44444E-006 E">
                                      <p:cBhvr>
                                        <p:cTn id="19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2.22222E-006 -4.44444E-006 L 0.07864 -4.44444E-006 E">
                                      <p:cBhvr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71640" y="1001880"/>
            <a:ext cx="6696000" cy="3716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359240" y="4524480"/>
            <a:ext cx="4100400" cy="126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99120" y="4481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4508640"/>
            <a:ext cx="2805120" cy="126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3303360"/>
            <a:ext cx="2577960" cy="11890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56000" y="2674440"/>
            <a:ext cx="3911760" cy="18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143200">
            <a:off x="7609680" y="234252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2491920"/>
            <a:ext cx="1670040" cy="20005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381560" y="1110960"/>
            <a:ext cx="2781360" cy="336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457800">
            <a:off x="6504840" y="82152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29000" y="1542960"/>
            <a:ext cx="1035000" cy="29498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362480" y="476280"/>
            <a:ext cx="1368360" cy="39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5493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89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341960" y="1204560"/>
            <a:ext cx="64800" cy="325908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327560" y="404640"/>
            <a:ext cx="100080" cy="40989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19640" y="399600"/>
            <a:ext cx="19080" cy="409428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2560" y="5634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3333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7465400">
            <a:off x="5135400" y="178920"/>
            <a:ext cx="108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71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1640" y="1001880"/>
            <a:ext cx="6696000" cy="3716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59240" y="4514760"/>
            <a:ext cx="4100400" cy="129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99120" y="4481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340160" y="385560"/>
            <a:ext cx="6480" cy="4144680"/>
          </a:xfrm>
          <a:prstGeom prst="line">
            <a:avLst/>
          </a:prstGeom>
          <a:ln w="1908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25960" y="3762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084560" y="1607760"/>
            <a:ext cx="241200" cy="29005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995640" y="590040"/>
            <a:ext cx="324000" cy="3922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1375000">
            <a:off x="3797280" y="5346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95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847960" y="1909800"/>
            <a:ext cx="1479600" cy="2619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374920" y="1095120"/>
            <a:ext cx="1930320" cy="34066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9449600">
            <a:off x="2124360" y="9234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20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879200" y="2909880"/>
            <a:ext cx="2443320" cy="15811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966600" y="2323800"/>
            <a:ext cx="3375000" cy="2181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7731200">
            <a:off x="580320" y="19443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47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1464840" y="4457520"/>
            <a:ext cx="2868840" cy="442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588960" y="4440240"/>
            <a:ext cx="3743280" cy="55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8200" y="41115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79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24000" y="4506840"/>
            <a:ext cx="4006800" cy="7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45086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80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341960" y="372960"/>
            <a:ext cx="6120" cy="4145040"/>
          </a:xfrm>
          <a:prstGeom prst="line">
            <a:avLst/>
          </a:prstGeom>
          <a:ln w="19080">
            <a:solidFill>
              <a:srgbClr val="703d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8720" y="260280"/>
            <a:ext cx="72723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人说：因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5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角小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0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所以这个角是钝角。你认为这种说法对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543720" cy="3632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745160" y="5056200"/>
            <a:ext cx="3544920" cy="1260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754520" y="1472760"/>
            <a:ext cx="19080" cy="3592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169640" y="5036760"/>
            <a:ext cx="3592440" cy="19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29000" y="14508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50324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18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756320" y="1488960"/>
            <a:ext cx="320400" cy="356400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65800">
            <a:off x="5023080" y="15346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Comic Sans MS"/>
              </a:rPr>
              <a:t>85</a:t>
            </a:r>
            <a:r>
              <a:rPr b="0" lang="zh-CN" sz="2400" spc="-1" strike="noStrike" baseline="50000">
                <a:solidFill>
                  <a:srgbClr val="ff9900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66000" y="50418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14200" y="222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12:01:59Z</dcterms:created>
  <dc:creator>软件仓库</dc:creator>
  <dc:description/>
  <dc:language>en-US</dc:language>
  <cp:lastModifiedBy>yilin 2</cp:lastModifiedBy>
  <dcterms:modified xsi:type="dcterms:W3CDTF">2005-06-22T04:58:44Z</dcterms:modified>
  <cp:revision>68</cp:revision>
  <dc:subject/>
  <dc:title>幻灯片 1</dc:title>
</cp:coreProperties>
</file>