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wmf" ContentType="image/x-wmf"/>
  <Override PartName="/ppt/media/image8.wmf" ContentType="image/x-wmf"/>
  <Override PartName="/ppt/media/image12.wmf" ContentType="image/x-wmf"/>
  <Override PartName="/ppt/media/image1.gif" ContentType="image/gi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23.wmf" ContentType="image/x-wmf"/>
  <Override PartName="/ppt/media/image20.gif" ContentType="image/gif"/>
  <Override PartName="/ppt/media/image22.wmf" ContentType="image/x-wmf"/>
  <Override PartName="/ppt/media/image2.gif" ContentType="image/gif"/>
  <Override PartName="/ppt/media/image4.wmf" ContentType="image/x-wmf"/>
  <Override PartName="/ppt/media/image5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14.jpeg" ContentType="image/jpeg"/>
  <Override PartName="/ppt/media/image18.wmf" ContentType="image/x-wmf"/>
  <Override PartName="/ppt/media/image15.png" ContentType="image/pn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B77-D28C-486C-B8C7-1A9843BB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7968-6737-4166-AADD-9D07379C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EBE-FFBB-45C5-8A0D-99CB4D02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C4ED-133F-44B3-B7BD-3B6EF7CF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1DD5-59A2-4125-98AE-5E7BCB3C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6847-4630-4A48-B536-A7990736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92F0-2373-468F-B9C8-835DFAAD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E49D-F4DA-4F13-B0E0-FFA9AA86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B5D3-97DD-4CCC-9AF5-C9C43931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A278-C89D-44F8-885B-99B9C183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8BA2-B56F-4E5E-A73A-BE670FCE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35C0-38C3-4C25-A07E-8BF393FD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0260-9595-4992-918A-F868385E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BE98-DB5D-4171-B7E6-C7404347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AC9F-B978-4751-BB4F-ECC3AD5F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1C06-D1E6-43DE-A75F-8799EDE0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2418-E0A6-4261-A588-2E3190BA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5DE5-667B-43F4-8D04-ACF2307C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4DF9-5F38-45EC-BE7F-806F009E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CFD4-5DE0-4FC6-ACF0-B3723B6F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31E8-816F-43F3-A506-DA4AFC08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76A8-1F90-4A21-B2AA-94D6CFA0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F4E-CE12-4272-89BB-F62DF106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1AF-2320-4060-BB5B-941A3CFA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4207-8F23-4BE9-817C-FB33E495379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6771-EB5C-49C5-921A-817493E628A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99576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045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467840" cy="4395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514600" y="685800"/>
            <a:ext cx="491508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Weather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1680"/>
            <a:ext cx="7792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sunny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windy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rainy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snow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cloud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039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135" name="039" descr=""/>
          <p:cNvPicPr/>
          <p:nvPr/>
        </p:nvPicPr>
        <p:blipFill>
          <a:blip r:embed="rId2"/>
          <a:stretch/>
        </p:blipFill>
        <p:spPr>
          <a:xfrm>
            <a:off x="5867280" y="449568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136" name="NA01468_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4589640" cy="31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: What’s  the weather like today?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B:It’s…                                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ainy        snow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unny         wind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BD19563_" descr=""/>
          <p:cNvPicPr/>
          <p:nvPr/>
        </p:nvPicPr>
        <p:blipFill>
          <a:blip r:embed="rId1"/>
          <a:stretch/>
        </p:blipFill>
        <p:spPr>
          <a:xfrm flipH="1" rot="10800000">
            <a:off x="1143000" y="2514600"/>
            <a:ext cx="2757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l152" descr=""/>
          <p:cNvPicPr/>
          <p:nvPr/>
        </p:nvPicPr>
        <p:blipFill>
          <a:blip r:embed="rId1"/>
          <a:stretch/>
        </p:blipFill>
        <p:spPr>
          <a:xfrm>
            <a:off x="1339920" y="1143000"/>
            <a:ext cx="7651800" cy="5129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629400" y="2590920"/>
            <a:ext cx="108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41148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Wu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46483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ngh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39920" y="761760"/>
            <a:ext cx="7804080" cy="5514840"/>
          </a:xfrm>
          <a:prstGeom prst="rect">
            <a:avLst/>
          </a:prstGeom>
          <a:ln w="0">
            <a:noFill/>
          </a:ln>
        </p:spPr>
      </p:pic>
      <p:pic>
        <p:nvPicPr>
          <p:cNvPr id="145" name="l151" descr=""/>
          <p:cNvPicPr/>
          <p:nvPr/>
        </p:nvPicPr>
        <p:blipFill>
          <a:blip r:embed="rId2"/>
          <a:stretch/>
        </p:blipFill>
        <p:spPr>
          <a:xfrm>
            <a:off x="1219320" y="609480"/>
            <a:ext cx="7696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81620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(1) ——— the weather like today ?</a:t>
            </a:r>
            <a:br>
              <a:rPr sz="4400"/>
            </a:b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  It’s __________ .            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57400" y="3200400"/>
            <a:ext cx="4114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indy                  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039" descr=""/>
          <p:cNvPicPr/>
          <p:nvPr/>
        </p:nvPicPr>
        <p:blipFill>
          <a:blip r:embed="rId1"/>
          <a:stretch/>
        </p:blipFill>
        <p:spPr>
          <a:xfrm>
            <a:off x="6019920" y="4800600"/>
            <a:ext cx="2342880" cy="1096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676520" y="228600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windy1" descr=""/>
          <p:cNvPicPr/>
          <p:nvPr/>
        </p:nvPicPr>
        <p:blipFill>
          <a:blip r:embed="rId2"/>
          <a:stretch/>
        </p:blipFill>
        <p:spPr>
          <a:xfrm>
            <a:off x="2971800" y="228600"/>
            <a:ext cx="335268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2)What’s ____ weather like today?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’s _________.            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6880" y="3657600"/>
            <a:ext cx="18288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ain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039" descr=""/>
          <p:cNvPicPr/>
          <p:nvPr/>
        </p:nvPicPr>
        <p:blipFill>
          <a:blip r:embed="rId1"/>
          <a:stretch/>
        </p:blipFill>
        <p:spPr>
          <a:xfrm>
            <a:off x="6095880" y="4648320"/>
            <a:ext cx="2343240" cy="1096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733920" y="24382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NA01682_" descr=""/>
          <p:cNvPicPr/>
          <p:nvPr/>
        </p:nvPicPr>
        <p:blipFill>
          <a:blip r:embed="rId2"/>
          <a:stretch/>
        </p:blipFill>
        <p:spPr>
          <a:xfrm>
            <a:off x="2895480" y="0"/>
            <a:ext cx="335304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514240"/>
            <a:ext cx="762012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3)What’s  the ________like  today?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’s __________ . 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3200400"/>
            <a:ext cx="2133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now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039" descr=""/>
          <p:cNvPicPr/>
          <p:nvPr/>
        </p:nvPicPr>
        <p:blipFill>
          <a:blip r:embed="rId1"/>
          <a:stretch/>
        </p:blipFill>
        <p:spPr>
          <a:xfrm>
            <a:off x="2590920" y="4648320"/>
            <a:ext cx="2342880" cy="1096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00600" y="2438280"/>
            <a:ext cx="222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DD00297_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3124080" cy="13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4)What’s the weather                     ____  today ?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’s _________ .             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33720" y="3276720"/>
            <a:ext cx="3047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unn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039" descr=""/>
          <p:cNvPicPr/>
          <p:nvPr/>
        </p:nvPicPr>
        <p:blipFill>
          <a:blip r:embed="rId1"/>
          <a:stretch/>
        </p:blipFill>
        <p:spPr>
          <a:xfrm>
            <a:off x="5715000" y="5410080"/>
            <a:ext cx="2343240" cy="1096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066680" y="289548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E00542_" descr=""/>
          <p:cNvPicPr/>
          <p:nvPr/>
        </p:nvPicPr>
        <p:blipFill>
          <a:blip r:embed="rId2"/>
          <a:stretch/>
        </p:blipFill>
        <p:spPr>
          <a:xfrm>
            <a:off x="2819520" y="0"/>
            <a:ext cx="28954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362320"/>
            <a:ext cx="784872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5)What’s the weather like ______?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’s _________.              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  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09320" y="3505320"/>
            <a:ext cx="2514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oud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039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2343240" cy="1096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066680" y="304812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NA01680_" descr=""/>
          <p:cNvPicPr/>
          <p:nvPr/>
        </p:nvPicPr>
        <p:blipFill>
          <a:blip r:embed="rId2"/>
          <a:stretch/>
        </p:blipFill>
        <p:spPr>
          <a:xfrm>
            <a:off x="3048120" y="609480"/>
            <a:ext cx="32763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99576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1905120"/>
            <a:ext cx="624852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-by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4" name="118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4765680" cy="6264000"/>
          </a:xfrm>
          <a:prstGeom prst="rect">
            <a:avLst/>
          </a:prstGeom>
          <a:ln w="0">
            <a:noFill/>
          </a:ln>
        </p:spPr>
      </p:pic>
      <p:pic>
        <p:nvPicPr>
          <p:cNvPr id="175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176" name="SO00483_" descr=""/>
          <p:cNvPicPr/>
          <p:nvPr/>
        </p:nvPicPr>
        <p:blipFill>
          <a:blip r:embed="rId3"/>
          <a:stretch/>
        </p:blipFill>
        <p:spPr>
          <a:xfrm>
            <a:off x="8153280" y="0"/>
            <a:ext cx="741600" cy="657360"/>
          </a:xfrm>
          <a:prstGeom prst="rect">
            <a:avLst/>
          </a:prstGeom>
          <a:ln w="0">
            <a:noFill/>
          </a:ln>
        </p:spPr>
      </p:pic>
      <p:pic>
        <p:nvPicPr>
          <p:cNvPr id="177" name="FD00306_" descr=""/>
          <p:cNvPicPr/>
          <p:nvPr/>
        </p:nvPicPr>
        <p:blipFill>
          <a:blip r:embed="rId4"/>
          <a:stretch/>
        </p:blipFill>
        <p:spPr>
          <a:xfrm>
            <a:off x="762120" y="4191120"/>
            <a:ext cx="404316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8029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ision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 现在是几点钟？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---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四点钟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现在是差五分六点钟， 该吃晚饭了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今天是星期几？星期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362320"/>
            <a:ext cx="71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ime is it now? It’s four o’c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6576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five to six. It’s time for sup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800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ay is it today? It’s Thurs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039" descr=""/>
          <p:cNvPicPr/>
          <p:nvPr/>
        </p:nvPicPr>
        <p:blipFill>
          <a:blip r:embed="rId1"/>
          <a:stretch/>
        </p:blipFill>
        <p:spPr>
          <a:xfrm>
            <a:off x="3200400" y="304812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108" name="SO00820_" descr=""/>
          <p:cNvPicPr/>
          <p:nvPr/>
        </p:nvPicPr>
        <p:blipFill>
          <a:blip r:embed="rId2"/>
          <a:stretch/>
        </p:blipFill>
        <p:spPr>
          <a:xfrm>
            <a:off x="3276720" y="380880"/>
            <a:ext cx="1819080" cy="1346400"/>
          </a:xfrm>
          <a:prstGeom prst="rect">
            <a:avLst/>
          </a:prstGeom>
          <a:ln w="0">
            <a:noFill/>
          </a:ln>
        </p:spPr>
      </p:pic>
      <p:pic>
        <p:nvPicPr>
          <p:cNvPr id="109" name="NA00042_" descr=""/>
          <p:cNvPicPr/>
          <p:nvPr/>
        </p:nvPicPr>
        <p:blipFill>
          <a:blip r:embed="rId3"/>
          <a:stretch/>
        </p:blipFill>
        <p:spPr>
          <a:xfrm>
            <a:off x="7238880" y="5181480"/>
            <a:ext cx="14655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133360"/>
            <a:ext cx="84582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Lesson</a:t>
            </a:r>
            <a:r>
              <a:rPr b="0" lang="zh-CN" sz="4400" spc="-1" strike="noStrike">
                <a:solidFill>
                  <a:srgbClr val="ffcf01"/>
                </a:solidFill>
                <a:latin typeface="Tahoma"/>
              </a:rPr>
              <a:t>15  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What’s the weather                      like toda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335268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art 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BL00526_" descr=""/>
          <p:cNvPicPr/>
          <p:nvPr/>
        </p:nvPicPr>
        <p:blipFill>
          <a:blip r:embed="rId1"/>
          <a:stretch/>
        </p:blipFill>
        <p:spPr>
          <a:xfrm>
            <a:off x="5257800" y="4572000"/>
            <a:ext cx="38862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ahoma"/>
              </a:rPr>
              <a:t>sunny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40040" y="2091960"/>
            <a:ext cx="51120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at’s the  weather like today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It’s  sunny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NA01064_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0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i="1" lang="en-US" sz="6600" spc="-1" strike="noStrike">
                <a:solidFill>
                  <a:srgbClr val="3333cc"/>
                </a:solidFill>
                <a:latin typeface="Tahoma"/>
              </a:rPr>
              <a:t>rainy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at’s the  weather like 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t’s  rainy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NA01682_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宋体"/>
              </a:rPr>
              <a:t>        </a:t>
            </a:r>
            <a:r>
              <a:rPr b="1" i="1" lang="en-US" sz="6600" spc="-1" strike="noStrike">
                <a:solidFill>
                  <a:srgbClr val="ffffff"/>
                </a:solidFill>
                <a:latin typeface="宋体"/>
              </a:rPr>
              <a:t>snowy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at’s the  weather like 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t’s  snowy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SO00257_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810240" cy="40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956880"/>
            <a:ext cx="779292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loudy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at’s the  weather like 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t’s cloud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NA01680_" descr=""/>
          <p:cNvPicPr/>
          <p:nvPr/>
        </p:nvPicPr>
        <p:blipFill>
          <a:blip r:embed="rId1"/>
          <a:stretch/>
        </p:blipFill>
        <p:spPr>
          <a:xfrm>
            <a:off x="-228600" y="279072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71200" y="-481320"/>
            <a:ext cx="8163000" cy="34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i="1" lang="en-US" sz="6600" spc="-1" strike="noStrike">
                <a:solidFill>
                  <a:srgbClr val="ff99ff"/>
                </a:solidFill>
                <a:latin typeface="Tahoma"/>
              </a:rPr>
              <a:t>windy  </a:t>
            </a:r>
            <a:br>
              <a:rPr sz="6600"/>
            </a:b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05080" y="2091960"/>
            <a:ext cx="4746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’s the  weather like 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t’s  windy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956880"/>
            <a:ext cx="779292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New word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ifteen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ik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039" descr=""/>
          <p:cNvPicPr/>
          <p:nvPr/>
        </p:nvPicPr>
        <p:blipFill>
          <a:blip r:embed="rId1"/>
          <a:stretch/>
        </p:blipFill>
        <p:spPr>
          <a:xfrm>
            <a:off x="5715000" y="510552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131" name="NA00433_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2827440" cy="349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2T14:21:15Z</dcterms:created>
  <dc:creator>jxh</dc:creator>
  <dc:description/>
  <dc:language>en-US</dc:language>
  <cp:lastModifiedBy>jxh</cp:lastModifiedBy>
  <dcterms:modified xsi:type="dcterms:W3CDTF">2002-05-12T13:01:51Z</dcterms:modified>
  <cp:revision>56</cp:revision>
  <dc:subject/>
  <dc:title>Teaching design of Lesson 15 (Book I)</dc:title>
</cp:coreProperties>
</file>