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4BF-A6FE-47DB-A002-6B54CB28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F7C-9A87-4599-848D-781652BF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CA8-AC1A-4626-BAF7-535512FA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4E0-EEEB-46B8-923B-7E33625E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1E8-443A-4B4D-A6E3-8BBC70B7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B96-2F0F-455E-B5E3-8C97403C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3D3-D690-4A6C-8A59-CC023A70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C36-E2E8-4E1C-B208-6166665C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ECC-1C5E-4BA2-B3AD-B8C603EF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892-F415-4AEE-B433-0DC17C84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1E8-A72D-4BA5-99E3-FC75B7E2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5C5-37D6-4D5E-8FFA-0FE371EA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2E75-6B95-4875-9836-82B8FD6B6D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6004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 on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  field  trip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进行一次野外郊游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示到达的目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discuss sth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讨论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of course / sure / certain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 fish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gree to do sth   agree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with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s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5273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7. Be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. Go hiking  ( go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hik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9. Have (make  take )a field tr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. Go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picn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1.  The day after tomorr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748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are going __ our __(one) field 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he is going to trip __ Am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lease stay __    study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don’t you go ___[fish] __ East Lake? 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意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  agree ___ our teacher and I agree __ {take} it to my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2286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09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448920" cy="5020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There are many kinds of __[ fish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 He doesn’t like __       [fish] He likes __[hike]. 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e likes 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滑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et’s 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ow ___[go] t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__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徒步旅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next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He _____ [go] __ a picnic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914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143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02:33:16Z</dcterms:created>
  <dc:creator>Star</dc:creator>
  <dc:description/>
  <dc:language>en-US</dc:language>
  <cp:lastModifiedBy>Star</cp:lastModifiedBy>
  <dcterms:modified xsi:type="dcterms:W3CDTF">2002-05-29T03:23:47Z</dcterms:modified>
  <cp:revision>11</cp:revision>
  <dc:subject/>
  <dc:title>PowerPoint 演示文稿</dc:title>
</cp:coreProperties>
</file>