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EF7-E7A2-4364-9D55-45B9401B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3015-9C30-41B4-84ED-D33ABED2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ABD5-D907-4198-BA89-BB6A9546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D165-C830-46C7-9091-56B532528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985-92D2-42E5-92D7-2F8158A1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701-E861-464F-881B-F4145465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8646-2D47-4C8E-9378-0B8A03F1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F0FF-50AE-409C-925E-E8D7F114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EEE6-48D2-437A-9CB3-CD9E46A4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7615-0D6D-4975-A0E3-4902B8C5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00A2-8364-4F23-9A3D-B75F2BE3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FCF-9812-4062-B31B-70F8497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E75D-1C05-4ACF-84DE-AE54E290C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J_001" descr=""/>
          <p:cNvPicPr/>
          <p:nvPr/>
        </p:nvPicPr>
        <p:blipFill>
          <a:blip r:embed="rId1"/>
          <a:stretch/>
        </p:blipFill>
        <p:spPr>
          <a:xfrm>
            <a:off x="45720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1219320"/>
            <a:ext cx="624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隶书"/>
                <a:ea typeface="隶书"/>
              </a:rPr>
              <a:t>第 一 次 真 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南宁市首届语文学科说课大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5181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南宁市天桃实验学校中学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95680" y="313848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隶书"/>
                <a:ea typeface="隶书"/>
              </a:rPr>
              <a:t>宁   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3066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主讲教师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81080" y="163044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隶书"/>
                <a:ea typeface="隶书"/>
              </a:rPr>
              <a:t>再  见！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502920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2001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年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11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月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15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43000" y="457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说教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1143000"/>
            <a:ext cx="3810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1" lang="zh-CN" sz="3000" spc="-1" strike="noStrike">
                <a:solidFill>
                  <a:srgbClr val="0033cc"/>
                </a:solidFill>
                <a:latin typeface="宋体"/>
              </a:rPr>
              <a:t>教材定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5280" y="1828800"/>
            <a:ext cx="464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《新课程标准》要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251460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单元教学要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教学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396252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让学生联系自己的生活，理解 “第一次真好”的含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4952880"/>
            <a:ext cx="579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领悟作者的写作意图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5562720"/>
            <a:ext cx="563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学习阅读文章的一般方法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38080" y="68580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教学重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523880"/>
            <a:ext cx="754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设置能将讨论步步引向深入的问题，引导学生自读、质疑、讨论来领悟“第一次真好”的具体含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320040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、学生按照“写什么——怎么写——为什么写”的程序阅读课文，学会自读课文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4496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四、教学难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25780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Times New Roman"/>
              </a:rPr>
              <a:t>领悟作者为什么要我们珍重第一次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80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五、说教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9144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使用导读法进行本课教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44792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六、说学法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19051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阅读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243828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写作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971800"/>
            <a:ext cx="655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七、教学思路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3581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感知第一次 “真好”——理解课文“写什么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8006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探究写“第一次”的意图——理解课文“为什么写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191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品味第一次“真好”——理解课文“怎么写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5729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谈第一次“真好”——进行情感体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90720" y="533520"/>
            <a:ext cx="6324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八、教学过程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4479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一）感知“第一次”真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2438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二）品味“第一次”真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342900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三）探究写作意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44197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四）拓展：谈“第一次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54100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五）学生谈学习本课的体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2485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25089" y="10800"/>
                </a:moveTo>
                <a:lnTo>
                  <a:pt x="14583" y="17806"/>
                </a:lnTo>
                <a:lnTo>
                  <a:pt x="14583" y="3794"/>
                </a:lnTo>
                <a:close/>
              </a:path>
              <a:path fill="darken" w="43180" h="21600">
                <a:moveTo>
                  <a:pt x="26934" y="3794"/>
                </a:moveTo>
                <a:lnTo>
                  <a:pt x="26934" y="17806"/>
                </a:lnTo>
                <a:lnTo>
                  <a:pt x="28596" y="17806"/>
                </a:lnTo>
                <a:lnTo>
                  <a:pt x="28596" y="3794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77320" y="62485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04" h="21600">
                <a:moveTo>
                  <a:pt x="16745" y="3794"/>
                </a:moveTo>
                <a:lnTo>
                  <a:pt x="30758" y="10800"/>
                </a:lnTo>
                <a:lnTo>
                  <a:pt x="16745" y="17806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90720" y="83808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九、板书设计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2743200"/>
            <a:ext cx="609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好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4738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奇妙——回味无穷——新鲜、刺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133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奇妙——低回品味——喜悦、新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01000" y="2173320"/>
            <a:ext cx="609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36232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467480" y="2362320"/>
            <a:ext cx="304920" cy="2590560"/>
          </a:xfrm>
          <a:custGeom>
            <a:avLst/>
            <a:gdLst>
              <a:gd name="textAreaLeft" fmla="*/ 0 w 304920"/>
              <a:gd name="textAreaRight" fmla="*/ 110160 w 3049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60199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70" h="21600">
                <a:moveTo>
                  <a:pt x="15435" y="3837"/>
                </a:moveTo>
                <a:lnTo>
                  <a:pt x="18011" y="6448"/>
                </a:lnTo>
                <a:lnTo>
                  <a:pt x="18011" y="4707"/>
                </a:lnTo>
                <a:lnTo>
                  <a:pt x="19787" y="4707"/>
                </a:lnTo>
                <a:lnTo>
                  <a:pt x="19787" y="8224"/>
                </a:lnTo>
                <a:lnTo>
                  <a:pt x="22398" y="10800"/>
                </a:lnTo>
                <a:lnTo>
                  <a:pt x="20744" y="10800"/>
                </a:lnTo>
                <a:lnTo>
                  <a:pt x="20744" y="17989"/>
                </a:lnTo>
                <a:lnTo>
                  <a:pt x="10126" y="17989"/>
                </a:lnTo>
                <a:lnTo>
                  <a:pt x="10126" y="10800"/>
                </a:lnTo>
                <a:lnTo>
                  <a:pt x="8472" y="10800"/>
                </a:lnTo>
                <a:close/>
              </a:path>
              <a:path fill="darkenLess" w="30870" h="21600">
                <a:moveTo>
                  <a:pt x="18011" y="6448"/>
                </a:moveTo>
                <a:lnTo>
                  <a:pt x="18011" y="4707"/>
                </a:lnTo>
                <a:lnTo>
                  <a:pt x="19787" y="4707"/>
                </a:lnTo>
                <a:lnTo>
                  <a:pt x="19787" y="8224"/>
                </a:lnTo>
                <a:close/>
              </a:path>
              <a:path fill="darkenLess" w="30870" h="21600">
                <a:moveTo>
                  <a:pt x="14512" y="14299"/>
                </a:moveTo>
                <a:lnTo>
                  <a:pt x="16357" y="14299"/>
                </a:lnTo>
                <a:lnTo>
                  <a:pt x="16357" y="17989"/>
                </a:lnTo>
                <a:lnTo>
                  <a:pt x="20744" y="17989"/>
                </a:lnTo>
                <a:lnTo>
                  <a:pt x="20744" y="10800"/>
                </a:lnTo>
                <a:lnTo>
                  <a:pt x="10126" y="10800"/>
                </a:lnTo>
                <a:lnTo>
                  <a:pt x="10126" y="17989"/>
                </a:lnTo>
                <a:lnTo>
                  <a:pt x="14512" y="17989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53280" y="64008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960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3794"/>
                </a:moveTo>
                <a:lnTo>
                  <a:pt x="30769" y="10800"/>
                </a:lnTo>
                <a:lnTo>
                  <a:pt x="16756" y="17806"/>
                </a:lnTo>
                <a:close/>
              </a:path>
            </a:pathLst>
          </a:custGeom>
          <a:solidFill>
            <a:srgbClr val="008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J_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56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04920" y="304920"/>
            <a:ext cx="3504960" cy="25146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3809880"/>
            <a:ext cx="3581280" cy="22719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4479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奇妙——低回品味——喜悦、新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47242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奇妙——回味无穷——新鲜、刺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10800"/>
                </a:moveTo>
                <a:lnTo>
                  <a:pt x="30769" y="3794"/>
                </a:lnTo>
                <a:lnTo>
                  <a:pt x="30769" y="17806"/>
                </a:lnTo>
                <a:close/>
              </a:path>
            </a:pathLst>
          </a:custGeom>
          <a:solidFill>
            <a:srgbClr val="008000"/>
          </a:solidFill>
          <a:ln w="3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2T12:13:27Z</dcterms:created>
  <dc:creator>user</dc:creator>
  <dc:description/>
  <dc:language>en-US</dc:language>
  <cp:lastModifiedBy>user</cp:lastModifiedBy>
  <dcterms:modified xsi:type="dcterms:W3CDTF">2001-11-21T09:41:46Z</dcterms:modified>
  <cp:revision>45</cp:revision>
  <dc:subject/>
  <dc:title>没有幻灯片标题</dc:title>
</cp:coreProperties>
</file>