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447B-F8A5-454F-B31E-7C954114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97A0-03EA-4DD1-B684-171231EB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EEB1-AAA7-4DB0-ADC6-27C85EDF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7AE-86C8-4627-A031-DA746FB7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2D10-7EDC-42C0-AE5D-EF7752A8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C61-1C33-4452-8815-B57C9B39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FA69-D9D8-49F8-97F0-69EE80C1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D4DD-6760-4BF7-A21D-9E183277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0905-2017-4A16-8C6A-07DD39CD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9981-FE0A-451C-9226-CA7A3A1B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B61F-347D-4B5E-AFA7-38456432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5451-8690-4CF4-8C19-A4A75A65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4EAD-2EB7-4233-969A-768F050E6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1143000"/>
            <a:ext cx="64771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46483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作者：孙玉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228600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《看图读拼音识字</a:t>
            </a:r>
            <a:r>
              <a:rPr b="1" lang="en-US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9</a:t>
            </a:r>
            <a:r>
              <a:rPr b="1" lang="zh-CN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》教学课件</a:t>
            </a:r>
            <a:endParaRPr b="1" lang="en-US" sz="2400" spc="1" strike="noStrike">
              <a:ln w="9360">
                <a:solidFill>
                  <a:srgbClr val="cc0099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小学语文第一册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rot="21211200">
            <a:off x="838080" y="838080"/>
            <a:ext cx="678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ff"/>
                </a:solidFill>
                <a:latin typeface="隶书"/>
                <a:ea typeface="隶书"/>
              </a:rPr>
              <a:t>看图读拼音识字</a:t>
            </a:r>
            <a:r>
              <a:rPr b="1" i="1" lang="zh-CN" sz="6600" spc="-1" strike="noStrike">
                <a:solidFill>
                  <a:srgbClr val="0000ff"/>
                </a:solidFill>
                <a:latin typeface="隶书"/>
                <a:ea typeface="隶书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59000" y="2209680"/>
            <a:ext cx="2343240" cy="3497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yp4" descr=""/>
          <p:cNvPicPr/>
          <p:nvPr/>
        </p:nvPicPr>
        <p:blipFill>
          <a:blip r:embed="rId1"/>
          <a:stretch/>
        </p:blipFill>
        <p:spPr>
          <a:xfrm>
            <a:off x="744480" y="3886200"/>
            <a:ext cx="1697040" cy="2438280"/>
          </a:xfrm>
          <a:prstGeom prst="rect">
            <a:avLst/>
          </a:prstGeom>
          <a:ln w="0">
            <a:noFill/>
          </a:ln>
        </p:spPr>
      </p:pic>
      <p:pic>
        <p:nvPicPr>
          <p:cNvPr id="48" name="syp1" descr=""/>
          <p:cNvPicPr/>
          <p:nvPr/>
        </p:nvPicPr>
        <p:blipFill>
          <a:blip r:embed="rId2"/>
          <a:stretch/>
        </p:blipFill>
        <p:spPr>
          <a:xfrm>
            <a:off x="3314880" y="173160"/>
            <a:ext cx="5219640" cy="4287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yp2" descr=""/>
          <p:cNvPicPr/>
          <p:nvPr/>
        </p:nvPicPr>
        <p:blipFill>
          <a:blip r:embed="rId1"/>
          <a:stretch/>
        </p:blipFill>
        <p:spPr>
          <a:xfrm>
            <a:off x="685800" y="2403360"/>
            <a:ext cx="4419720" cy="3546720"/>
          </a:xfrm>
          <a:prstGeom prst="rect">
            <a:avLst/>
          </a:prstGeom>
          <a:ln w="0">
            <a:noFill/>
          </a:ln>
        </p:spPr>
      </p:pic>
      <p:pic>
        <p:nvPicPr>
          <p:cNvPr id="50" name="syp3" descr=""/>
          <p:cNvPicPr/>
          <p:nvPr/>
        </p:nvPicPr>
        <p:blipFill>
          <a:blip r:embed="rId2"/>
          <a:stretch/>
        </p:blipFill>
        <p:spPr>
          <a:xfrm>
            <a:off x="6523200" y="457200"/>
            <a:ext cx="1977840" cy="2362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3T20:00:11Z</dcterms:created>
  <dc:creator>4</dc:creator>
  <dc:description/>
  <dc:language>en-US</dc:language>
  <cp:lastModifiedBy>4</cp:lastModifiedBy>
  <dcterms:modified xsi:type="dcterms:W3CDTF">2000-01-21T01:47:27Z</dcterms:modified>
  <cp:revision>7</cp:revision>
  <dc:subject/>
  <dc:title>没有幻灯片标题</dc:title>
</cp:coreProperties>
</file>