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A18-5978-4905-A9B4-75C486B0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269-D1B6-4254-8B6D-1F5BC52F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072-042C-4066-B144-B6B56B05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0F7-AAC4-4B85-BA50-61F4B5C7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724-5387-4633-9E52-1B77F031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11D-6FCA-4B1D-B25B-C498B141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43B9-9DF7-49CE-9DF1-EBEDC970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6F6-94AB-4104-90A6-E8105CAE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56D-47F7-4897-932F-E3B687B8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270-7905-4990-BE9C-B37B3BD5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E7C-53E4-45F6-B441-77B100EA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18E-3803-4B88-B0CC-1D4EE6C4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4906-0CFB-4AB1-90CC-898F910FA9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6004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Go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 on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  field  trip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( to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进行一次野外郊游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( to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表示到达的目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discuss sth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讨论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of course / sure / certain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go fish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agree to do sth   agree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with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s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9144000" cy="5273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7. Be good a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8. Go hiking  ( go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on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a hik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9. Have (make  take )a field tr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0. Go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on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a picnic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11.  The day after tomorr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9144000" cy="7484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e are going __ our __(one) field 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She is going to trip __ Amric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Please stay __    study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don’t you go ___[fish] __ East Lake? 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意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  agree ___ our teacher and I agree __ {take} it to my h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22860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imes New Roman"/>
              </a:rPr>
              <a:t>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38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1523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09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448920" cy="5020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6.There are many kinds of __[ fish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7. He doesn’t like __       [fish] He likes __[hike]. 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也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he likes _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滑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Let’s 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讨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how ___[go] t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e ___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去徒步旅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 next holi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He _____ [go] __ a picnic____[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后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15000" y="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9144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11430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2880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02:33:16Z</dcterms:created>
  <dc:creator>Star</dc:creator>
  <dc:description/>
  <dc:language>en-US</dc:language>
  <cp:lastModifiedBy>Star</cp:lastModifiedBy>
  <dcterms:modified xsi:type="dcterms:W3CDTF">2002-05-29T03:23:47Z</dcterms:modified>
  <cp:revision>11</cp:revision>
  <dc:subject/>
  <dc:title>PowerPoint 演示文稿</dc:title>
</cp:coreProperties>
</file>