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8B03-0B79-4498-B56E-F8D9F6B9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AF82-ABFF-4582-93BF-7BB884A9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F01D-4EAE-45F5-997B-D8BD4BCE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55D6-BAEE-4670-B946-AA07B257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794-7010-4F3D-B138-3A3E2AD2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9EF8-1988-40B6-BCE1-D248C206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D225-109D-4E83-9AF9-A0BD3685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69EF-1D63-4477-A9DE-D1D6D086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1550-490A-4CD2-A98E-ED250718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7584-6617-49C0-B7B7-0F6F0D68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6E10-5952-4579-B64E-E0B1BF7E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3032-EC5F-4B31-9783-4256DE74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0421-0E90-4DB9-9490-7B3CEE0871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3840" y="144792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31200" y="5425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作者：老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3400" y="7621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九年义务教育小学九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685800"/>
            <a:ext cx="82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5105520" y="685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464832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5" action="ppaction://hlinksldjump"/>
          </p:cNvPr>
          <p:cNvSpPr/>
          <p:nvPr/>
        </p:nvSpPr>
        <p:spPr>
          <a:xfrm>
            <a:off x="8381880" y="640080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10800" y="9224"/>
                </a:moveTo>
                <a:lnTo>
                  <a:pt x="13376" y="11835"/>
                </a:lnTo>
                <a:lnTo>
                  <a:pt x="13376" y="10095"/>
                </a:lnTo>
                <a:lnTo>
                  <a:pt x="15152" y="10095"/>
                </a:lnTo>
                <a:lnTo>
                  <a:pt x="15152" y="13611"/>
                </a:lnTo>
                <a:lnTo>
                  <a:pt x="17763" y="16187"/>
                </a:lnTo>
                <a:lnTo>
                  <a:pt x="16109" y="16187"/>
                </a:lnTo>
                <a:lnTo>
                  <a:pt x="16109" y="23377"/>
                </a:lnTo>
                <a:lnTo>
                  <a:pt x="5491" y="23377"/>
                </a:lnTo>
                <a:lnTo>
                  <a:pt x="5491" y="16187"/>
                </a:lnTo>
                <a:lnTo>
                  <a:pt x="3837" y="16187"/>
                </a:lnTo>
                <a:close/>
              </a:path>
              <a:path fill="darkenLess" w="21600" h="32375">
                <a:moveTo>
                  <a:pt x="13376" y="11835"/>
                </a:moveTo>
                <a:lnTo>
                  <a:pt x="13376" y="10095"/>
                </a:lnTo>
                <a:lnTo>
                  <a:pt x="15152" y="10095"/>
                </a:lnTo>
                <a:lnTo>
                  <a:pt x="15152" y="13611"/>
                </a:lnTo>
                <a:close/>
              </a:path>
              <a:path fill="darkenLess" w="21600" h="32375">
                <a:moveTo>
                  <a:pt x="9877" y="19686"/>
                </a:moveTo>
                <a:lnTo>
                  <a:pt x="11723" y="19686"/>
                </a:lnTo>
                <a:lnTo>
                  <a:pt x="11723" y="23377"/>
                </a:lnTo>
                <a:lnTo>
                  <a:pt x="16109" y="23377"/>
                </a:lnTo>
                <a:lnTo>
                  <a:pt x="16109" y="16187"/>
                </a:lnTo>
                <a:lnTo>
                  <a:pt x="5491" y="16187"/>
                </a:lnTo>
                <a:lnTo>
                  <a:pt x="5491" y="23377"/>
                </a:lnTo>
                <a:lnTo>
                  <a:pt x="9877" y="2337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6094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它要是高兴，能比谁都温柔可亲：用身子蹭你的腿，把脖儿伸出来要求给抓痒。或是在你写作的时候，跳上桌来，在稿纸上踩印几朵小梅花。它还会丰富多腔地叫唤，长短不同，粗细各异，变化多端。在不叫的时候，它还会咕噜咕噜地给自己解闷。这可都凭它的高兴。它若是不高兴啊，无论谁说多少好话，它一声也不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8534520" y="65530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86680" y="59364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温柔可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1880" y="5486400"/>
            <a:ext cx="274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声也不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58240" y="39204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既老实又贪玩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19480" y="152388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既贪玩又尽职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68040" y="24526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既温柔可亲又一声不出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3576600"/>
            <a:ext cx="450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既胆小又勇猛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1640" y="41911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43880" y="518148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猫的性格实在有些古怪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172200" y="54259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猫1.jpg%20复制" descr=""/>
          <p:cNvPicPr/>
          <p:nvPr/>
        </p:nvPicPr>
        <p:blipFill>
          <a:blip r:embed="rId1"/>
          <a:stretch/>
        </p:blipFill>
        <p:spPr>
          <a:xfrm>
            <a:off x="1922400" y="228600"/>
            <a:ext cx="5235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50840" y="782640"/>
            <a:ext cx="7712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你见了，绝不会责打它们，它们是那么生气勃勃，天真可爱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465160" y="48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94440" y="649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89480" y="6040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32280" y="619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2057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2057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2057400"/>
            <a:ext cx="15264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99072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猫既</a:t>
            </a:r>
            <a:r>
              <a:rPr b="1" lang="zh-CN" sz="80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8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又</a:t>
            </a:r>
            <a:r>
              <a:rPr b="1" lang="zh-CN" sz="80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8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它的性格实在有些古怪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67480" y="65530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437"/>
                </a:moveTo>
                <a:lnTo>
                  <a:pt x="13376" y="10048"/>
                </a:ln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lnTo>
                  <a:pt x="17763" y="14400"/>
                </a:lnTo>
                <a:lnTo>
                  <a:pt x="16109" y="14400"/>
                </a:lnTo>
                <a:lnTo>
                  <a:pt x="16109" y="21589"/>
                </a:lnTo>
                <a:lnTo>
                  <a:pt x="5491" y="21589"/>
                </a:lnTo>
                <a:lnTo>
                  <a:pt x="5491" y="14400"/>
                </a:lnTo>
                <a:lnTo>
                  <a:pt x="3837" y="14400"/>
                </a:lnTo>
                <a:close/>
              </a:path>
              <a:path fill="darkenLess" w="21600" h="28800">
                <a:moveTo>
                  <a:pt x="13376" y="10048"/>
                </a:move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close/>
              </a:path>
              <a:path fill="darkenLess" w="21600" h="28800">
                <a:moveTo>
                  <a:pt x="9877" y="17899"/>
                </a:moveTo>
                <a:lnTo>
                  <a:pt x="11723" y="17899"/>
                </a:lnTo>
                <a:lnTo>
                  <a:pt x="11723" y="21589"/>
                </a:lnTo>
                <a:lnTo>
                  <a:pt x="16109" y="21589"/>
                </a:lnTo>
                <a:lnTo>
                  <a:pt x="16109" y="14400"/>
                </a:lnTo>
                <a:lnTo>
                  <a:pt x="5491" y="14400"/>
                </a:lnTo>
                <a:lnTo>
                  <a:pt x="5491" y="21589"/>
                </a:lnTo>
                <a:lnTo>
                  <a:pt x="9877" y="215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8153280" y="65530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437"/>
                </a:moveTo>
                <a:lnTo>
                  <a:pt x="13376" y="10048"/>
                </a:ln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lnTo>
                  <a:pt x="17763" y="14400"/>
                </a:lnTo>
                <a:lnTo>
                  <a:pt x="16109" y="14400"/>
                </a:lnTo>
                <a:lnTo>
                  <a:pt x="16109" y="21589"/>
                </a:lnTo>
                <a:lnTo>
                  <a:pt x="5491" y="21589"/>
                </a:lnTo>
                <a:lnTo>
                  <a:pt x="5491" y="14400"/>
                </a:lnTo>
                <a:lnTo>
                  <a:pt x="3837" y="14400"/>
                </a:lnTo>
                <a:close/>
              </a:path>
              <a:path fill="darkenLess" w="21600" h="28800">
                <a:moveTo>
                  <a:pt x="13376" y="10048"/>
                </a:move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close/>
              </a:path>
              <a:path fill="darkenLess" w="21600" h="28800">
                <a:moveTo>
                  <a:pt x="9877" y="17899"/>
                </a:moveTo>
                <a:lnTo>
                  <a:pt x="11723" y="17899"/>
                </a:lnTo>
                <a:lnTo>
                  <a:pt x="11723" y="21589"/>
                </a:lnTo>
                <a:lnTo>
                  <a:pt x="16109" y="21589"/>
                </a:lnTo>
                <a:lnTo>
                  <a:pt x="16109" y="14400"/>
                </a:lnTo>
                <a:lnTo>
                  <a:pt x="5491" y="14400"/>
                </a:lnTo>
                <a:lnTo>
                  <a:pt x="5491" y="21589"/>
                </a:lnTo>
                <a:lnTo>
                  <a:pt x="9877" y="215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8763120" y="65530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437"/>
                </a:moveTo>
                <a:lnTo>
                  <a:pt x="13376" y="10048"/>
                </a:ln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lnTo>
                  <a:pt x="17763" y="14400"/>
                </a:lnTo>
                <a:lnTo>
                  <a:pt x="16109" y="14400"/>
                </a:lnTo>
                <a:lnTo>
                  <a:pt x="16109" y="21589"/>
                </a:lnTo>
                <a:lnTo>
                  <a:pt x="5491" y="21589"/>
                </a:lnTo>
                <a:lnTo>
                  <a:pt x="5491" y="14400"/>
                </a:lnTo>
                <a:lnTo>
                  <a:pt x="3837" y="14400"/>
                </a:lnTo>
                <a:close/>
              </a:path>
              <a:path fill="darkenLess" w="21600" h="28800">
                <a:moveTo>
                  <a:pt x="13376" y="10048"/>
                </a:move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close/>
              </a:path>
              <a:path fill="darkenLess" w="21600" h="28800">
                <a:moveTo>
                  <a:pt x="9877" y="17899"/>
                </a:moveTo>
                <a:lnTo>
                  <a:pt x="11723" y="17899"/>
                </a:lnTo>
                <a:lnTo>
                  <a:pt x="11723" y="21589"/>
                </a:lnTo>
                <a:lnTo>
                  <a:pt x="16109" y="21589"/>
                </a:lnTo>
                <a:lnTo>
                  <a:pt x="16109" y="14400"/>
                </a:lnTo>
                <a:lnTo>
                  <a:pt x="5491" y="14400"/>
                </a:lnTo>
                <a:lnTo>
                  <a:pt x="5491" y="21589"/>
                </a:lnTo>
                <a:lnTo>
                  <a:pt x="9877" y="215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68580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古怪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685800"/>
            <a:ext cx="82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5105520" y="685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685800"/>
            <a:ext cx="82454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1" action="ppaction://hlinksldjump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51055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685800"/>
            <a:ext cx="82454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1" action="ppaction://hlinksldjump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51055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685800"/>
            <a:ext cx="82454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1" action="ppaction://hlinksldjump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51055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4" action="ppaction://hlinksldjump"/>
          </p:cNvPr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685800"/>
            <a:ext cx="82454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1" action="ppaction://hlinksldjump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51055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4" action="ppaction://hlinksldjump"/>
          </p:cNvPr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685800"/>
            <a:ext cx="82454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1" action="ppaction://hlinksldjump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51055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3" action="ppaction://hlinksldjump"/>
          </p:cNvPr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8:01:26Z</dcterms:created>
  <dc:creator>lxh</dc:creator>
  <dc:description/>
  <dc:language>en-US</dc:language>
  <cp:lastModifiedBy>heyixiao</cp:lastModifiedBy>
  <dcterms:modified xsi:type="dcterms:W3CDTF">2003-12-04T07:29:36Z</dcterms:modified>
  <cp:revision>78</cp:revision>
  <dc:subject/>
  <dc:title>PowerPoint 演示文稿</dc:title>
</cp:coreProperties>
</file>