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6E2-3ED4-4734-9603-316A85D1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CE9-334A-4147-AA59-6CC83FF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53C-2101-44CE-B6FF-4C8F4265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5ED-4C6B-4C15-9470-0A724B39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304-BC75-4ED2-9699-A3283A5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4FC-5F90-4F49-8793-FFB00A2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F5D-A789-4131-80E2-DF82397E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5A3-4901-4CE9-AEDB-78C8739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B0F-DDD8-4BD9-B04F-2EB49F7D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08-836E-45CF-AB1E-03357D9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1F7-77DD-4287-9999-1482DBB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D29-FB94-44E7-8227-E4E9832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44CE-19B0-4B7E-927D-700D53463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J_00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121932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第 一 次 真 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宁市首届语文学科说课大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5181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南宁市天桃实验学校中学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138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宁   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306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主讲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304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再  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200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说教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教材定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8288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《新课程标准》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514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单元教学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让学生联系自己的生活，理解 “第一次真好”的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9528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领悟作者的写作意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56272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习阅读文章的一般方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教学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设置能将讨论步步引向深入的问题，引导学生自读、质疑、讨论来领悟“第一次真好”的具体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2004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生按照“写什么——怎么写——为什么写”的程序阅读课文，学会自读课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449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、教学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257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领悟作者为什么要我们珍重第一次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80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五、说教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使用导读法进行本课教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六、说学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905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阅读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438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写作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97180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七、教学思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感知第一次 “真好”——理解课文“写什么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800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探究写“第一次”的意图——理解课文“为什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品味第一次“真好”——理解课文“怎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29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谈第一次“真好”——进行情感体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33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八、教学过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一）感知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二）品味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三）探究写作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四）拓展：谈“第一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五）学生谈学习本课的体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25089" y="10800"/>
                </a:moveTo>
                <a:lnTo>
                  <a:pt x="14583" y="17806"/>
                </a:lnTo>
                <a:lnTo>
                  <a:pt x="14583" y="3794"/>
                </a:lnTo>
                <a:close/>
              </a:path>
              <a:path fill="darken" w="43180" h="21600">
                <a:moveTo>
                  <a:pt x="26934" y="3794"/>
                </a:moveTo>
                <a:lnTo>
                  <a:pt x="26934" y="17806"/>
                </a:lnTo>
                <a:lnTo>
                  <a:pt x="28596" y="17806"/>
                </a:lnTo>
                <a:lnTo>
                  <a:pt x="28596" y="379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838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九、板书设计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43200"/>
            <a:ext cx="609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7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回味无穷——新鲜、刺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133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低回品味——喜悦、新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173320"/>
            <a:ext cx="609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3623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3623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5435" y="3837"/>
                </a:moveTo>
                <a:lnTo>
                  <a:pt x="18011" y="6448"/>
                </a:ln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lnTo>
                  <a:pt x="22398" y="10800"/>
                </a:lnTo>
                <a:lnTo>
                  <a:pt x="20744" y="10800"/>
                </a:lnTo>
                <a:lnTo>
                  <a:pt x="20744" y="17989"/>
                </a:lnTo>
                <a:lnTo>
                  <a:pt x="10126" y="17989"/>
                </a:lnTo>
                <a:lnTo>
                  <a:pt x="10126" y="10800"/>
                </a:lnTo>
                <a:lnTo>
                  <a:pt x="8472" y="10800"/>
                </a:lnTo>
                <a:close/>
              </a:path>
              <a:path fill="darkenLess" w="30870" h="21600">
                <a:moveTo>
                  <a:pt x="18011" y="6448"/>
                </a:move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close/>
              </a:path>
              <a:path fill="darkenLess" w="30870" h="21600">
                <a:moveTo>
                  <a:pt x="14512" y="14299"/>
                </a:moveTo>
                <a:lnTo>
                  <a:pt x="16357" y="14299"/>
                </a:lnTo>
                <a:lnTo>
                  <a:pt x="16357" y="17989"/>
                </a:lnTo>
                <a:lnTo>
                  <a:pt x="20744" y="17989"/>
                </a:lnTo>
                <a:lnTo>
                  <a:pt x="20744" y="10800"/>
                </a:lnTo>
                <a:lnTo>
                  <a:pt x="10126" y="10800"/>
                </a:lnTo>
                <a:lnTo>
                  <a:pt x="10126" y="17989"/>
                </a:lnTo>
                <a:lnTo>
                  <a:pt x="14512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6400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3794"/>
                </a:moveTo>
                <a:lnTo>
                  <a:pt x="30769" y="10800"/>
                </a:lnTo>
                <a:lnTo>
                  <a:pt x="16756" y="17806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304920"/>
            <a:ext cx="3504960" cy="251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809880"/>
            <a:ext cx="3581280" cy="227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低回品味——喜悦、新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回味无穷——新鲜、刺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2:13:27Z</dcterms:created>
  <dc:creator>user</dc:creator>
  <dc:description/>
  <dc:language>en-US</dc:language>
  <cp:lastModifiedBy>user</cp:lastModifiedBy>
  <dcterms:modified xsi:type="dcterms:W3CDTF">2001-11-21T09:41:46Z</dcterms:modified>
  <cp:revision>45</cp:revision>
  <dc:subject/>
  <dc:title>没有幻灯片标题</dc:title>
</cp:coreProperties>
</file>