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7DA-353D-4797-814F-59D68946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67C-35D7-4F0B-A92C-88427DA5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E08-3805-4D74-9C47-948BCFA4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D92-36F1-4307-804B-56B79716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37E-36B6-4169-891F-7AF13ADD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3D8-3562-4AB7-9F0B-F37A1C82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575-B86D-4949-AE76-44F8471D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5CF-EED0-4FF7-A0CC-90B5A928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C29-7808-4933-AAB8-9ACC2FC6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960-2587-4A25-919E-D74388F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3CB-8482-4A94-B9F3-AA6F011D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BDA-7544-45B7-B860-428DD31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D0C8-BF86-4DA0-8C12-24EFAB7D13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6004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 on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  field  trip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进行一次野外郊游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表示到达的目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discuss sth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讨论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of course / sure / certain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 fish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gree to do sth   agree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with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s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5273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7. Be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. Go hiking  ( go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hik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9. Have (make  take )a field tr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0. Go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picn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1.  The day after tomorr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748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are going __ our __(one) field 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he is going to trip __ Am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lease stay __    study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don’t you go ___[fish] __ East Lake? 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意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  agree ___ our teacher and I agree __ {take} it to my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2286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8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09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448920" cy="5020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There are many kinds of __[ fish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 He doesn’t like __       [fish] He likes __[hike]. 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e likes 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滑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et’s 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ow ___[go] t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__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徒步旅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next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He _____ [go] __ a picnic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后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9144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143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02:33:16Z</dcterms:created>
  <dc:creator>Star</dc:creator>
  <dc:description/>
  <dc:language>en-US</dc:language>
  <cp:lastModifiedBy>Star</cp:lastModifiedBy>
  <dcterms:modified xsi:type="dcterms:W3CDTF">2002-05-29T03:23:47Z</dcterms:modified>
  <cp:revision>11</cp:revision>
  <dc:subject/>
  <dc:title>PowerPoint 演示文稿</dc:title>
</cp:coreProperties>
</file>