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A74-8D00-42A5-8AE2-6C31B683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E56-B673-4019-94F4-193BD1BA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D58-C583-4E95-9165-BFC3D419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59E-781D-461E-ABB9-2AEB6243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E28-DCE2-4F80-A5AA-6E3D5E6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AC9-6F1F-448F-ACB0-85E886E1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3BA-2D89-49F2-AC9E-95137B1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2BE-D761-4547-BD93-0806CFA3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CAF-D62D-4483-AC9F-611B30CA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0DA-20E6-4A25-A904-6B563BF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F6D-3242-4CD3-8DD2-D7E9896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E39-936E-42CA-B0C1-F931D98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5802-35F9-4F2B-BD94-0F21AB8F5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jpe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9051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Unit 26  People and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3992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esson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477040" y="0"/>
            <a:ext cx="3657600" cy="6553080"/>
            <a:chOff x="5477040" y="0"/>
            <a:chExt cx="3657600" cy="6553080"/>
          </a:xfrm>
        </p:grpSpPr>
        <p:pic>
          <p:nvPicPr>
            <p:cNvPr id="96" name="1101a1" descr=""/>
            <p:cNvPicPr/>
            <p:nvPr/>
          </p:nvPicPr>
          <p:blipFill>
            <a:blip r:embed="rId1"/>
            <a:stretch/>
          </p:blipFill>
          <p:spPr>
            <a:xfrm>
              <a:off x="5553000" y="0"/>
              <a:ext cx="3581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1101b1" descr=""/>
            <p:cNvPicPr/>
            <p:nvPr/>
          </p:nvPicPr>
          <p:blipFill>
            <a:blip r:embed="rId2"/>
            <a:stretch/>
          </p:blipFill>
          <p:spPr>
            <a:xfrm>
              <a:off x="5477040" y="3429000"/>
              <a:ext cx="36576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380880" y="76212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Where does he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He work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a facto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100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4876920" y="4876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600200"/>
            <a:ext cx="8991720" cy="3807000"/>
            <a:chOff x="0" y="1600200"/>
            <a:chExt cx="8991720" cy="3807000"/>
          </a:xfrm>
        </p:grpSpPr>
        <p:pic>
          <p:nvPicPr>
            <p:cNvPr id="104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1101b2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426744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066680"/>
            <a:ext cx="9134640" cy="4419720"/>
            <a:chOff x="0" y="1066680"/>
            <a:chExt cx="9134640" cy="4419720"/>
          </a:xfrm>
        </p:grpSpPr>
        <p:pic>
          <p:nvPicPr>
            <p:cNvPr id="107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101b5" descr=""/>
            <p:cNvPicPr/>
            <p:nvPr/>
          </p:nvPicPr>
          <p:blipFill>
            <a:blip r:embed="rId2"/>
            <a:stretch/>
          </p:blipFill>
          <p:spPr>
            <a:xfrm>
              <a:off x="456264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6320" y="1219320"/>
            <a:ext cx="8915400" cy="4086000"/>
            <a:chOff x="76320" y="1219320"/>
            <a:chExt cx="8915400" cy="4086000"/>
          </a:xfrm>
        </p:grpSpPr>
        <p:pic>
          <p:nvPicPr>
            <p:cNvPr id="110" name="1101a4" descr=""/>
            <p:cNvPicPr/>
            <p:nvPr/>
          </p:nvPicPr>
          <p:blipFill>
            <a:blip r:embed="rId1"/>
            <a:stretch/>
          </p:blipFill>
          <p:spPr>
            <a:xfrm>
              <a:off x="76320" y="1295280"/>
              <a:ext cx="441936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1101b3" descr=""/>
            <p:cNvPicPr/>
            <p:nvPr/>
          </p:nvPicPr>
          <p:blipFill>
            <a:blip r:embed="rId2"/>
            <a:stretch/>
          </p:blipFill>
          <p:spPr>
            <a:xfrm>
              <a:off x="4952880" y="1219320"/>
              <a:ext cx="403884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Who’s this 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He’s Mr G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What does he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:He is a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9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87640" y="380880"/>
            <a:ext cx="5256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educl011" descr=""/>
          <p:cNvPicPr/>
          <p:nvPr/>
        </p:nvPicPr>
        <p:blipFill>
          <a:blip r:embed="rId2"/>
          <a:stretch/>
        </p:blipFill>
        <p:spPr>
          <a:xfrm>
            <a:off x="2438280" y="0"/>
            <a:ext cx="481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19520" y="0"/>
            <a:ext cx="4798800" cy="6858000"/>
            <a:chOff x="2819520" y="0"/>
            <a:chExt cx="4798800" cy="68580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819520" y="0"/>
              <a:ext cx="4798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35400" y="163008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o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14600" y="0"/>
            <a:ext cx="5249880" cy="6858000"/>
            <a:chOff x="2514600" y="0"/>
            <a:chExt cx="5249880" cy="685800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2514600" y="0"/>
              <a:ext cx="5249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99400" y="50594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ork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7315200" cy="56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219320" y="0"/>
            <a:ext cx="7162560" cy="6651720"/>
            <a:chOff x="1219320" y="0"/>
            <a:chExt cx="7162560" cy="6651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219320" y="0"/>
              <a:ext cx="716256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645720" y="2590920"/>
              <a:ext cx="11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u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28800" y="0"/>
            <a:ext cx="6431040" cy="6858000"/>
            <a:chOff x="1828800" y="0"/>
            <a:chExt cx="6431040" cy="6858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828800" y="0"/>
              <a:ext cx="6431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410440" y="533412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stm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7400" y="0"/>
            <a:ext cx="5730840" cy="6400800"/>
            <a:chOff x="2057400" y="0"/>
            <a:chExt cx="5730840" cy="640080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057400" y="0"/>
              <a:ext cx="57308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8160" y="23922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lean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81080" y="0"/>
            <a:ext cx="6353280" cy="6400800"/>
            <a:chOff x="1981080" y="0"/>
            <a:chExt cx="6353280" cy="64008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1981080" y="0"/>
              <a:ext cx="635328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67440" y="76212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arm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05120" y="0"/>
            <a:ext cx="5810040" cy="6858000"/>
            <a:chOff x="1905120" y="0"/>
            <a:chExt cx="5810040" cy="6858000"/>
          </a:xfrm>
        </p:grpSpPr>
        <p:pic>
          <p:nvPicPr>
            <p:cNvPr id="69" name="pplby158" descr=""/>
            <p:cNvPicPr/>
            <p:nvPr/>
          </p:nvPicPr>
          <p:blipFill>
            <a:blip r:embed="rId10"/>
            <a:stretch/>
          </p:blipFill>
          <p:spPr>
            <a:xfrm>
              <a:off x="1905120" y="0"/>
              <a:ext cx="5810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9360" y="2529000"/>
              <a:ext cx="194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soldi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196920"/>
            <a:ext cx="6781680" cy="6661080"/>
            <a:chOff x="1066680" y="196920"/>
            <a:chExt cx="6781680" cy="6661080"/>
          </a:xfrm>
        </p:grpSpPr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1066680" y="196920"/>
              <a:ext cx="6781680" cy="66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438640" y="2494080"/>
              <a:ext cx="180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driv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11560" y="0"/>
            <a:ext cx="4317840" cy="6858000"/>
            <a:chOff x="2311560" y="0"/>
            <a:chExt cx="4317840" cy="6858000"/>
          </a:xfrm>
        </p:grpSpPr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2311560" y="0"/>
              <a:ext cx="431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97000" y="1828800"/>
              <a:ext cx="32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businessma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educh023" descr=""/>
          <p:cNvPicPr/>
          <p:nvPr/>
        </p:nvPicPr>
        <p:blipFill>
          <a:blip r:embed="rId13"/>
          <a:stretch/>
        </p:blipFill>
        <p:spPr>
          <a:xfrm>
            <a:off x="304812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101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68580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101a1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1101b1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880" y="3581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orks in a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84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1600200"/>
            <a:ext cx="9144000" cy="3807000"/>
            <a:chOff x="0" y="1600200"/>
            <a:chExt cx="9144000" cy="3807000"/>
          </a:xfrm>
        </p:grpSpPr>
        <p:pic>
          <p:nvPicPr>
            <p:cNvPr id="87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1101b2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426708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066680"/>
            <a:ext cx="9144000" cy="4419720"/>
            <a:chOff x="0" y="1066680"/>
            <a:chExt cx="9144000" cy="4419720"/>
          </a:xfrm>
        </p:grpSpPr>
        <p:pic>
          <p:nvPicPr>
            <p:cNvPr id="90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1101b5" descr=""/>
            <p:cNvPicPr/>
            <p:nvPr/>
          </p:nvPicPr>
          <p:blipFill>
            <a:blip r:embed="rId2"/>
            <a:stretch/>
          </p:blipFill>
          <p:spPr>
            <a:xfrm>
              <a:off x="457200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80880" y="1219320"/>
            <a:ext cx="8763120" cy="4086000"/>
            <a:chOff x="380880" y="1219320"/>
            <a:chExt cx="8763120" cy="4086000"/>
          </a:xfrm>
        </p:grpSpPr>
        <p:pic>
          <p:nvPicPr>
            <p:cNvPr id="93" name="1101a4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41972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101b3" descr=""/>
            <p:cNvPicPr/>
            <p:nvPr/>
          </p:nvPicPr>
          <p:blipFill>
            <a:blip r:embed="rId2"/>
            <a:stretch/>
          </p:blipFill>
          <p:spPr>
            <a:xfrm>
              <a:off x="5105520" y="1219320"/>
              <a:ext cx="403848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6:32:21Z</dcterms:created>
  <dc:creator> </dc:creator>
  <dc:description/>
  <dc:language>en-US</dc:language>
  <cp:lastModifiedBy>tlxx</cp:lastModifiedBy>
  <dcterms:modified xsi:type="dcterms:W3CDTF">2001-04-27T01:44:33Z</dcterms:modified>
  <cp:revision>11</cp:revision>
  <dc:subject/>
  <dc:title>没有幻灯片标题</dc:title>
</cp:coreProperties>
</file>